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877C-4989-4936-A11D-0054B9FAA1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61DD-47A7-4E88-919F-6E6083E702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B35-F06E-4C5D-991C-8201986F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B3F-9F4B-4DE9-8133-79B42A45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F70-56A2-4A23-9995-6855C5E5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D5F-62F3-4B8F-9800-653E71AB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6360-727B-4429-8D48-5B241FB1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6716-5224-418D-B992-7C1F3BA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FA6-BB9C-47B6-A422-BD8BEBC7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A225-2241-4077-98CC-6E6F120C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D9F-E504-4884-9D23-D325A1B4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0073-0D5C-44F9-89D6-3F30D332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452-B4FA-4AF7-824D-28971B4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CD3-3E87-4295-847A-A40BB2E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8BFF-38CE-421B-956D-25274D3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AE17-8CFD-4893-A665-CD2140A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2448-1377-4EA2-BD49-41D2B74E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68F6-6826-4744-9140-F08BF250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3A27-435A-4884-82C7-EFFD5A06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8A8-3288-42D8-B0B9-BEB5FC8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C73-9654-4577-A021-C7114BA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E04-5CAC-4E97-A287-CE3D0161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C05-616D-4F20-91C9-8CE51070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223-ECF4-4855-ABD5-7E8F411D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EEA-A0CC-4359-AC17-6CD15BF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112-8114-453E-9D60-7CB6326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AEB9-A1FE-4C88-A9B3-65164A0E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F4B-A9DF-439A-8777-F4842CA3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news.fx120.net/news-zt/jinduxingdong/dpwh/200406181530253185.htm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http://img.pconline.com.cn/images/upload/upc/tx/photoblog/1203/16/c1/10925291_10925291_1331861508234_mthumb.jpg"/>
          <p:cNvPicPr/>
          <p:nvPr/>
        </p:nvPicPr>
        <p:blipFill>
          <a:blip r:embed="rId1"/>
          <a:stretch/>
        </p:blipFill>
        <p:spPr>
          <a:xfrm>
            <a:off x="-95400" y="3276720"/>
            <a:ext cx="487692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1d75ea5c92931a989d820444"/>
          <p:cNvPicPr/>
          <p:nvPr/>
        </p:nvPicPr>
        <p:blipFill>
          <a:blip r:embed="rId2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蝴蝶罂粟"/>
          <p:cNvPicPr/>
          <p:nvPr/>
        </p:nvPicPr>
        <p:blipFill>
          <a:blip r:embed="rId3"/>
          <a:srcRect l="0" t="0" r="0" b="4411"/>
          <a:stretch/>
        </p:blipFill>
        <p:spPr>
          <a:xfrm>
            <a:off x="4635360" y="1414440"/>
            <a:ext cx="4496040" cy="350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图片5"/>
          <p:cNvPicPr/>
          <p:nvPr/>
        </p:nvPicPr>
        <p:blipFill>
          <a:blip r:embed="rId4"/>
          <a:stretch/>
        </p:blipFill>
        <p:spPr>
          <a:xfrm>
            <a:off x="7758000" y="1116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23880" y="4572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吗  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afei"/>
          <p:cNvPicPr/>
          <p:nvPr/>
        </p:nvPicPr>
        <p:blipFill>
          <a:blip r:embed="rId1"/>
          <a:stretch/>
        </p:blipFill>
        <p:spPr>
          <a:xfrm>
            <a:off x="4970520" y="3268800"/>
            <a:ext cx="4176720" cy="358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吗啡"/>
          <p:cNvPicPr/>
          <p:nvPr/>
        </p:nvPicPr>
        <p:blipFill>
          <a:blip r:embed="rId2"/>
          <a:srcRect l="0" t="0" r="0" b="-20"/>
          <a:stretch/>
        </p:blipFill>
        <p:spPr>
          <a:xfrm>
            <a:off x="4680" y="3240"/>
            <a:ext cx="4961160" cy="366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图片5"/>
          <p:cNvPicPr/>
          <p:nvPr/>
        </p:nvPicPr>
        <p:blipFill>
          <a:blip r:embed="rId3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yaotouwang"/>
          <p:cNvPicPr/>
          <p:nvPr/>
        </p:nvPicPr>
        <p:blipFill>
          <a:blip r:embed="rId1"/>
          <a:stretch/>
        </p:blipFill>
        <p:spPr>
          <a:xfrm>
            <a:off x="11160" y="11160"/>
            <a:ext cx="360036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yaotouwan 2"/>
          <p:cNvPicPr/>
          <p:nvPr/>
        </p:nvPicPr>
        <p:blipFill>
          <a:blip r:embed="rId2"/>
          <a:stretch/>
        </p:blipFill>
        <p:spPr>
          <a:xfrm>
            <a:off x="7920" y="4048200"/>
            <a:ext cx="3581280" cy="279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摇头丸啊，摇头丸"/>
          <p:cNvPicPr/>
          <p:nvPr/>
        </p:nvPicPr>
        <p:blipFill>
          <a:blip r:embed="rId3"/>
          <a:stretch/>
        </p:blipFill>
        <p:spPr>
          <a:xfrm>
            <a:off x="3600360" y="1371600"/>
            <a:ext cx="556272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4321080" y="5769000"/>
            <a:ext cx="40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头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啊摇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图片5"/>
          <p:cNvPicPr/>
          <p:nvPr/>
        </p:nvPicPr>
        <p:blipFill>
          <a:blip r:embed="rId4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168800" y="1712880"/>
            <a:ext cx="4848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摧毁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心理变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神经失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备受歧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走上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52920" y="1143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对个人造成的危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hh_6"/>
          <p:cNvPicPr/>
          <p:nvPr/>
        </p:nvPicPr>
        <p:blipFill>
          <a:blip r:embed="rId1"/>
          <a:stretch/>
        </p:blipFill>
        <p:spPr>
          <a:xfrm>
            <a:off x="0" y="0"/>
            <a:ext cx="3787920" cy="5640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648320" y="2297160"/>
            <a:ext cx="449568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倾家荡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妻离子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家破人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危及后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038480" y="1219320"/>
            <a:ext cx="51055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对家庭造成的危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lhh_7"/>
          <p:cNvPicPr/>
          <p:nvPr/>
        </p:nvPicPr>
        <p:blipFill>
          <a:blip r:embed="rId1"/>
          <a:stretch/>
        </p:blipFill>
        <p:spPr>
          <a:xfrm>
            <a:off x="19080" y="22320"/>
            <a:ext cx="3913200" cy="5425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4938840" y="15238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华文行楷"/>
              </a:rPr>
              <a:t>对社会造成的危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392720" y="2438280"/>
            <a:ext cx="4098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ef6f1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偷盗抢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杀人放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传播疾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累及他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毒品骷髅画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4680" y="15840"/>
            <a:ext cx="6824880" cy="51688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12"/>
          <p:cNvSpPr txBox="1"/>
          <p:nvPr/>
        </p:nvSpPr>
        <p:spPr>
          <a:xfrm>
            <a:off x="152280" y="5257800"/>
            <a:ext cx="883944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毁灭自己  祸及家庭  危害社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6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8" descr=""/>
          <p:cNvPicPr/>
          <p:nvPr/>
        </p:nvPicPr>
        <p:blipFill>
          <a:blip r:embed="rId1"/>
          <a:stretch/>
        </p:blipFill>
        <p:spPr>
          <a:xfrm>
            <a:off x="6381720" y="3611520"/>
            <a:ext cx="2762280" cy="3246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12600" y="258084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案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某品学兼优，有一天放学后，他看到两个高年级的同学正躲在一处隐蔽的地方抽烟，一副神秘兮兮、飘飘欲仙的样貌。因为校园曾组织过禁毒教育，他立刻意识到这两个同学吸的是毒品。那两个学生发现了他，招呼他过去试试。于是，在好奇心地驱使下，张某走了过去。在两位同学的极力怂恿下，他最后吸了第一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8" descr=""/>
          <p:cNvPicPr/>
          <p:nvPr/>
        </p:nvPicPr>
        <p:blipFill>
          <a:blip r:embed="rId1"/>
          <a:stretch/>
        </p:blipFill>
        <p:spPr>
          <a:xfrm>
            <a:off x="6381720" y="3611520"/>
            <a:ext cx="2762280" cy="3246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2600" y="2337120"/>
            <a:ext cx="659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案例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男孩小华爱玩好动，爱打游戏机。在游戏机房里，小华认识了一群“哥们”，平时称兄道弟。有一次，他们玩得正开心的时候，一“哥们”拿出一小包白色粉末，给大家一齐享受。小华应对“肝胆相照”的朋友，根本没有疑心，不假思索地凑了过去。开始，小华吐得厉害，但“哥们”“孜孜不倦”地劝导他，多吸几次就好了。当他最后找到那种“飘逸感”的时候，“白色幽灵”已牢牢擒住他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8" descr=""/>
          <p:cNvPicPr/>
          <p:nvPr/>
        </p:nvPicPr>
        <p:blipFill>
          <a:blip r:embed="rId1"/>
          <a:stretch/>
        </p:blipFill>
        <p:spPr>
          <a:xfrm>
            <a:off x="6381720" y="3611520"/>
            <a:ext cx="2762280" cy="3246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12600" y="2337120"/>
            <a:ext cx="659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案例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市某学生何某从小到大在班上一向是第一名。然而班上转来的新同学，成绩更胜一筹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威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他的优越地位，使他自尊心严重受挫。在期末考试时，他为了争取第一名，采取作弊的方式，结果被发现，检讨、处分、批评、嘲笑接踵而来。一帆风顺的他，一时无法承受和应对这一切，最终选取了毒品，以求解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8" descr=""/>
          <p:cNvPicPr/>
          <p:nvPr/>
        </p:nvPicPr>
        <p:blipFill>
          <a:blip r:embed="rId1"/>
          <a:stretch/>
        </p:blipFill>
        <p:spPr>
          <a:xfrm>
            <a:off x="6381720" y="3611520"/>
            <a:ext cx="2762280" cy="3246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12600" y="2337120"/>
            <a:ext cx="667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案例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林某是广州市一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的女中学生，以前获得全市手风琴大赛的冠军。因为父母关系不和，终日大吵大闹，在她的心灵投下了深深的阴影。导致她学习成绩迅速下降，并频繁出入网吧、舞厅等娱乐场所，结识了社会上一些不三不四的人，并在别人的引诱下走上吸毒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毒瘾发作用烟头烫伤手"/>
          <p:cNvPicPr/>
          <p:nvPr/>
        </p:nvPicPr>
        <p:blipFill>
          <a:blip r:embed="rId1"/>
          <a:stretch/>
        </p:blipFill>
        <p:spPr>
          <a:xfrm>
            <a:off x="-1440" y="4680"/>
            <a:ext cx="4022640" cy="510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吸毒神情恍惚烧伤手"/>
          <p:cNvPicPr/>
          <p:nvPr/>
        </p:nvPicPr>
        <p:blipFill>
          <a:blip r:embed="rId2"/>
          <a:stretch/>
        </p:blipFill>
        <p:spPr>
          <a:xfrm>
            <a:off x="4599000" y="1771560"/>
            <a:ext cx="4556160" cy="510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图片5"/>
          <p:cNvPicPr/>
          <p:nvPr/>
        </p:nvPicPr>
        <p:blipFill>
          <a:blip r:embed="rId3"/>
          <a:stretch/>
        </p:blipFill>
        <p:spPr>
          <a:xfrm>
            <a:off x="7777080" y="-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60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图片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2"/>
            <a:stretch/>
          </p:blipFill>
          <p:spPr>
            <a:xfrm>
              <a:off x="0" y="3173040"/>
              <a:ext cx="2418840" cy="25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6" descr="03abdae07ec80fc5f583de93018a1642"/>
            <p:cNvPicPr/>
            <p:nvPr/>
          </p:nvPicPr>
          <p:blipFill>
            <a:blip r:embed="rId3"/>
            <a:stretch/>
          </p:blipFill>
          <p:spPr>
            <a:xfrm>
              <a:off x="152280" y="3951360"/>
              <a:ext cx="1514520" cy="19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矩形 8"/>
          <p:cNvSpPr/>
          <p:nvPr/>
        </p:nvSpPr>
        <p:spPr>
          <a:xfrm>
            <a:off x="0" y="1091520"/>
            <a:ext cx="709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少年吸毒的主要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9698"/>
          <p:cNvSpPr/>
          <p:nvPr/>
        </p:nvSpPr>
        <p:spPr>
          <a:xfrm>
            <a:off x="1447920" y="18651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好奇无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9699"/>
          <p:cNvSpPr/>
          <p:nvPr/>
        </p:nvSpPr>
        <p:spPr>
          <a:xfrm>
            <a:off x="1905120" y="25146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交友不慎，受他人的不良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9700"/>
          <p:cNvSpPr/>
          <p:nvPr/>
        </p:nvSpPr>
        <p:spPr>
          <a:xfrm>
            <a:off x="2362320" y="31240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寻求刺激，追求不良时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701"/>
          <p:cNvSpPr/>
          <p:nvPr/>
        </p:nvSpPr>
        <p:spPr>
          <a:xfrm>
            <a:off x="2895480" y="3683160"/>
            <a:ext cx="51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健康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9702"/>
          <p:cNvSpPr/>
          <p:nvPr/>
        </p:nvSpPr>
        <p:spPr>
          <a:xfrm>
            <a:off x="3352680" y="4343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家庭成员的不良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图片5"/>
          <p:cNvPicPr/>
          <p:nvPr/>
        </p:nvPicPr>
        <p:blipFill>
          <a:blip r:embed="rId4"/>
          <a:stretch/>
        </p:blipFill>
        <p:spPr>
          <a:xfrm>
            <a:off x="7748640" y="11160"/>
            <a:ext cx="1409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与它为伍，就是自取灭亡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0D20100701150255MT403858"/>
          <p:cNvPicPr/>
          <p:nvPr/>
        </p:nvPicPr>
        <p:blipFill>
          <a:blip r:embed="rId1"/>
          <a:srcRect l="0" t="0" r="0" b="21465"/>
          <a:stretch/>
        </p:blipFill>
        <p:spPr>
          <a:xfrm>
            <a:off x="0" y="2508120"/>
            <a:ext cx="9144000" cy="433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图片5"/>
          <p:cNvPicPr/>
          <p:nvPr/>
        </p:nvPicPr>
        <p:blipFill>
          <a:blip r:embed="rId2"/>
          <a:stretch/>
        </p:blipFill>
        <p:spPr>
          <a:xfrm>
            <a:off x="7696080" y="2232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图片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5" descr=""/>
            <p:cNvPicPr/>
            <p:nvPr/>
          </p:nvPicPr>
          <p:blipFill>
            <a:blip r:embed="rId2"/>
            <a:stretch/>
          </p:blipFill>
          <p:spPr>
            <a:xfrm>
              <a:off x="0" y="3173040"/>
              <a:ext cx="2418840" cy="25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6" descr="03abdae07ec80fc5f583de93018a1642"/>
            <p:cNvPicPr/>
            <p:nvPr/>
          </p:nvPicPr>
          <p:blipFill>
            <a:blip r:embed="rId3"/>
            <a:stretch/>
          </p:blipFill>
          <p:spPr>
            <a:xfrm>
              <a:off x="152280" y="3951360"/>
              <a:ext cx="1514520" cy="19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矩形 5"/>
          <p:cNvSpPr/>
          <p:nvPr/>
        </p:nvSpPr>
        <p:spPr>
          <a:xfrm>
            <a:off x="4680" y="1504800"/>
            <a:ext cx="88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、正确把握好奇心，抑制不良诱惑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2462040" y="226368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、正确对待挫折和困难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3434760" y="3025800"/>
            <a:ext cx="10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、养成良好的行为习惯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1219320" y="3863880"/>
            <a:ext cx="726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、追求健康、幸福的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图片5"/>
          <p:cNvPicPr/>
          <p:nvPr/>
        </p:nvPicPr>
        <p:blipFill>
          <a:blip r:embed="rId4"/>
          <a:stretch/>
        </p:blipFill>
        <p:spPr>
          <a:xfrm>
            <a:off x="7748640" y="11160"/>
            <a:ext cx="1409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6"/>
          <p:cNvPicPr/>
          <p:nvPr/>
        </p:nvPicPr>
        <p:blipFill>
          <a:blip r:embed="rId1"/>
          <a:stretch/>
        </p:blipFill>
        <p:spPr>
          <a:xfrm>
            <a:off x="22320" y="603360"/>
            <a:ext cx="7699320" cy="6249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图片5"/>
          <p:cNvPicPr/>
          <p:nvPr/>
        </p:nvPicPr>
        <p:blipFill>
          <a:blip r:embed="rId2"/>
          <a:stretch/>
        </p:blipFill>
        <p:spPr>
          <a:xfrm>
            <a:off x="7758000" y="9360"/>
            <a:ext cx="1371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20100516143752846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图片5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06440"/>
          </a:xfrm>
          <a:prstGeom prst="rect">
            <a:avLst/>
          </a:prstGeom>
          <a:ln w="0">
            <a:noFill/>
          </a:ln>
        </p:spPr>
      </p:pic>
      <p:pic>
        <p:nvPicPr>
          <p:cNvPr id="187" name="矩形 4" descr=""/>
          <p:cNvPicPr/>
          <p:nvPr/>
        </p:nvPicPr>
        <p:blipFill>
          <a:blip r:embed="rId3"/>
          <a:stretch/>
        </p:blipFill>
        <p:spPr>
          <a:xfrm>
            <a:off x="1865160" y="158760"/>
            <a:ext cx="5443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1" name="图片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5" descr=""/>
            <p:cNvPicPr/>
            <p:nvPr/>
          </p:nvPicPr>
          <p:blipFill>
            <a:blip r:embed="rId2"/>
            <a:stretch/>
          </p:blipFill>
          <p:spPr>
            <a:xfrm>
              <a:off x="0" y="3173040"/>
              <a:ext cx="2418840" cy="25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6" descr="03abdae07ec80fc5f583de93018a1642"/>
            <p:cNvPicPr/>
            <p:nvPr/>
          </p:nvPicPr>
          <p:blipFill>
            <a:blip r:embed="rId3"/>
            <a:stretch/>
          </p:blipFill>
          <p:spPr>
            <a:xfrm>
              <a:off x="152280" y="3951360"/>
              <a:ext cx="1514520" cy="192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图片 7" descr=""/>
          <p:cNvPicPr/>
          <p:nvPr/>
        </p:nvPicPr>
        <p:blipFill>
          <a:blip r:embed="rId4"/>
          <a:srcRect l="10805" t="15448" r="10877" b="57883"/>
          <a:stretch/>
        </p:blipFill>
        <p:spPr>
          <a:xfrm>
            <a:off x="685800" y="1676520"/>
            <a:ext cx="7527960" cy="14954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8" descr=""/>
          <p:cNvPicPr/>
          <p:nvPr/>
        </p:nvPicPr>
        <p:blipFill>
          <a:blip r:embed="rId5"/>
          <a:stretch/>
        </p:blipFill>
        <p:spPr>
          <a:xfrm>
            <a:off x="3962520" y="350532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480" y="22320"/>
            <a:ext cx="2976480" cy="390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3059280" y="326880"/>
            <a:ext cx="4673520" cy="2444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0" y="4915080"/>
            <a:ext cx="41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看到这些人，你们还觉得它美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5" descr="20046181533433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4240" y="2884320"/>
            <a:ext cx="4648320" cy="394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图片5"/>
          <p:cNvPicPr/>
          <p:nvPr/>
        </p:nvPicPr>
        <p:blipFill>
          <a:blip r:embed="rId5"/>
          <a:stretch/>
        </p:blipFill>
        <p:spPr>
          <a:xfrm>
            <a:off x="7769160" y="9360"/>
            <a:ext cx="1371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19280" y="1628280"/>
            <a:ext cx="346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最毒的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有最美的纹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最毒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有最美的风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它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是盛开在白骨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的娇艳之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xin_30205062718015461690842"/>
          <p:cNvPicPr/>
          <p:nvPr/>
        </p:nvPicPr>
        <p:blipFill>
          <a:blip r:embed="rId1"/>
          <a:stretch/>
        </p:blipFill>
        <p:spPr>
          <a:xfrm>
            <a:off x="246240" y="549360"/>
            <a:ext cx="4394160" cy="575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图片5"/>
          <p:cNvPicPr/>
          <p:nvPr/>
        </p:nvPicPr>
        <p:blipFill>
          <a:blip r:embed="rId2"/>
          <a:stretch/>
        </p:blipFill>
        <p:spPr>
          <a:xfrm>
            <a:off x="7758000" y="9360"/>
            <a:ext cx="1371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aa68b498895b9e62f8e15f2fbad2e19b_副本"/>
          <p:cNvPicPr/>
          <p:nvPr/>
        </p:nvPicPr>
        <p:blipFill>
          <a:blip r:embed="rId1"/>
          <a:stretch/>
        </p:blipFill>
        <p:spPr>
          <a:xfrm>
            <a:off x="2127240" y="270000"/>
            <a:ext cx="5334120" cy="631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-376920" y="1311120"/>
            <a:ext cx="21913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仿宋_GB2312"/>
              </a:rPr>
              <a:t>美丽的恶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08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9" name="图片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5" descr=""/>
            <p:cNvPicPr/>
            <p:nvPr/>
          </p:nvPicPr>
          <p:blipFill>
            <a:blip r:embed="rId2"/>
            <a:stretch/>
          </p:blipFill>
          <p:spPr>
            <a:xfrm>
              <a:off x="0" y="3173040"/>
              <a:ext cx="2418840" cy="25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6" descr="03abdae07ec80fc5f583de93018a1642"/>
            <p:cNvPicPr/>
            <p:nvPr/>
          </p:nvPicPr>
          <p:blipFill>
            <a:blip r:embed="rId3"/>
            <a:stretch/>
          </p:blipFill>
          <p:spPr>
            <a:xfrm>
              <a:off x="152280" y="3951360"/>
              <a:ext cx="1514520" cy="192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矩形 9" descr=""/>
          <p:cNvPicPr/>
          <p:nvPr/>
        </p:nvPicPr>
        <p:blipFill>
          <a:blip r:embed="rId4"/>
          <a:stretch/>
        </p:blipFill>
        <p:spPr>
          <a:xfrm>
            <a:off x="36360" y="298440"/>
            <a:ext cx="8931600" cy="3060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0"/>
          <p:cNvSpPr/>
          <p:nvPr/>
        </p:nvSpPr>
        <p:spPr>
          <a:xfrm>
            <a:off x="3352680" y="4038480"/>
            <a:ext cx="53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恩施市白杨坪镇中心小学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  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7010280" y="2133720"/>
            <a:ext cx="1970280" cy="296064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457200" y="533520"/>
            <a:ext cx="655308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毒品是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鸦片</a:t>
            </a:r>
            <a:r>
              <a:rPr b="0" lang="zh-CN" sz="4000" spc="-1" strike="noStrike">
                <a:solidFill>
                  <a:srgbClr val="8dc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海洛因</a:t>
            </a:r>
            <a:r>
              <a:rPr b="0" lang="zh-CN" sz="4000" spc="-1" strike="noStrike">
                <a:solidFill>
                  <a:srgbClr val="8dc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毒</a:t>
            </a:r>
            <a:r>
              <a:rPr b="0" lang="zh-CN" sz="4000" spc="-1" strike="noStrike">
                <a:solidFill>
                  <a:srgbClr val="8dc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吗啡</a:t>
            </a:r>
            <a:r>
              <a:rPr b="0" lang="zh-CN" sz="4000" spc="-1" strike="noStrike">
                <a:solidFill>
                  <a:srgbClr val="8dc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麻</a:t>
            </a:r>
            <a:r>
              <a:rPr b="0" lang="zh-CN" sz="4000" spc="-1" strike="noStrike">
                <a:solidFill>
                  <a:srgbClr val="8dc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可卡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及国家规定管制的其他能够使人形成瘾癖的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麻醉药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精神药品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见和最主要的毒品有：鸦片、吗啡、海洛因、冰毒、摇头丸、可卡因、止咳水、大麻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图片5"/>
          <p:cNvPicPr/>
          <p:nvPr/>
        </p:nvPicPr>
        <p:blipFill>
          <a:blip r:embed="rId2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海洛因"/>
          <p:cNvPicPr/>
          <p:nvPr/>
        </p:nvPicPr>
        <p:blipFill>
          <a:blip r:embed="rId1"/>
          <a:stretch/>
        </p:blipFill>
        <p:spPr>
          <a:xfrm>
            <a:off x="0" y="19080"/>
            <a:ext cx="9115560" cy="683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图片5"/>
          <p:cNvPicPr/>
          <p:nvPr/>
        </p:nvPicPr>
        <p:blipFill>
          <a:blip r:embed="rId2"/>
          <a:stretch/>
        </p:blipFill>
        <p:spPr>
          <a:xfrm>
            <a:off x="7772400" y="22860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1265" descr="2005422131055240"/>
          <p:cNvPicPr/>
          <p:nvPr/>
        </p:nvPicPr>
        <p:blipFill>
          <a:blip r:embed="rId1"/>
          <a:stretch/>
        </p:blipFill>
        <p:spPr>
          <a:xfrm>
            <a:off x="0" y="3240"/>
            <a:ext cx="6095880" cy="42861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266" descr="2005422131036772"/>
          <p:cNvPicPr/>
          <p:nvPr/>
        </p:nvPicPr>
        <p:blipFill>
          <a:blip r:embed="rId2"/>
          <a:stretch/>
        </p:blipFill>
        <p:spPr>
          <a:xfrm>
            <a:off x="6095880" y="2362320"/>
            <a:ext cx="3051360" cy="45021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1267"/>
          <p:cNvSpPr/>
          <p:nvPr/>
        </p:nvSpPr>
        <p:spPr>
          <a:xfrm>
            <a:off x="2553840" y="49528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罂  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图片5"/>
          <p:cNvPicPr/>
          <p:nvPr/>
        </p:nvPicPr>
        <p:blipFill>
          <a:blip r:embed="rId3"/>
          <a:stretch/>
        </p:blipFill>
        <p:spPr>
          <a:xfrm>
            <a:off x="7775640" y="324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6T06:17:21Z</dcterms:created>
  <dc:creator>Administrator</dc:creator>
  <dc:description/>
  <dc:language>en-US</dc:language>
  <cp:lastModifiedBy>Administrator</cp:lastModifiedBy>
  <dcterms:modified xsi:type="dcterms:W3CDTF">2019-09-27T06:53:5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86</vt:lpwstr>
  </property>
  <property fmtid="{D5CDD505-2E9C-101B-9397-08002B2CF9AE}" pid="3" name="Version">
    <vt:r8>1</vt:r8>
  </property>
</Properties>
</file>