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png" ContentType="image/png"/>
  <Override PartName="/ppt/media/image37.png" ContentType="image/png"/>
  <Override PartName="/ppt/media/image29.jpeg" ContentType="image/jpeg"/>
  <Override PartName="/ppt/media/image10.jpeg" ContentType="image/jpeg"/>
  <Override PartName="/ppt/media/image2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8.png" ContentType="image/pn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E560F-F8E9-4370-B121-C3A743EC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CDFBD-46DE-4D96-B4BD-06CDDBF1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F74E2-A9AA-43F4-B5AE-531848A5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627C4-D69B-4CA5-A86C-F66979DB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1132F-6203-4F58-BB0D-60B381CB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8F971-D22E-414C-A378-9B74B9A8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EE7F8-68B8-4B22-A742-01462B3B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53518-C52B-4D75-94EF-E7DAEE9B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51727-FD8B-49D2-A0AF-50D4BC03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80F0B-85DF-4B75-8CF2-5B1463A4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126BB-177B-4A4C-865D-F23D3773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E4720-A131-41B5-B52C-536448F3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7837E-BE0A-4E2E-A332-37BEDD04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ECAC8-2A2C-4938-9D4A-FEC68055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60F97-A015-4ACF-A44B-3D16FD8E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3B302-0F98-4660-BC0D-F27AD4A8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F0C59-8186-426B-AA6A-F59ECB40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F4D7B-236B-4E53-9FA1-352EFAD1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B22B0-243A-4877-B2C5-698743A6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E3626-E582-4E54-A80E-DE019BB2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D82A1-054B-4167-A564-CF87CC68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6FF1D-F4C7-4C7B-865E-3FAD8F69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67CFE-876F-46B1-99AC-BF73E3EA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17BFE-4535-4627-B097-CE5F2787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8CB88-D7C1-49C0-B60A-4E378A7F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06A24-1F83-447F-9B72-F9507F39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0F059-A440-42D8-8E59-BEFF5151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D2F64-9054-4002-9927-9D12B4B4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EA27E-7D6D-440E-BD92-5FC7F314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9F2F3-E3AF-4A30-8E61-8CBB91F9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793A9-23D4-4DF9-8B8A-E1B553C7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A6C69-A940-493D-8DEB-E1ACBE33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445CA-A7DE-48B1-A7C0-21DE8ECF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D14DE-77D5-4350-8840-172EC156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8DBE7-1AC9-498C-8DE3-197D9FEA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72567-3B4B-4051-A29C-A42CC516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D6A80-96E5-480E-A454-07A02D46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AE391-89BE-4562-8CFF-697B0968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688A5-D159-468B-9582-29712547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0C59D-DF64-4A91-8065-CCD64CB0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FC17E-4EAB-417E-AADE-1F58499F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309C7-AC51-4529-B1B4-FC8660C7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4C379-971A-4249-8F13-0157984C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3AFFA-2E1D-49AF-8734-8BB66095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80EE7-CF4F-4857-A02C-B487E5E7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EB740-B439-48EC-818E-BF50334B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689AB-CC72-4172-BFAD-4906ED66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25EED-5E8F-4A6A-BE9C-8E2512B4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2342A-2905-4AF4-B214-D49ABD7F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18E1B-459E-435E-9815-A594B025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1DF30-77B9-433E-B63C-057C8092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1931B-6E95-4400-8888-A24949BA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F2DD3-3309-4517-A9B6-6D1102E9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A3282-5006-4663-BDDA-354AF821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A6AB3-C581-45F1-BBCC-85FB3C3B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E7FDF-3D60-44D6-B57C-D4475A7B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6CE44-30B0-4EC8-8822-D5C4A9F4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47C-F61C-4362-BD06-A66C1620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E21-6927-4B01-9E7F-E20478C5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FFF-46EE-4B8A-9C05-76E4D293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7A1-7302-41D5-8359-1C21E534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7A5-B4B1-414E-934D-9B9A2A18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073-AF04-418E-8E38-EA3435EC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1F4-0E40-405D-B28F-912BABAE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B9C-EA6E-47F0-8A3E-25018B1A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374-EA38-4F29-9FA6-67C149FA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0B4-766A-4A94-912F-2A81D651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F99-9A7B-4180-BF74-02BCCD3D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170-0FD2-48C8-BC70-2A851D08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465C-AD70-4C4D-AFAA-8842ABB2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19A8-9368-4624-A3AA-2A1469EB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D87B-E351-4A30-B2DF-71B8B523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E1CB-EF21-478E-B408-E0505E08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841F-ED59-43E1-A540-A5404064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770E-A7C4-4F75-9D82-3783A98E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9066-1161-4B4B-B6A8-94FAB927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1A03-F142-4249-A35F-87E649E7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8BD5-51FE-4077-9CE5-887EFB9C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6A80-DB0F-4ED5-9049-5835F506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B7E9-C5C5-4A76-AC33-7B3F73F7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44B3-A5F0-483A-88E2-46179732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A458D-9A92-4DD1-B4DA-6F1C0D5E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341D-B8D1-4538-86A4-131A516A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7DAA8-7E90-42E4-985E-EBDFAD91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FDF95-03A6-4344-9B5F-CE5AEC7B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80AD2-6439-4165-9C8E-FE0C08C1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15A80-38D0-4F4E-8688-536D1F97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ECD62-A3F3-4685-84CF-7C63C68A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5E3EC-A003-499B-9C35-4E75EF16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E37B3-39D2-420E-BB68-74AD4951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2D97A-664C-4C01-AB43-32074FA6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5CF65-D11E-4C21-8ADE-34384B69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1348D-5CF2-442F-86EA-149DD222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93328-D2AD-4CBA-9329-178256E1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CF4A6-E6CA-48FF-A7D2-A165CEE4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11808-890C-45B1-834C-5E681271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CD9A2-B8E1-432D-98E5-93A1F470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3E3F7-B1D6-42CE-B235-A3FCD6CB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8CB56-0DC7-4264-A671-97D7EBE0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43CC0-DAEB-43F1-B347-9597252C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1DE52-B1E8-4391-B624-28D767E0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7CE84-F6EE-40F8-A512-7F151AF5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CB59B-1B8D-4155-9138-F0549CDC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9E00E-AB0A-411B-A306-8ED1B64D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3C947-63CC-46AE-A352-24B3644D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FF12A-D70C-4664-A6AA-3C634BCB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92348-CBC3-46D5-9424-4BE527B3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82E5F-5D8A-4682-81B5-D793ACB8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BEE4F-0BA2-4125-BA5C-CD05ADD0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72146-44B2-44D0-A8AE-7AD79FB1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1CEDE-5C97-40A9-97AD-E271EA47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7CE00-454F-42FA-8221-CC34D75A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B1DBB-8854-4526-AB97-E6C8CE3C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C6495-61C7-4A9E-9774-A759B5F7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C952C-D9B4-4BC6-B25A-C023A0E9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1FF67-8323-4F58-B484-968A040F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D53C4-AB6B-4E01-8A51-0A19E5BA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9FF6D-B389-46EB-ACD2-7EF34F9D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95912-81DE-4228-8761-6720F615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8E047-B62B-4C57-98AD-F6061F67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3088F-9FB9-4192-B804-46219127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C3EF3-2996-4137-8E76-C32B608E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69FA2-EAF0-484E-8719-856E054F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B51F8-137B-46A7-BEDD-45014814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5123B-96C3-401C-95FB-4D2218D4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28A8E-D857-4EA1-97ED-EF08783A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F96F1-5301-4B5B-A7A3-8F56FB0C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68C91-E53E-4650-B43E-9F0EDEEE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5F6DA-164A-4DAB-959F-E656BC36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FAD8E-5D10-44C1-BAF6-C2B279E1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0FBC4-3855-4265-96E9-FC366948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EE32E-D637-434D-BD11-8F5306B5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6704-548A-47A7-A36B-60BD3FC68A4A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12AF-4EAF-40C4-AFFC-04F4DC5BE5F3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F953-20E8-48BF-86C0-9BFB9CEF5221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图片 4" descr="logo.png"/>
          <p:cNvPicPr/>
          <p:nvPr/>
        </p:nvPicPr>
        <p:blipFill>
          <a:blip r:embed="rId2"/>
          <a:stretch/>
        </p:blipFill>
        <p:spPr>
          <a:xfrm>
            <a:off x="3357720" y="6357960"/>
            <a:ext cx="2019240" cy="34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4" descr="logo.png"/>
          <p:cNvPicPr/>
          <p:nvPr/>
        </p:nvPicPr>
        <p:blipFill>
          <a:blip r:embed="rId2"/>
          <a:stretch/>
        </p:blipFill>
        <p:spPr>
          <a:xfrm>
            <a:off x="3357720" y="6357960"/>
            <a:ext cx="2019240" cy="34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1EEA-9DB2-4409-889D-066046230E52}" type="slidenum">
              <a:rPr b="0" lang="zh-CN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4" descr="2859484_101404004303_2_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TextBox 2"/>
          <p:cNvSpPr/>
          <p:nvPr/>
        </p:nvSpPr>
        <p:spPr>
          <a:xfrm>
            <a:off x="3276720" y="126828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拒绝毒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B40A-B6CD-4EF6-94DA-244AB5EA3171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6165-FD7A-45E1-BCF4-AD84DA8EB8B5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BE0A-3135-429D-9F42-4B560408AFA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4F90-77F5-4E8D-B1E7-DFE07581BAC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326A-615A-484D-8E85-171CC26F043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1870-EE4F-4206-A519-B271EAB0EB8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BC8E-184D-4814-B6CE-D1B16453369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图片 1" descr="201511170841261d292"/>
          <p:cNvPicPr/>
          <p:nvPr/>
        </p:nvPicPr>
        <p:blipFill>
          <a:blip r:embed="rId1"/>
          <a:stretch/>
        </p:blipFill>
        <p:spPr>
          <a:xfrm>
            <a:off x="58680" y="22320"/>
            <a:ext cx="9024840" cy="6811920"/>
          </a:xfrm>
          <a:prstGeom prst="rect">
            <a:avLst/>
          </a:prstGeom>
          <a:ln w="0">
            <a:noFill/>
          </a:ln>
        </p:spPr>
      </p:pic>
      <p:sp>
        <p:nvSpPr>
          <p:cNvPr id="580" name="文本框 1"/>
          <p:cNvSpPr/>
          <p:nvPr/>
        </p:nvSpPr>
        <p:spPr>
          <a:xfrm>
            <a:off x="5111640" y="5967360"/>
            <a:ext cx="35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主讲：嘉鱼县陆溪中学  金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58B6-5E4E-44C7-8358-E8196D735B9E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8A1B-8480-4B09-871C-62EA2E5FC505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19640" y="188640"/>
            <a:ext cx="24386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杜冷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图片 14339" descr="杜冷丁"/>
          <p:cNvPicPr/>
          <p:nvPr/>
        </p:nvPicPr>
        <p:blipFill>
          <a:blip r:embed="rId1"/>
          <a:stretch/>
        </p:blipFill>
        <p:spPr>
          <a:xfrm>
            <a:off x="4500720" y="954000"/>
            <a:ext cx="4643280" cy="590400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14340" descr="K粉"/>
          <p:cNvPicPr/>
          <p:nvPr/>
        </p:nvPicPr>
        <p:blipFill>
          <a:blip r:embed="rId2"/>
          <a:stretch/>
        </p:blipFill>
        <p:spPr>
          <a:xfrm>
            <a:off x="0" y="981000"/>
            <a:ext cx="4500720" cy="5915160"/>
          </a:xfrm>
          <a:prstGeom prst="rect">
            <a:avLst/>
          </a:prstGeom>
          <a:ln w="0">
            <a:noFill/>
          </a:ln>
        </p:spPr>
      </p:pic>
      <p:sp>
        <p:nvSpPr>
          <p:cNvPr id="605" name="文本框 1"/>
          <p:cNvSpPr/>
          <p:nvPr/>
        </p:nvSpPr>
        <p:spPr>
          <a:xfrm>
            <a:off x="1368360" y="371520"/>
            <a:ext cx="14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1096-F052-472B-B887-735041786991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A498-379D-4252-BF1E-575F2B8D93C1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cc"/>
              </a:solidFill>
              <a:latin typeface="宋体"/>
            </a:endParaRPr>
          </a:p>
        </p:txBody>
      </p:sp>
      <p:pic>
        <p:nvPicPr>
          <p:cNvPr id="609" name="图片 16387" descr="大麻"/>
          <p:cNvPicPr/>
          <p:nvPr/>
        </p:nvPicPr>
        <p:blipFill>
          <a:blip r:embed="rId1"/>
          <a:stretch/>
        </p:blipFill>
        <p:spPr>
          <a:xfrm>
            <a:off x="44280" y="0"/>
            <a:ext cx="4311720" cy="342252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16388" descr="鸦片"/>
          <p:cNvPicPr/>
          <p:nvPr/>
        </p:nvPicPr>
        <p:blipFill>
          <a:blip r:embed="rId2"/>
          <a:stretch/>
        </p:blipFill>
        <p:spPr>
          <a:xfrm>
            <a:off x="46080" y="3429000"/>
            <a:ext cx="4145040" cy="342900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16389" descr="冰毒"/>
          <p:cNvPicPr/>
          <p:nvPr/>
        </p:nvPicPr>
        <p:blipFill>
          <a:blip r:embed="rId3"/>
          <a:stretch/>
        </p:blipFill>
        <p:spPr>
          <a:xfrm>
            <a:off x="4356000" y="0"/>
            <a:ext cx="4559400" cy="342900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16390" descr="摇头丸"/>
          <p:cNvPicPr/>
          <p:nvPr/>
        </p:nvPicPr>
        <p:blipFill>
          <a:blip r:embed="rId4"/>
          <a:stretch/>
        </p:blipFill>
        <p:spPr>
          <a:xfrm>
            <a:off x="4356000" y="3429000"/>
            <a:ext cx="4537080" cy="3429000"/>
          </a:xfrm>
          <a:prstGeom prst="rect">
            <a:avLst/>
          </a:prstGeom>
          <a:ln w="0">
            <a:noFill/>
          </a:ln>
        </p:spPr>
      </p:pic>
      <p:sp>
        <p:nvSpPr>
          <p:cNvPr id="613" name="文本框 16393"/>
          <p:cNvSpPr/>
          <p:nvPr/>
        </p:nvSpPr>
        <p:spPr>
          <a:xfrm>
            <a:off x="7391520" y="2630520"/>
            <a:ext cx="1447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文本框 1"/>
          <p:cNvSpPr/>
          <p:nvPr/>
        </p:nvSpPr>
        <p:spPr>
          <a:xfrm>
            <a:off x="44280" y="120600"/>
            <a:ext cx="13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大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2"/>
          <p:cNvSpPr/>
          <p:nvPr/>
        </p:nvSpPr>
        <p:spPr>
          <a:xfrm>
            <a:off x="4427640" y="120600"/>
            <a:ext cx="13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冰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3"/>
          <p:cNvSpPr/>
          <p:nvPr/>
        </p:nvSpPr>
        <p:spPr>
          <a:xfrm>
            <a:off x="243000" y="3591000"/>
            <a:ext cx="13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鸦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文本框 4"/>
          <p:cNvSpPr/>
          <p:nvPr/>
        </p:nvSpPr>
        <p:spPr>
          <a:xfrm>
            <a:off x="4427640" y="3429000"/>
            <a:ext cx="13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摇头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946E-18FB-41B0-9A00-DDAAEA216CA4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3579-0252-445B-B990-287171D7E597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图片 18435" descr="海洛因"/>
          <p:cNvPicPr/>
          <p:nvPr/>
        </p:nvPicPr>
        <p:blipFill>
          <a:blip r:embed="rId1"/>
          <a:stretch/>
        </p:blipFill>
        <p:spPr>
          <a:xfrm>
            <a:off x="228600" y="0"/>
            <a:ext cx="3494160" cy="271764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18437" descr="可卡因"/>
          <p:cNvPicPr/>
          <p:nvPr/>
        </p:nvPicPr>
        <p:blipFill>
          <a:blip r:embed="rId2"/>
          <a:stretch/>
        </p:blipFill>
        <p:spPr>
          <a:xfrm>
            <a:off x="2590920" y="2270160"/>
            <a:ext cx="4357440" cy="242244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18439" descr="吗啡"/>
          <p:cNvPicPr/>
          <p:nvPr/>
        </p:nvPicPr>
        <p:blipFill>
          <a:blip r:embed="rId3"/>
          <a:stretch/>
        </p:blipFill>
        <p:spPr>
          <a:xfrm>
            <a:off x="5486400" y="4114800"/>
            <a:ext cx="3124080" cy="2322360"/>
          </a:xfrm>
          <a:prstGeom prst="rect">
            <a:avLst/>
          </a:prstGeom>
          <a:ln w="0">
            <a:noFill/>
          </a:ln>
        </p:spPr>
      </p:pic>
      <p:sp>
        <p:nvSpPr>
          <p:cNvPr id="623" name="矩形 18441"/>
          <p:cNvSpPr/>
          <p:nvPr/>
        </p:nvSpPr>
        <p:spPr>
          <a:xfrm>
            <a:off x="250920" y="6308640"/>
            <a:ext cx="1368360" cy="433440"/>
          </a:xfrm>
          <a:prstGeom prst="rect">
            <a:avLst/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1"/>
          <p:cNvSpPr/>
          <p:nvPr/>
        </p:nvSpPr>
        <p:spPr>
          <a:xfrm>
            <a:off x="3809880" y="150840"/>
            <a:ext cx="13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海洛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2"/>
          <p:cNvSpPr/>
          <p:nvPr/>
        </p:nvSpPr>
        <p:spPr>
          <a:xfrm>
            <a:off x="304920" y="2971800"/>
            <a:ext cx="13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可卡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3"/>
          <p:cNvSpPr/>
          <p:nvPr/>
        </p:nvSpPr>
        <p:spPr>
          <a:xfrm>
            <a:off x="4583160" y="5046840"/>
            <a:ext cx="13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吗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7" descr="c:\documents and settings\administrator\application data\360se6\User Data\temp\u=763376072,3694543795&amp;fm=21&amp;gp=0.jpg"/>
          <p:cNvPicPr/>
          <p:nvPr/>
        </p:nvPicPr>
        <p:blipFill>
          <a:blip r:embed="rId1"/>
          <a:stretch/>
        </p:blipFill>
        <p:spPr>
          <a:xfrm>
            <a:off x="1765440" y="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1"/>
          <p:cNvSpPr/>
          <p:nvPr/>
        </p:nvSpPr>
        <p:spPr>
          <a:xfrm>
            <a:off x="826920" y="1917720"/>
            <a:ext cx="25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dobe 楷体 Std R"/>
                <a:ea typeface="Adobe 楷体 Std R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4"/>
          <p:cNvSpPr/>
          <p:nvPr/>
        </p:nvSpPr>
        <p:spPr>
          <a:xfrm>
            <a:off x="0" y="727200"/>
            <a:ext cx="38577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每年至少有</a:t>
            </a:r>
            <a:r>
              <a:rPr b="0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1000</a:t>
            </a:r>
            <a:r>
              <a:rPr b="0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万人因吸毒而丧失正常的智力和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3" descr="c:\documents and settings\administrator\application data\360se6\User Data\temp\20140327161927-1454976235.jpg"/>
          <p:cNvPicPr/>
          <p:nvPr/>
        </p:nvPicPr>
        <p:blipFill>
          <a:blip r:embed="rId2"/>
          <a:stretch/>
        </p:blipFill>
        <p:spPr>
          <a:xfrm>
            <a:off x="0" y="4071960"/>
            <a:ext cx="422100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图片 26628" descr="背景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文本框 26627"/>
          <p:cNvSpPr/>
          <p:nvPr/>
        </p:nvSpPr>
        <p:spPr>
          <a:xfrm>
            <a:off x="468360" y="263700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f497d"/>
                </a:solidFill>
                <a:latin typeface="Comic Sans MS"/>
                <a:ea typeface="宋体"/>
              </a:rPr>
              <a:t>讨论：吸食</a:t>
            </a:r>
            <a:r>
              <a:rPr b="1" lang="zh-CN" sz="8800" spc="-1" strike="noStrike">
                <a:solidFill>
                  <a:srgbClr val="000000"/>
                </a:solidFill>
                <a:latin typeface="Comic Sans MS"/>
                <a:ea typeface="宋体"/>
              </a:rPr>
              <a:t>毒品</a:t>
            </a:r>
            <a:r>
              <a:rPr b="1" lang="zh-CN" sz="6000" spc="-1" strike="noStrike">
                <a:solidFill>
                  <a:srgbClr val="1f497d"/>
                </a:solidFill>
                <a:latin typeface="Comic Sans MS"/>
                <a:ea typeface="宋体"/>
              </a:rPr>
              <a:t>对人类有哪些危害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5" descr="c:\documents and settings\administrator\application data\360se6\User Data\temp\U9109P1274DT20130624092150.png"/>
          <p:cNvPicPr/>
          <p:nvPr/>
        </p:nvPicPr>
        <p:blipFill>
          <a:blip r:embed="rId1"/>
          <a:stretch/>
        </p:blipFill>
        <p:spPr>
          <a:xfrm>
            <a:off x="4000680" y="11160"/>
            <a:ext cx="5143320" cy="34891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c:\documents and settings\administrator\application data\360se6\User Data\temp\20130626045922323.jpg"/>
          <p:cNvPicPr/>
          <p:nvPr/>
        </p:nvPicPr>
        <p:blipFill>
          <a:blip r:embed="rId2"/>
          <a:stretch/>
        </p:blipFill>
        <p:spPr>
          <a:xfrm>
            <a:off x="4000680" y="3365640"/>
            <a:ext cx="5143320" cy="34923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E:\工作资料\ppt素材\卡通文本档\978.jpg"/>
          <p:cNvPicPr/>
          <p:nvPr/>
        </p:nvPicPr>
        <p:blipFill>
          <a:blip r:embed="rId3"/>
          <a:stretch/>
        </p:blipFill>
        <p:spPr>
          <a:xfrm>
            <a:off x="0" y="0"/>
            <a:ext cx="495144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1"/>
          <p:cNvSpPr/>
          <p:nvPr/>
        </p:nvSpPr>
        <p:spPr>
          <a:xfrm>
            <a:off x="500040" y="2865600"/>
            <a:ext cx="392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毒品的危害非常巨大，不仅给吸毒者带来身心伤害，对吸毒者的家庭乃至社会也有着巨大的伤痛及影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对角圆角矩形 2"/>
          <p:cNvSpPr/>
          <p:nvPr/>
        </p:nvSpPr>
        <p:spPr>
          <a:xfrm>
            <a:off x="455760" y="1917720"/>
            <a:ext cx="8424720" cy="4680000"/>
          </a:xfrm>
          <a:custGeom>
            <a:avLst/>
            <a:gdLst/>
            <a:ahLst/>
            <a:rect l="l" t="t" r="r" b="b"/>
            <a:pathLst>
              <a:path w="8424862" h="4679950">
                <a:moveTo>
                  <a:pt x="780007" y="0"/>
                </a:moveTo>
                <a:lnTo>
                  <a:pt x="8424862" y="0"/>
                </a:lnTo>
                <a:lnTo>
                  <a:pt x="8424862" y="0"/>
                </a:lnTo>
                <a:lnTo>
                  <a:pt x="8424862" y="3899942"/>
                </a:lnTo>
                <a:cubicBezTo>
                  <a:pt x="8424862" y="4330728"/>
                  <a:pt x="8075641" y="4679949"/>
                  <a:pt x="7644855" y="4679949"/>
                </a:cubicBezTo>
                <a:lnTo>
                  <a:pt x="0" y="4679950"/>
                </a:lnTo>
                <a:lnTo>
                  <a:pt x="0" y="4679950"/>
                </a:lnTo>
                <a:lnTo>
                  <a:pt x="0" y="780007"/>
                </a:lnTo>
                <a:cubicBezTo>
                  <a:pt x="0" y="349221"/>
                  <a:pt x="349221" y="0"/>
                  <a:pt x="780007" y="0"/>
                </a:cubicBezTo>
                <a:close/>
              </a:path>
            </a:pathLst>
          </a:custGeom>
          <a:gradFill rotWithShape="0">
            <a:gsLst>
              <a:gs pos="0">
                <a:srgbClr val="f6f9fc"/>
              </a:gs>
              <a:gs pos="100000">
                <a:srgbClr val="cad9eb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3"/>
          <p:cNvSpPr/>
          <p:nvPr/>
        </p:nvSpPr>
        <p:spPr>
          <a:xfrm>
            <a:off x="522360" y="1996920"/>
            <a:ext cx="82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日，广西灌阳县的一名初中一年级的学生，因为吸食毒品而死亡。沿着这名学生死亡的线索，记者调查了校园里孩子们面临的“白色”诱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死亡的学生名叫陈桥，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岁，在桂林市灌阳县民族中学读初中一年级，事发当天中午，陈桥从学校回到家中，当时他坐在客厅沙发上，陈桥的母亲在厨房里忙乎着午饭，陈桥妈妈回忆：“突然听到噗通的一声，孩子从沙发上面掉在了地上，看到他脚手都抽筋了，我马上跑出来把他扶在沙发上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当时陈桥口吐白沫倒在地上，四肢抽搐，神志不清，家人赶紧拨打了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12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急救电话。医生诊断：“吸毒过量。”经过几个小时的抢救，也没能留住陈桥的生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文本框 4" descr=""/>
          <p:cNvPicPr/>
          <p:nvPr/>
        </p:nvPicPr>
        <p:blipFill>
          <a:blip r:embed="rId1"/>
          <a:stretch/>
        </p:blipFill>
        <p:spPr>
          <a:xfrm>
            <a:off x="992160" y="1273320"/>
            <a:ext cx="1698480" cy="6444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AABF-C8B8-4A60-8D26-3B70438EC4D0}" type="datetime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6BD4-7C59-466C-BD47-B73194BCE72A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图片 55299" descr="lhh_5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矩形 55301"/>
          <p:cNvSpPr/>
          <p:nvPr/>
        </p:nvSpPr>
        <p:spPr>
          <a:xfrm>
            <a:off x="3780000" y="54936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吸毒对个人的危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3"/>
          <p:cNvSpPr/>
          <p:nvPr/>
        </p:nvSpPr>
        <p:spPr>
          <a:xfrm>
            <a:off x="5153400" y="1538280"/>
            <a:ext cx="1521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摧毁健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理变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神失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备受歧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上绝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染疾病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C1E5-69A8-49EB-ADC7-DCD1463F7DFA}" type="datetime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39E3-056B-4616-BC5F-12565293FE1F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图片 56323" descr="2009020519123805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648" name="图片 56324" descr="20071116074638367"/>
          <p:cNvPicPr/>
          <p:nvPr/>
        </p:nvPicPr>
        <p:blipFill>
          <a:blip r:embed="rId2"/>
          <a:stretch/>
        </p:blipFill>
        <p:spPr>
          <a:xfrm>
            <a:off x="4363920" y="0"/>
            <a:ext cx="478008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文本框 56325"/>
          <p:cNvSpPr/>
          <p:nvPr/>
        </p:nvSpPr>
        <p:spPr>
          <a:xfrm>
            <a:off x="3132000" y="620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吸毒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文本框 56326"/>
          <p:cNvSpPr/>
          <p:nvPr/>
        </p:nvSpPr>
        <p:spPr>
          <a:xfrm>
            <a:off x="8028000" y="692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吸毒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同侧圆角矩形 2"/>
          <p:cNvSpPr/>
          <p:nvPr/>
        </p:nvSpPr>
        <p:spPr>
          <a:xfrm>
            <a:off x="604800" y="1755720"/>
            <a:ext cx="7777080" cy="5032440"/>
          </a:xfrm>
          <a:custGeom>
            <a:avLst/>
            <a:gdLst/>
            <a:ahLst/>
            <a:rect l="l" t="t" r="r" b="b"/>
            <a:pathLst>
              <a:path w="7777162" h="5032375">
                <a:moveTo>
                  <a:pt x="838745" y="0"/>
                </a:moveTo>
                <a:lnTo>
                  <a:pt x="6938416" y="0"/>
                </a:lnTo>
                <a:cubicBezTo>
                  <a:pt x="7401642" y="0"/>
                  <a:pt x="7777161" y="375519"/>
                  <a:pt x="7777161" y="838745"/>
                </a:cubicBezTo>
                <a:lnTo>
                  <a:pt x="7777162" y="5032375"/>
                </a:lnTo>
                <a:lnTo>
                  <a:pt x="7777162" y="5032375"/>
                </a:lnTo>
                <a:lnTo>
                  <a:pt x="0" y="5032375"/>
                </a:lnTo>
                <a:lnTo>
                  <a:pt x="0" y="5032375"/>
                </a:lnTo>
                <a:lnTo>
                  <a:pt x="0" y="838745"/>
                </a:lnTo>
                <a:cubicBezTo>
                  <a:pt x="0" y="375519"/>
                  <a:pt x="375519" y="0"/>
                  <a:pt x="838745" y="0"/>
                </a:cubicBezTo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文本框 3"/>
          <p:cNvSpPr/>
          <p:nvPr/>
        </p:nvSpPr>
        <p:spPr>
          <a:xfrm>
            <a:off x="754200" y="2379600"/>
            <a:ext cx="748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在梅州市强制隔离戒毒所，记者见到了祖籍四川汶川的赵女士，不到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岁的她已经是三进戒毒所了。谈到如何走上吸毒之路，赵女士马上痛哭流涕：“都怪我赌气吸毒！结果现在家破人亡！”原来，赵女士嫁来梅州后原本过着安稳的生活，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200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年，赵女士发现丈夫因交友不慎染上毒品后竟然与丈夫赌气，也开始学着吸食毒品。随后她的丈夫因吸毒身亡，她自己则陷入毒潭不能自拔，先后两次被公安机关抓获强制戒毒。今年初刚刚解除劳教的赵女士回到了四川老家，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日发生的汶川大地震使她的亲人都离她而去，逃过一劫的她却因此遭受严重的精神打击，加上毒友的诱惑让她鬼使神差重新吸上了毒品，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日被公安机关抓获，依法她将被强制隔离戒毒两年。“毒品连碰都碰不得，否则一辈子都难逃恶魔！”赵女士流着泪大喊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4"/>
          <p:cNvSpPr/>
          <p:nvPr/>
        </p:nvSpPr>
        <p:spPr>
          <a:xfrm>
            <a:off x="1398600" y="1233360"/>
            <a:ext cx="21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f81bd"/>
                </a:solidFill>
                <a:latin typeface="Calibri"/>
                <a:ea typeface="宋体"/>
              </a:rPr>
              <a:t>案例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禁毒宣传片 《放纵一时 悔恨一生》-广告-高清完整正版视频在线观看-优酷" descr=""/>
          <p:cNvPicPr/>
          <p:nvPr/>
        </p:nvPicPr>
        <p:blipFill>
          <a:blip r:embed="rId1"/>
          <a:stretch/>
        </p:blipFill>
        <p:spPr>
          <a:xfrm>
            <a:off x="480960" y="506520"/>
            <a:ext cx="8353440" cy="5634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C3F7-6A99-4614-A510-337C0D77DFCA}" type="datetime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8537-9D64-4E59-81CA-3E200FC1C4CC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图片 54275" descr="lhh_6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矩形 54276"/>
          <p:cNvSpPr/>
          <p:nvPr/>
        </p:nvSpPr>
        <p:spPr>
          <a:xfrm>
            <a:off x="4140360" y="1700280"/>
            <a:ext cx="449568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倾家荡产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妻离子散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家破人亡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危及后代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54277"/>
          <p:cNvSpPr/>
          <p:nvPr/>
        </p:nvSpPr>
        <p:spPr>
          <a:xfrm>
            <a:off x="4211640" y="692280"/>
            <a:ext cx="460836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对家庭造成的危害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圆角矩形 2"/>
          <p:cNvSpPr/>
          <p:nvPr/>
        </p:nvSpPr>
        <p:spPr>
          <a:xfrm>
            <a:off x="469800" y="1298520"/>
            <a:ext cx="8064720" cy="489744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文本框 3"/>
          <p:cNvSpPr/>
          <p:nvPr/>
        </p:nvSpPr>
        <p:spPr>
          <a:xfrm>
            <a:off x="866880" y="1393920"/>
            <a:ext cx="741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周某，现年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岁，初中文化，吸毒史一年。八岁时父母离异，其父又为他找后妈，后妈有一个比他小四岁的儿子。由于其父常年在外跑车，对他缺乏关爱与教育，当他出现错误不能及时批评让他纠正。周某在家经常辱骂后妈，欺负后妈带来的弟弟，后妈根本管不了他。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2008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月，周某毕业于一乡村小学，由于无所事事，他很快结交了一些社会上的不良青年，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月，作为初二年级的他，在校不好好学习，经常旷课，不完成作业。一个星期六的晚上，周某和三个朋友在一家网吧上完网后，经期中有吸毒朋友怂恿，周某开始吸毒，从此便开始了瘾君子的生活。周某供述，他第一次吸毒完全是因为盲从，看见自己的朋友吸，自己觉得好玩耶跟着吸，谁知从此便上瘾。为了得到吸毒费用，他先是谎称自己要交这样，那样的费用，从父亲那里骗钱。随着毒瘾的加大，骗来的钱也不够用了，他先是把家里值钱的东西拿去卖，后来经常小偷小摸，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201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月，周某在一所职业中学附近抢劫一名学生，持刀杀人，被警方当场抓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文本框 4"/>
          <p:cNvSpPr/>
          <p:nvPr/>
        </p:nvSpPr>
        <p:spPr>
          <a:xfrm>
            <a:off x="1177920" y="777960"/>
            <a:ext cx="21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f81bd"/>
                </a:solidFill>
                <a:latin typeface="Calibri"/>
                <a:ea typeface="宋体"/>
              </a:rPr>
              <a:t>案例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1BAE-1EC4-4568-9F81-72C2791092EC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A8FE-8909-4D4B-ABA6-B461B131388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4" name="图片 33796" descr="lhh_7"/>
          <p:cNvPicPr/>
          <p:nvPr/>
        </p:nvPicPr>
        <p:blipFill>
          <a:blip r:embed="rId1"/>
          <a:stretch/>
        </p:blipFill>
        <p:spPr>
          <a:xfrm>
            <a:off x="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665" name="文本框 1"/>
          <p:cNvSpPr/>
          <p:nvPr/>
        </p:nvSpPr>
        <p:spPr>
          <a:xfrm>
            <a:off x="5048280" y="622440"/>
            <a:ext cx="42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对社会的危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文本框 2"/>
          <p:cNvSpPr/>
          <p:nvPr/>
        </p:nvSpPr>
        <p:spPr>
          <a:xfrm>
            <a:off x="5691240" y="1797120"/>
            <a:ext cx="181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偷盗抢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杀人放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累及他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8882-4479-4CC0-9646-AD2407F27663}" type="datetime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DA71-9EAD-4A08-A84F-04FA02DB0851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图片 59393" descr="吸毒社会危害画2"/>
          <p:cNvPicPr/>
          <p:nvPr/>
        </p:nvPicPr>
        <p:blipFill>
          <a:blip r:embed="rId1"/>
          <a:stretch/>
        </p:blipFill>
        <p:spPr>
          <a:xfrm>
            <a:off x="755640" y="1413000"/>
            <a:ext cx="7777080" cy="5065560"/>
          </a:xfrm>
          <a:prstGeom prst="rect">
            <a:avLst/>
          </a:prstGeom>
          <a:ln w="0">
            <a:noFill/>
          </a:ln>
        </p:spPr>
      </p:pic>
      <p:sp>
        <p:nvSpPr>
          <p:cNvPr id="670" name="矩形 59394"/>
          <p:cNvSpPr/>
          <p:nvPr/>
        </p:nvSpPr>
        <p:spPr>
          <a:xfrm>
            <a:off x="324000" y="6165720"/>
            <a:ext cx="1152360" cy="432000"/>
          </a:xfrm>
          <a:prstGeom prst="rect">
            <a:avLst/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图片 49159" descr="背景图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72" name="文本框 49160"/>
          <p:cNvSpPr/>
          <p:nvPr/>
        </p:nvSpPr>
        <p:spPr>
          <a:xfrm>
            <a:off x="250920" y="149076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f497d"/>
                </a:solidFill>
                <a:latin typeface="Comic Sans MS"/>
                <a:ea typeface="宋体"/>
              </a:rPr>
              <a:t>这些</a:t>
            </a:r>
            <a:r>
              <a:rPr b="1" lang="zh-CN" sz="8000" spc="-1" strike="noStrike">
                <a:solidFill>
                  <a:srgbClr val="000000"/>
                </a:solidFill>
                <a:latin typeface="Comic Sans MS"/>
                <a:ea typeface="宋体"/>
              </a:rPr>
              <a:t>悲剧、惨案</a:t>
            </a:r>
            <a:r>
              <a:rPr b="1" lang="zh-CN" sz="6000" spc="-1" strike="noStrike">
                <a:solidFill>
                  <a:srgbClr val="1f497d"/>
                </a:solidFill>
                <a:latin typeface="Comic Sans MS"/>
                <a:ea typeface="宋体"/>
              </a:rPr>
              <a:t>离我们是不是很遥远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B4E5-7B49-4C34-B4F4-3AD5A8F56F2F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对象 60418" descr=""/>
          <p:cNvPicPr/>
          <p:nvPr/>
        </p:nvPicPr>
        <p:blipFill>
          <a:blip r:embed="rId1"/>
          <a:stretch/>
        </p:blipFill>
        <p:spPr>
          <a:xfrm>
            <a:off x="2158920" y="1052640"/>
            <a:ext cx="6985080" cy="3492360"/>
          </a:xfrm>
          <a:prstGeom prst="rect">
            <a:avLst/>
          </a:prstGeom>
          <a:ln w="0">
            <a:noFill/>
          </a:ln>
        </p:spPr>
      </p:pic>
      <p:sp>
        <p:nvSpPr>
          <p:cNvPr id="675" name="文本框 1"/>
          <p:cNvSpPr/>
          <p:nvPr/>
        </p:nvSpPr>
        <p:spPr>
          <a:xfrm>
            <a:off x="361800" y="260280"/>
            <a:ext cx="42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毒品离我们有多远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2"/>
          <p:cNvSpPr/>
          <p:nvPr/>
        </p:nvSpPr>
        <p:spPr>
          <a:xfrm>
            <a:off x="3614760" y="4675320"/>
            <a:ext cx="26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青少年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"/>
          <p:cNvSpPr/>
          <p:nvPr/>
        </p:nvSpPr>
        <p:spPr>
          <a:xfrm>
            <a:off x="3614760" y="527688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青少年是吸毒人员的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猎物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5B98-F9BA-47EB-B568-2568D605EEED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6959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五、青少年如何拒绝吸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图片 34819" descr="lhh_11"/>
          <p:cNvPicPr/>
          <p:nvPr/>
        </p:nvPicPr>
        <p:blipFill>
          <a:blip r:embed="rId1"/>
          <a:stretch/>
        </p:blipFill>
        <p:spPr>
          <a:xfrm>
            <a:off x="1042920" y="1700280"/>
            <a:ext cx="8101080" cy="4681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文本框 99" descr=""/>
          <p:cNvPicPr/>
          <p:nvPr/>
        </p:nvPicPr>
        <p:blipFill>
          <a:blip r:embed="rId1"/>
          <a:stretch/>
        </p:blipFill>
        <p:spPr>
          <a:xfrm>
            <a:off x="898560" y="787320"/>
            <a:ext cx="7405560" cy="5016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图片 3" descr=""/>
          <p:cNvPicPr/>
          <p:nvPr/>
        </p:nvPicPr>
        <p:blipFill>
          <a:blip r:embed="rId1"/>
          <a:stretch/>
        </p:blipFill>
        <p:spPr>
          <a:xfrm>
            <a:off x="-15840" y="31680"/>
            <a:ext cx="9117000" cy="683748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《青少年预防毒品十诫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图片 19460" descr="背景图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685800" y="40464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青少年预防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毒品</a:t>
            </a: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十诫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不要因追求刺激而吸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不要因好奇而吸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不要因贪图享受而吸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不要因解愁而吸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不要听信吸毒者的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不要结交有吸毒行为、贩毒行为的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不在吸毒场所停留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秒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不接受与毒品有关人员传递的香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不要听信毒品能治病的谎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发现吸毒，贩毒者，速向公安机关报告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宣誓词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图片 20483" descr="背景图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f497d"/>
                </a:solidFill>
                <a:latin typeface="Calibri"/>
              </a:rPr>
              <a:t>珍爱生命，拒绝毒品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f497d"/>
                </a:solidFill>
                <a:latin typeface="Calibri"/>
              </a:rPr>
              <a:t>抵制诱惑，永不沾毒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f497d"/>
                </a:solidFill>
                <a:latin typeface="Calibri"/>
              </a:rPr>
              <a:t>尽我所能，参与禁毒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f497d"/>
                </a:solidFill>
                <a:latin typeface="Calibri"/>
              </a:rPr>
              <a:t>敢于斗争，敢于行动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20484"/>
          <p:cNvSpPr/>
          <p:nvPr/>
        </p:nvSpPr>
        <p:spPr>
          <a:xfrm>
            <a:off x="1547640" y="4762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omic Sans MS"/>
                <a:ea typeface="黑体"/>
              </a:rPr>
              <a:t>宣誓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99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799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99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799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E:\12\ppt素材\454.jpg"/>
          <p:cNvPicPr/>
          <p:nvPr/>
        </p:nvPicPr>
        <p:blipFill>
          <a:blip r:embed="rId1"/>
          <a:stretch/>
        </p:blipFill>
        <p:spPr>
          <a:xfrm>
            <a:off x="50760" y="-9360"/>
            <a:ext cx="9210600" cy="6876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E:\12\ppt素材\65.jpg"/>
          <p:cNvPicPr/>
          <p:nvPr/>
        </p:nvPicPr>
        <p:blipFill>
          <a:blip r:embed="rId2"/>
          <a:stretch/>
        </p:blipFill>
        <p:spPr>
          <a:xfrm>
            <a:off x="571680" y="928800"/>
            <a:ext cx="4157640" cy="1109520"/>
          </a:xfrm>
          <a:prstGeom prst="rect">
            <a:avLst/>
          </a:prstGeom>
          <a:ln w="0">
            <a:noFill/>
          </a:ln>
        </p:spPr>
      </p:pic>
      <p:sp>
        <p:nvSpPr>
          <p:cNvPr id="584" name="矩形 4"/>
          <p:cNvSpPr/>
          <p:nvPr/>
        </p:nvSpPr>
        <p:spPr>
          <a:xfrm>
            <a:off x="1966320" y="1285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矩形 9" descr=""/>
          <p:cNvPicPr/>
          <p:nvPr/>
        </p:nvPicPr>
        <p:blipFill>
          <a:blip r:embed="rId3"/>
          <a:stretch/>
        </p:blipFill>
        <p:spPr>
          <a:xfrm>
            <a:off x="571680" y="2500200"/>
            <a:ext cx="5715000" cy="2030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210600" y="1268280"/>
            <a:ext cx="82314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2600" y="115920"/>
            <a:ext cx="82281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Picture 2" descr="C:\Documents and Settings\Administrator\桌面\图片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图片 29700" descr="6eb9ab63523b1d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29704" descr="背景图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96" name="矩形 29702"/>
          <p:cNvSpPr txBox="1"/>
          <p:nvPr/>
        </p:nvSpPr>
        <p:spPr>
          <a:xfrm>
            <a:off x="2484360" y="1989000"/>
            <a:ext cx="424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85800" y="151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图片 37896" descr="0562a967132305b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685800" y="151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图片 36869" descr="fe4a60d345d69a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图片 22531" descr="200282240953"/>
          <p:cNvPicPr/>
          <p:nvPr/>
        </p:nvPicPr>
        <p:blipFill>
          <a:blip r:embed="rId1"/>
          <a:stretch/>
        </p:blipFill>
        <p:spPr>
          <a:xfrm>
            <a:off x="-1440" y="-42840"/>
            <a:ext cx="9145440" cy="69073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E92A-F83F-4626-B9E3-0FFED84589F7}" type="datetime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800C-728D-4080-82DD-9813D8F73343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图片 53251" descr="0f59727bcc92f54c29388af2"/>
          <p:cNvPicPr/>
          <p:nvPr/>
        </p:nvPicPr>
        <p:blipFill>
          <a:blip r:embed="rId1"/>
          <a:stretch/>
        </p:blipFill>
        <p:spPr>
          <a:xfrm>
            <a:off x="0" y="0"/>
            <a:ext cx="9134640" cy="6778800"/>
          </a:xfrm>
          <a:prstGeom prst="rect">
            <a:avLst/>
          </a:prstGeom>
          <a:ln w="0">
            <a:noFill/>
          </a:ln>
        </p:spPr>
      </p:pic>
      <p:sp>
        <p:nvSpPr>
          <p:cNvPr id="594" name="文本框 53252"/>
          <p:cNvSpPr/>
          <p:nvPr/>
        </p:nvSpPr>
        <p:spPr>
          <a:xfrm>
            <a:off x="971640" y="914400"/>
            <a:ext cx="223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文本框 53255"/>
          <p:cNvSpPr/>
          <p:nvPr/>
        </p:nvSpPr>
        <p:spPr>
          <a:xfrm>
            <a:off x="395280" y="1052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罂粟花也叫英雄花、虞美人，是制鸦片的原材料，也是世界上最美丽的花之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图片 32772" descr="296eb4a97dcf4d3a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97" name="文本框 32773"/>
          <p:cNvSpPr/>
          <p:nvPr/>
        </p:nvSpPr>
        <p:spPr>
          <a:xfrm>
            <a:off x="4788000" y="4221000"/>
            <a:ext cx="3744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omic Sans MS"/>
                <a:ea typeface="宋体"/>
              </a:rPr>
              <a:t>是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恶魔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omic Sans MS"/>
                <a:ea typeface="宋体"/>
              </a:rPr>
              <a:t>是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罪恶之花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图片 30727" descr="背景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99" name="文本框 30728"/>
          <p:cNvSpPr/>
          <p:nvPr/>
        </p:nvSpPr>
        <p:spPr>
          <a:xfrm>
            <a:off x="611280" y="2421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f497d"/>
                </a:solidFill>
                <a:latin typeface="Comic Sans MS"/>
                <a:ea typeface="宋体"/>
              </a:rPr>
              <a:t>你知道那些</a:t>
            </a:r>
            <a:r>
              <a:rPr b="1" lang="zh-CN" sz="7200" spc="-1" strike="noStrike">
                <a:solidFill>
                  <a:srgbClr val="000000"/>
                </a:solidFill>
                <a:latin typeface="Comic Sans MS"/>
                <a:ea typeface="宋体"/>
              </a:rPr>
              <a:t>毒品</a:t>
            </a:r>
            <a:r>
              <a:rPr b="1" lang="zh-CN" sz="6600" spc="-1" strike="noStrike">
                <a:solidFill>
                  <a:srgbClr val="1f497d"/>
                </a:solidFill>
                <a:latin typeface="Comic Sans MS"/>
                <a:ea typeface="宋体"/>
              </a:rPr>
              <a:t>名称</a:t>
            </a:r>
            <a:r>
              <a:rPr b="1" lang="zh-CN" sz="4800" spc="-1" strike="noStrike">
                <a:solidFill>
                  <a:srgbClr val="1f497d"/>
                </a:solidFill>
                <a:latin typeface="Comic Sans MS"/>
                <a:ea typeface="宋体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05:16:06Z</dcterms:created>
  <dc:creator>钢钢钢钢琴。</dc:creator>
  <dc:description/>
  <dc:language>en-US</dc:language>
  <cp:lastModifiedBy>cai</cp:lastModifiedBy>
  <dcterms:modified xsi:type="dcterms:W3CDTF">2019-11-18T00:28:44Z</dcterms:modified>
  <cp:revision>1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5</vt:lpwstr>
  </property>
</Properties>
</file>