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82A-8531-4043-B6C5-58149E19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84D-E33C-4D01-8C04-BC247573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FF508-A5B1-4D2F-9094-8A2F2E9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16C04-595E-4621-BA14-45F35CD5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1624-75BC-46A2-855E-F96FB7D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FDEBC-F2BA-461F-B816-0267827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432D5-BF1A-4F35-B188-B6EDC89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ACA38-E975-47A7-9B00-DDA7711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B4052-1815-44C0-A847-1D88319D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1ADFF-5BC9-424A-ADC8-71841C91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341E6-91D5-46CC-BAF5-165F8EFF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531D1-B8B9-42EF-8C6E-A3955415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2F6-C6EC-4C54-AA77-4E85AB20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7C88F-843A-4DF4-9DF4-132C9A0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F992C-7A60-4720-BD2D-DB8FCF6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92351-6769-49A5-A489-BF8EE956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E27B-B7DF-45AA-B09B-7B62A165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10E1-976C-4D88-B147-92BEDF8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F8DF8-0AEE-4D49-8D9E-2096EE9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5510-5972-4EBB-A078-A508D3E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EBEB1-5355-425A-AC82-8CF695A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74C26-547F-494E-B0BD-80C6815E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E96B5-95E4-4AAB-92D1-2F4409D8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E8A-0246-4927-B2BD-C4B776D4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E8CDC-7572-468C-967C-1200CBDE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22DD8-E7B1-4B4A-BFBF-CDCEC14D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A603-672A-4302-809C-2E801537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2210-1AB6-417B-91D7-016D7B90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60599-0459-4729-91D0-219C7A2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1893-2D71-4223-ABA6-095FFAF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F8B29-DF3F-40FB-9216-6CB8B5D6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3E03C-081E-4E6C-9273-FEDC701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74ACA-383E-43DD-8669-980A399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24815-5F3C-494B-8CFE-C9AC0FA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71CA-E676-42DD-AA84-53B1B584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9A11-BBC5-422C-AC76-F4CD7DD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990C6-DDDE-45B8-96B2-7B7F3E57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A3B65-CFA7-4F2D-BD7E-0C2CEE48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0E45D-58B7-47A7-BD72-B304C8A5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81F00-CA8D-488D-9B01-5DA76E1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EA595-E469-4560-9CDD-46200D5C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1A25E-E50C-4B29-8639-B8AAC80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A7EB8-896E-4DDD-8A24-B63FA0E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68E0E-6CDD-4BC4-BA7C-8998F195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0BA5B-DF73-45BF-B8B1-CA387B3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EF03-945E-4BE5-B2E1-91C16525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0F351-2AF9-4B6F-82D8-D96A081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280BB-AFCE-4870-B122-3551D9D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B0A13-2C7C-41D7-8B5C-AA8342D7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B386D-5B88-4A98-8881-A15175BA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CEC0A-DDC6-439B-AACA-A713F499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D7D88-108A-43E5-8609-8D481AC2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1150F-325A-432C-A5C4-B81B045B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9077B-6C19-46FA-B7F0-6A069AA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E50EC-A318-4962-9065-65554229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4C1A1-6240-4370-9304-0975895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DD9A-4FA7-41CD-B2DD-8EA06428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8D001-4845-447F-A7D6-4E087CB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BDE62-EBD4-4583-8D83-DE5F0DE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EE331-3B4C-4300-9726-6E9B95B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9E6D7-5B25-463D-B424-AD47B10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69662-1963-4E08-808C-D796537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93C3E-3DFB-4958-923B-8BE078A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01EAE-5E0F-4A84-8839-2C367616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06946-00D5-4C0B-9F3F-93E748D7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1A190-16EF-446E-B320-69EF1FD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BE2B7-E625-4D43-B385-9A038D61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732-F8B2-40E0-A4E4-78BD2DA4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C21F9-DADC-4192-96CA-FB8021A2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1CF77-74A9-409D-A036-A3D76B8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B0EAE-46AD-42EA-8A7C-AAAE593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19803-B93D-4278-AEFD-1B28FFE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A633B-94C6-4F06-8397-AE5E33C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71CD5-1F29-4B74-B82E-0E44DAA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D5B62-1437-4E9A-B59D-D108EA1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D938F-A00F-49E9-82D4-DBFE529F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8B24F-2030-4611-80DC-649DABD5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EEA3D-20AB-4353-8FEE-A2E3D06F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EDED-C549-4BEF-831E-F67DA4B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C0F89-E55C-43E6-BD0B-A59C929B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B05DA-DF58-449E-BEEA-F67E963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1DF4B-5A57-4D1D-AB2B-3005727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904FF-9545-4C9D-B54C-FCA75DE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184A6-D0EE-450B-8271-76901D4C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FB24D-92D4-4DF1-8C9D-9D60B7B2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D1895-FF55-4F14-9AA6-46684B20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9A053-FFE0-4DB2-AC49-FFC42E0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E51CC-D426-4838-9659-303AA56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918D0-A5D3-408D-8A4D-31F08348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3E20-9F36-4FDC-8876-202503FC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739CA-712E-48EC-BF2D-FDC5008E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8D157-F8CC-4CD9-BA14-5CC82BA9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BFE68-697E-4F35-AC60-C58F3A42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362A5-AC8B-437F-A474-5A65237D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BB560-46C0-425D-981A-7FF1FA71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62BAD-EB49-4ADC-9B97-652BF44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4D4F1-BDF3-4A71-81B3-96DF38F6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A3377-1320-4218-8929-2EDC27F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82111-36AC-44DA-BCD2-93CE43F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BCA4B-E4F9-4254-8622-06E9603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20A-C924-448C-BCA2-9DA080A7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3452F-DE26-465B-8D74-E0334D62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F6C5E-B715-4FE2-8F14-AF44BA45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12161-3E0E-4CB2-AFF9-392934F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0FB-D8DB-4D00-9F29-0AF6A710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05A-D4A9-4517-89C9-C3CF4B4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6EF0-5891-4C27-B579-7666F6E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4B6-FBC9-4226-9955-C8F6788A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135-EB87-430E-BD0D-DE333EA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08F-EFF2-4C95-ABEC-C7558C0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2D07-BDC1-4D5B-BF04-16778BE8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F8C9-1C96-45A5-BD42-FFEAAE49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1032-9053-48BA-ACD7-9222284F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5F49-FB84-4D0C-8C4B-F436ED69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A48F-147C-4729-B92D-A6A35BF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124-6659-40B3-905D-3DAE45F1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508E-3648-4F8C-8391-42CAFA9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4BA4-5AE6-48FB-AFD7-E075CEF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A67A-009F-42FF-9D5B-30B490E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D41A-DE30-4599-BB6F-33F7D84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D88B-83A8-4305-A61D-F8E219A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2C87-89E4-4F6B-8021-81F1822D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1AFD-7317-4BEE-9148-44C9AB10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F867-826C-4D4E-A24A-80770394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C039-0457-4741-B89C-F3C6BD1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83D7-F0B9-4D16-B7C2-75DB2B9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98B-64AD-435F-A5FA-90CBB817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2650-2620-4D64-A5C7-56900737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5CF1-4693-437B-B681-5707E95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72AE-148B-4E08-AB36-11DF8B1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DED8-ABE4-42DD-8EB8-E025E569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53D3-529A-443C-8DA7-62B70AB1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BEC1-F92F-4BBF-BA9E-A84788B4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E277-BF49-4A77-8F15-05007AE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7C0F-E001-4486-9CAA-B6310005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E248-F626-42BE-9830-6F581E3C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387F-2910-4931-96E4-B19724E4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2F1-6A2A-4506-81D7-32073B06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1B68-433F-42E6-8FE2-94983DC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2FF7-E058-4C2B-AA09-47BF14B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F5B5-D8A5-43FE-89BA-39BC3DC0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C84F-2289-42AC-A48D-3F093E9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3CE9-5E45-4CBF-8E3A-76D6CD6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57E9-53ED-4810-8159-2AD01F0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0E1B-AEA2-4C1C-8EA8-4E4D827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26F6-6C71-414A-A4DF-4FD5849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D679-EBFF-4504-BE13-E185023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45BC-D85B-43DE-808D-2287898C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3AA-81C2-400A-A195-E186DA8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532DC-A57A-4448-BFB5-2341BEA2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1A85-00C1-4B06-B0A2-F20F2FD5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55A4-CEF8-42B6-865A-7B7ABC83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AE23-405E-49B7-A520-5D8AAF2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8DB1-ECC3-4971-A1AB-961F0CA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1988-E543-4EC7-839A-C6704AC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8127-3FA0-4B72-B44D-D22B568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7C22F-88E8-4201-A400-7738731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D78F-5671-4C41-9345-5406C41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6E884-38D2-4303-AA2F-1E1A370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490-9A2D-43DD-937C-F4D0BAB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B276-BD67-4494-8A4B-9C9EA8D7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A78E-28D0-4117-9E34-4DCDBBC6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2C19-BFE0-4E5D-B20A-6C324225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5EFFF-D9C6-4AE3-8408-2403F8B7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B252-8D71-493C-8A8A-D45B1E5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B398-BB70-4237-B84C-BEF92600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99941-F0DC-4163-A064-8C42578C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9F73C-AE08-47A5-BD80-0A2177DE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9F7A-2304-4814-BD3B-9FDDE67A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87261-F93D-43A3-BAB8-91C0A19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92C-09EB-4EE5-934F-CF267C8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B329E-413F-4B00-BB89-9B07FB1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0A4BB-0179-4A93-9FE3-C35D4907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07284-B84A-4D81-9CC3-A22A921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FCEC-51B0-4030-A035-4B773DAF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977E1-B0DD-487A-A0F7-3E25EA14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B33D-53EF-4B1A-9906-E340703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C1A8C-7A6B-4908-A5D4-0F578C1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A18A1-CCA9-4EED-85F7-9EBE89C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7C54B-53B7-48BE-AA45-A38441A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8D828-B9D8-431E-BF48-ED091D4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E41-1BFA-455A-A0F5-FBCFD2E2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AAEB-78F6-4E1C-B7A6-E061B78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F2024-BBB1-44BC-8E76-238A26F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D833-FE25-40E6-8BCC-E3940B9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D94F5-EB9F-4A0C-B7C5-70E55AF2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563F-A646-436D-B2CA-888EDDD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9FFB-B52E-4011-BD2A-78084E25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71F8-0802-49AD-850C-CE5BDD4B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32F8E-D7AD-4D0F-A61C-C8521C40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37111-6E01-476B-BAAC-205B048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4F96A-1087-445F-9314-E6CF68F1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357-5855-4389-9CC1-565D865703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DB53-22A4-44CD-A627-F46D2BF446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B2D-8333-4608-A402-AE0E599E9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AD4-4A1C-48D5-9608-E7270C4C5F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40E6-0CD8-4288-9AB5-7088FBC642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92F-55C0-48B8-B9E9-001CE3EA1D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74B-A469-4A42-B32C-52A7D5FA3C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DD3C-5C7F-489A-8D32-EA7D1667B7C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FECC-5010-4C2D-B79C-FFD5573D404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35FD-ACD1-4A50-A9AA-138052BB79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96EE-C2DF-4442-9F66-457AD7E393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7D3-D877-4F4B-8800-EF7F1DFFCA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055-4326-4216-BED7-A19D24EA91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0287-FD06-4E42-8B88-3519AA3E6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C383-D609-42D7-8553-B2E6128497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BF8-FF0E-4142-9ABD-50C636A0C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DBD-A51D-44B9-85F5-E691B56AE5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8560" y="1910880"/>
            <a:ext cx="82105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 Rounded MT Bold"/>
              </a:rPr>
              <a:t>远离毒品    珍爱生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9" name="文本框 3"/>
          <p:cNvSpPr/>
          <p:nvPr/>
        </p:nvSpPr>
        <p:spPr>
          <a:xfrm>
            <a:off x="1230480" y="403848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嘉鱼县高铁中学     李新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39640" y="1413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是一款名为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阿拉伯茶”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新型毒品，学名叫恰特草，也常被称为“巧茶”，被认为是软性毒品。新鲜的时候就像苋菜，但与苋菜有一个区别就是它的茎都是红的，叶子比苋菜更显得苗条一点，而在晒干之后，“阿拉伯茶”看上去就与茶叶非常像，很有迷惑性，但口感苦涩。无论是生吃还是晒干磨粉冲服，效果与海洛因极似，毒效惊人且成瘾性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3" descr="9e9ba87c-3e2f-40d4-9c06-95da2c7207f2"/>
          <p:cNvPicPr/>
          <p:nvPr/>
        </p:nvPicPr>
        <p:blipFill>
          <a:blip r:embed="rId1"/>
          <a:stretch/>
        </p:blipFill>
        <p:spPr>
          <a:xfrm>
            <a:off x="4716360" y="1341360"/>
            <a:ext cx="388620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17520" y="1392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Rounded MT Bold"/>
              </a:rPr>
              <a:t>毒品的危害有哪些呢？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5" descr="154011op294xwgzwrbrirr"/>
          <p:cNvPicPr/>
          <p:nvPr/>
        </p:nvPicPr>
        <p:blipFill>
          <a:blip r:embed="rId1"/>
          <a:stretch/>
        </p:blipFill>
        <p:spPr>
          <a:xfrm>
            <a:off x="4635360" y="3860640"/>
            <a:ext cx="4329360" cy="28782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U5321P1433DT20120913104533"/>
          <p:cNvPicPr/>
          <p:nvPr/>
        </p:nvPicPr>
        <p:blipFill>
          <a:blip r:embed="rId2"/>
          <a:stretch/>
        </p:blipFill>
        <p:spPr>
          <a:xfrm>
            <a:off x="179280" y="386064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1523000gmrrdszg0l8xpg8"/>
          <p:cNvPicPr/>
          <p:nvPr/>
        </p:nvPicPr>
        <p:blipFill>
          <a:blip r:embed="rId3"/>
          <a:stretch/>
        </p:blipFill>
        <p:spPr>
          <a:xfrm>
            <a:off x="4643280" y="1125360"/>
            <a:ext cx="4318200" cy="26607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3" descr="917045474123797434"/>
          <p:cNvPicPr/>
          <p:nvPr/>
        </p:nvPicPr>
        <p:blipFill>
          <a:blip r:embed="rId4"/>
          <a:stretch/>
        </p:blipFill>
        <p:spPr>
          <a:xfrm>
            <a:off x="179280" y="1125360"/>
            <a:ext cx="4318200" cy="26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10" descr="002511f36021133487cb15"/>
          <p:cNvPicPr/>
          <p:nvPr/>
        </p:nvPicPr>
        <p:blipFill>
          <a:blip r:embed="rId1"/>
          <a:stretch/>
        </p:blipFill>
        <p:spPr>
          <a:xfrm>
            <a:off x="611280" y="1197000"/>
            <a:ext cx="3963960" cy="26366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3" descr="83924775"/>
          <p:cNvPicPr/>
          <p:nvPr/>
        </p:nvPicPr>
        <p:blipFill>
          <a:blip r:embed="rId2"/>
          <a:stretch/>
        </p:blipFill>
        <p:spPr>
          <a:xfrm>
            <a:off x="4932360" y="4076640"/>
            <a:ext cx="3956040" cy="25369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2" descr="002511f36021133487d11c"/>
          <p:cNvPicPr/>
          <p:nvPr/>
        </p:nvPicPr>
        <p:blipFill>
          <a:blip r:embed="rId3"/>
          <a:stretch/>
        </p:blipFill>
        <p:spPr>
          <a:xfrm>
            <a:off x="611280" y="4005360"/>
            <a:ext cx="3963960" cy="26366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1" descr="0025116acb57119182645a"/>
          <p:cNvPicPr/>
          <p:nvPr/>
        </p:nvPicPr>
        <p:blipFill>
          <a:blip r:embed="rId4"/>
          <a:stretch/>
        </p:blipFill>
        <p:spPr>
          <a:xfrm>
            <a:off x="4932360" y="1268280"/>
            <a:ext cx="3956040" cy="253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166680" y="8424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二、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  <a:ea typeface="方正小标宋简体"/>
              </a:rPr>
              <a:t>毒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"/>
          <p:cNvSpPr/>
          <p:nvPr/>
        </p:nvSpPr>
        <p:spPr>
          <a:xfrm>
            <a:off x="166680" y="976320"/>
            <a:ext cx="84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长期吸食毒品会成瘾，对人体神经系统免疫系统产生危害，如嗜睡、感觉迟钝、运动失调、幻觉、妄想，而且易感染乙型肝炎、艾滋病等疾病。如果服用过量，则可直接导致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当突然终止吸毒时，就会出现不安、焦虑、忽冷忽热、起鸡皮疙瘩、流泪、流涕、出汗、恶心、呕吐、腹痛、腹泻等症状。吸毒者为避免这种痛苦而千方百计地维持吸毒状态。许多吸毒者在没有经济来源购毒、吸毒的情况下，或死于严重的并发症，或由于痛苦难忍而自杀身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492360" y="3716280"/>
            <a:ext cx="230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祸及家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3419640" y="2565360"/>
            <a:ext cx="244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毁灭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"/>
          <p:cNvSpPr/>
          <p:nvPr/>
        </p:nvSpPr>
        <p:spPr>
          <a:xfrm>
            <a:off x="3492360" y="4869000"/>
            <a:ext cx="2303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危害社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矩形 556035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5897520" cy="10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971640" y="4365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毒品摧毁的不但是人的肉体，也是人的意志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每年的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6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6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联合国确定的国际禁毒日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3" descr="9a0428381f30e924a149cf754c086e061c95f795"/>
          <p:cNvPicPr/>
          <p:nvPr/>
        </p:nvPicPr>
        <p:blipFill>
          <a:blip r:embed="rId1"/>
          <a:stretch/>
        </p:blipFill>
        <p:spPr>
          <a:xfrm>
            <a:off x="1403280" y="741240"/>
            <a:ext cx="4805280" cy="3216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4dae0cf431adcbef07d82d42acaf2edda2cc9f96"/>
          <p:cNvPicPr/>
          <p:nvPr/>
        </p:nvPicPr>
        <p:blipFill>
          <a:blip r:embed="rId2"/>
          <a:stretch/>
        </p:blipFill>
        <p:spPr>
          <a:xfrm>
            <a:off x="5076720" y="2060640"/>
            <a:ext cx="310680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57200" y="1409760"/>
            <a:ext cx="822960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案例一</a:t>
            </a:r>
            <a:r>
              <a:rPr b="0" lang="zh-CN" sz="1400" spc="-1" strike="noStrike">
                <a:solidFill>
                  <a:srgbClr val="000000"/>
                </a:solidFill>
                <a:latin typeface="Arial Rounded MT Bold"/>
              </a:rPr>
              <a:t>:    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日，广西灌阳县的一名初中一年级的学生，因为吸食毒品而死亡。死亡的学生名叫陈桥，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14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岁，在桂林市灌阳县民族中学读初中一年级，事发当天中午，陈桥从学校回到家中，当时他坐在客厅沙发上，陈桥的母亲在厨房里忙乎着午饭，陈桥妈妈回忆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突然听到噗通的一声，孩子从沙发上面掉在了地上，看到他脚手都抽筋了，我马上跑出来把他扶在沙发上。”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当时陈桥口吐白沫倒在地上，四肢抽搐，神志不清，家人赶紧拨打了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120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急救电话。医生诊断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:“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吸毒过量。”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经过几个小时的抢救，也没能留住陈桥的生命。同时灌阳县公安局民警也来到医院为陈桥做了尿检，证明他曾吸食毒品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粉，医院也认定陈桥是过量吸食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粉而导致呼吸循环衰竭，最终死亡的。这是灌阳县第一例未成年人的一个吸毒死亡的案例。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案例二</a:t>
            </a:r>
            <a:r>
              <a:rPr b="0" lang="zh-CN" sz="1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小敏因家境贫寒，初中毕业后，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岁的她便来汕头打工，并认识了男友小李，在交往一年多后，小敏发现小李是名“道友”，每次赚的钱都被小李“借”去吸毒，小敏多次劝小李“改邪归正”，但不管怎么劝说，小李却始终无法戒除毒瘾。为了用自己的“行动”来劝说男友戒毒，小敏竟然想用“先吸后戒”的办法来证明毒瘾是可以戒掉的，想要以活生生的例子说服男友彻底戒毒……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然而，小敏失败了，她非但没有帮着男友戒去毒瘾，自己也陷了进去。此时，她方悔不该当初，但“白色幽灵”已牢牢擒住了她。今年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 Rounded MT Bold"/>
              </a:rPr>
              <a:t>月初，她和男友先后进了戒毒所……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314280" y="14436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我国禁毒工作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793800" y="1258920"/>
            <a:ext cx="755496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前，我们全国统计在册的吸毒人员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少年占整体吸毒人群的比例已经超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少年吸食冰毒、摇头丸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粉等合成毒品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北省登记在册的吸毒人员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多人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01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506520" y="115416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小标宋简体"/>
              </a:rPr>
              <a:t>青少年吸毒的原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98280" y="12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三、青少年如何做好毒品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506520" y="2286000"/>
            <a:ext cx="81072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毒品的认知能力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不正当的好奇心驱使下涉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交友不慎被拉下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承受压力和挫折的意志力不强而希望在吸毒中寻求解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0" descr="11664993_142016399173_2"/>
          <p:cNvPicPr/>
          <p:nvPr/>
        </p:nvPicPr>
        <p:blipFill>
          <a:blip r:embed="rId1"/>
          <a:stretch/>
        </p:blipFill>
        <p:spPr>
          <a:xfrm>
            <a:off x="5219640" y="162864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0" descr="021032664"/>
          <p:cNvPicPr/>
          <p:nvPr/>
        </p:nvPicPr>
        <p:blipFill>
          <a:blip r:embed="rId1"/>
          <a:stretch/>
        </p:blipFill>
        <p:spPr>
          <a:xfrm>
            <a:off x="4643280" y="393552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3" descr="020120086"/>
          <p:cNvPicPr/>
          <p:nvPr/>
        </p:nvPicPr>
        <p:blipFill>
          <a:blip r:embed="rId2"/>
          <a:stretch/>
        </p:blipFill>
        <p:spPr>
          <a:xfrm>
            <a:off x="179280" y="393552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020118758"/>
          <p:cNvPicPr/>
          <p:nvPr/>
        </p:nvPicPr>
        <p:blipFill>
          <a:blip r:embed="rId3"/>
          <a:stretch/>
        </p:blipFill>
        <p:spPr>
          <a:xfrm>
            <a:off x="179280" y="1125360"/>
            <a:ext cx="4318200" cy="2660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5" descr="020123289"/>
          <p:cNvPicPr/>
          <p:nvPr/>
        </p:nvPicPr>
        <p:blipFill>
          <a:blip r:embed="rId4"/>
          <a:stretch/>
        </p:blipFill>
        <p:spPr>
          <a:xfrm>
            <a:off x="4643280" y="1125360"/>
            <a:ext cx="4318200" cy="26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460802" descr="试一试"/>
          <p:cNvPicPr/>
          <p:nvPr/>
        </p:nvPicPr>
        <p:blipFill>
          <a:blip r:embed="rId1"/>
          <a:srcRect l="13464" t="7216" r="5703" b="0"/>
          <a:stretch/>
        </p:blipFill>
        <p:spPr>
          <a:xfrm>
            <a:off x="4648320" y="1420920"/>
            <a:ext cx="4267080" cy="495756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460803" descr="毒贩子"/>
          <p:cNvPicPr/>
          <p:nvPr/>
        </p:nvPicPr>
        <p:blipFill>
          <a:blip r:embed="rId2"/>
          <a:srcRect l="8605" t="14611" r="6901" b="9720"/>
          <a:stretch/>
        </p:blipFill>
        <p:spPr>
          <a:xfrm>
            <a:off x="533520" y="1228680"/>
            <a:ext cx="41148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461826" descr="赶时"/>
          <p:cNvPicPr/>
          <p:nvPr/>
        </p:nvPicPr>
        <p:blipFill>
          <a:blip r:embed="rId1"/>
          <a:srcRect l="11338" t="16352" r="5264" b="0"/>
          <a:stretch/>
        </p:blipFill>
        <p:spPr>
          <a:xfrm>
            <a:off x="873000" y="880920"/>
            <a:ext cx="6789960" cy="584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矩形 460801"/>
          <p:cNvSpPr/>
          <p:nvPr/>
        </p:nvSpPr>
        <p:spPr>
          <a:xfrm>
            <a:off x="254160" y="1366920"/>
            <a:ext cx="85532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友情特别提醒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把握好奇心，抑制不良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好奇是我们青少年的共同特点，对于没有体验的东西，总有一种跃跃欲试的愿望，但是，一定要明辨是非，把握好奇心。面对毒品，一定要态度鲜明，千万不要心存侥幸，以好奇为由去尝试，自觉抑制不良诱惑，千万不要吸                                              食第一口。　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图片 459778" descr="挫折和困难"/>
          <p:cNvPicPr/>
          <p:nvPr/>
        </p:nvPicPr>
        <p:blipFill>
          <a:blip r:embed="rId1"/>
          <a:srcRect l="15353" t="16209" r="3543" b="0"/>
          <a:stretch/>
        </p:blipFill>
        <p:spPr>
          <a:xfrm>
            <a:off x="901800" y="1214280"/>
            <a:ext cx="6943680" cy="520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459777"/>
          <p:cNvSpPr/>
          <p:nvPr/>
        </p:nvSpPr>
        <p:spPr>
          <a:xfrm>
            <a:off x="533520" y="91440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友情特别提醒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对待挫折和困难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 假如，我们在学习、生活中遇到了像考试成绩不尽人意、和朋友吵架、家庭生活遇到困难等，要知道这都是正常的，要正确对待。遇到这类情况时，我们可以试着和父母、老师、同伴沟通，或者听听自己喜欢的音乐，参加自己喜欢的体育活动等，要分散自己的注意力，排解烦恼，绝对不要用毒品来麻醉自己，逃避现实，回避困难。当别人用毒品来引诱我们、安慰我们时，一定要意志坚定，坚决拒绝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请相信：挫折和困难是暂时的，战胜挫折和困难是宝贵的人生财富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461825"/>
          <p:cNvSpPr/>
          <p:nvPr/>
        </p:nvSpPr>
        <p:spPr>
          <a:xfrm>
            <a:off x="533520" y="623880"/>
            <a:ext cx="830556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记住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论是哪一种毒品，危害都很大，对我们个人的身心健康、对家庭、对社会都会造成严重的破坏。所以，无论什么毒品，我们都不要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535553"/>
          <p:cNvSpPr/>
          <p:nvPr/>
        </p:nvSpPr>
        <p:spPr>
          <a:xfrm>
            <a:off x="946080" y="4005360"/>
            <a:ext cx="651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务必知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戒毒有多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国际上戒毒二次复吸率达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9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758880" y="1147680"/>
            <a:ext cx="6657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怎样做到远离毒品 ？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900000" y="2421000"/>
            <a:ext cx="7488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时刻牢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朝吸毒，终生难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时不慎，痛悔一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   忠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对诱惑要增强自控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慎重交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涉足公共娱乐场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相信毒品瘦身、治病的诺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困难和挫折面前要自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9" descr="6159252dd42a2834d64573f35ab5c9ea14cebf63"/>
          <p:cNvPicPr/>
          <p:nvPr/>
        </p:nvPicPr>
        <p:blipFill>
          <a:blip r:embed="rId1"/>
          <a:stretch/>
        </p:blipFill>
        <p:spPr>
          <a:xfrm>
            <a:off x="5580000" y="3573360"/>
            <a:ext cx="2879640" cy="28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3520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远离毒品，珍爱生命”，对每一个人而言，这决不仅仅是一句简单的口号。无论是出于主观还是客观，有些路，永远不能走；有的错，永远都不能犯！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0" y="-158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心灵寄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758880" y="1147680"/>
            <a:ext cx="6657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"/>
          <p:cNvSpPr/>
          <p:nvPr/>
        </p:nvSpPr>
        <p:spPr>
          <a:xfrm>
            <a:off x="619200" y="1511280"/>
            <a:ext cx="75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7760" y="1414440"/>
            <a:ext cx="44672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 Rounded MT Bold"/>
                <a:ea typeface="方正小标宋简体"/>
              </a:rPr>
              <a:t>（一）什么是毒品？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84549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华人民共和国禁毒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二条规定：毒品，是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鸦片、海洛因、甲基苯丙胺（冰毒）、吗啡、大麻、可卡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以及国家规定管制的其他能够使人形成瘾癖的麻醉药品和精神药品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88920" y="-114480"/>
            <a:ext cx="800100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一、毒品基本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17520" y="1392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Rounded MT Bold"/>
              </a:rPr>
              <a:t>毒品的种类有哪些呢？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79" name="Picture 2" descr="鸦片"/>
          <p:cNvPicPr/>
          <p:nvPr/>
        </p:nvPicPr>
        <p:blipFill>
          <a:blip r:embed="rId1"/>
          <a:stretch/>
        </p:blipFill>
        <p:spPr>
          <a:xfrm>
            <a:off x="900000" y="1197000"/>
            <a:ext cx="3800520" cy="227952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"/>
          <p:cNvSpPr/>
          <p:nvPr/>
        </p:nvSpPr>
        <p:spPr>
          <a:xfrm>
            <a:off x="4932360" y="1052640"/>
            <a:ext cx="39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鸦片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俗称大烟，是罂粟果实中流出的乳液经干燥凝结而成。呈黑色或褐色，味苦。吸食者初吸时会感到头晕目眩、恶心或头痛，多次吸食就会上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可卡因"/>
          <p:cNvPicPr/>
          <p:nvPr/>
        </p:nvPicPr>
        <p:blipFill>
          <a:blip r:embed="rId2"/>
          <a:stretch/>
        </p:blipFill>
        <p:spPr>
          <a:xfrm>
            <a:off x="4191120" y="3733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826920" y="378936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可卡因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呈白色晶状，吸食后表现出情绪高涨、好动、健谈，有时还有攻击倾向，具有很强的成瘾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84" name="Picture 2" descr="海洛因"/>
          <p:cNvPicPr/>
          <p:nvPr/>
        </p:nvPicPr>
        <p:blipFill>
          <a:blip r:embed="rId1"/>
          <a:stretch/>
        </p:blipFill>
        <p:spPr>
          <a:xfrm>
            <a:off x="4572000" y="966960"/>
            <a:ext cx="4140360" cy="26352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3"/>
          <p:cNvSpPr/>
          <p:nvPr/>
        </p:nvSpPr>
        <p:spPr>
          <a:xfrm>
            <a:off x="611280" y="105264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洛因：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化学名称“二乙酰吗啡”，俗称白粉。成瘾快，极难戒断。其被称为世界毒品之王，是我国目前监控、查禁的最重要的毒品之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4" descr="吗啡"/>
          <p:cNvPicPr/>
          <p:nvPr/>
        </p:nvPicPr>
        <p:blipFill>
          <a:blip r:embed="rId2"/>
          <a:stretch/>
        </p:blipFill>
        <p:spPr>
          <a:xfrm>
            <a:off x="457200" y="3581280"/>
            <a:ext cx="4495680" cy="286884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5"/>
          <p:cNvSpPr/>
          <p:nvPr/>
        </p:nvSpPr>
        <p:spPr>
          <a:xfrm>
            <a:off x="51814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吗啡：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无色或白色结晶粉末状，具有镇痛、催眠、止咳、止泻等作用，吸食后会产生欣快感，比鸦片容易成瘾。长期使用会引起精神失常、谵妄和幻想，过量使用会导致呼吸衰竭而死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5" descr="200606250140_608994"/>
          <p:cNvPicPr/>
          <p:nvPr/>
        </p:nvPicPr>
        <p:blipFill>
          <a:blip r:embed="rId1"/>
          <a:stretch/>
        </p:blipFill>
        <p:spPr>
          <a:xfrm>
            <a:off x="5076720" y="4005360"/>
            <a:ext cx="3422880" cy="23572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3"/>
          <p:cNvSpPr/>
          <p:nvPr/>
        </p:nvSpPr>
        <p:spPr>
          <a:xfrm>
            <a:off x="826920" y="4365720"/>
            <a:ext cx="41767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摇头丸，冰毒的衍生物，具有兴奋和致幻双重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826920" y="1700280"/>
            <a:ext cx="4176720" cy="9471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毒即“甲基苯丙胺”，外观为纯白结晶体，故被称为“冰”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ce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6" descr="01300000181322121357952460511"/>
          <p:cNvPicPr/>
          <p:nvPr/>
        </p:nvPicPr>
        <p:blipFill>
          <a:blip r:embed="rId2"/>
          <a:stretch/>
        </p:blipFill>
        <p:spPr>
          <a:xfrm>
            <a:off x="5076720" y="1268280"/>
            <a:ext cx="3395880" cy="22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826920" y="1773360"/>
            <a:ext cx="4104000" cy="5205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粉，静脉全麻药，有时也可用作兽用麻醉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xinsrc_350603211109062292085"/>
          <p:cNvPicPr/>
          <p:nvPr/>
        </p:nvPicPr>
        <p:blipFill>
          <a:blip r:embed="rId1"/>
          <a:stretch/>
        </p:blipFill>
        <p:spPr>
          <a:xfrm>
            <a:off x="5219640" y="1125360"/>
            <a:ext cx="3311640" cy="227016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4"/>
          <p:cNvSpPr/>
          <p:nvPr/>
        </p:nvSpPr>
        <p:spPr>
          <a:xfrm>
            <a:off x="755640" y="4005360"/>
            <a:ext cx="2827440" cy="9471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咖啡因是化学合成或从茶叶、咖啡果中提炼出来的一种生物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5" descr="002564a4366012741b6434"/>
          <p:cNvPicPr/>
          <p:nvPr/>
        </p:nvPicPr>
        <p:blipFill>
          <a:blip r:embed="rId2"/>
          <a:stretch/>
        </p:blipFill>
        <p:spPr>
          <a:xfrm>
            <a:off x="3708360" y="3573360"/>
            <a:ext cx="496728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5"/>
          <p:cNvSpPr/>
          <p:nvPr/>
        </p:nvSpPr>
        <p:spPr>
          <a:xfrm>
            <a:off x="2050920" y="3646440"/>
            <a:ext cx="3096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"/>
          <p:cNvSpPr/>
          <p:nvPr/>
        </p:nvSpPr>
        <p:spPr>
          <a:xfrm>
            <a:off x="395280" y="1694880"/>
            <a:ext cx="4537080" cy="9471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酣乐欣，淡蓝色片，是一种强烈的麻醉药品，口服后可以迅速使人昏迷晕倒，故俗称迷药、蒙汗药、迷魂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" descr="20061014202132869"/>
          <p:cNvPicPr/>
          <p:nvPr/>
        </p:nvPicPr>
        <p:blipFill>
          <a:blip r:embed="rId1"/>
          <a:stretch/>
        </p:blipFill>
        <p:spPr>
          <a:xfrm>
            <a:off x="5003640" y="981000"/>
            <a:ext cx="3859200" cy="309564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5"/>
          <p:cNvSpPr/>
          <p:nvPr/>
        </p:nvSpPr>
        <p:spPr>
          <a:xfrm>
            <a:off x="4211640" y="465300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伪装成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橙汁跳跳糖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的新型毒品。这种毒品遇水即溶，即冲即饮，与各种饮品混合后口味都不发生变化，甚至香味都相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6" descr="跳跳糖"/>
          <p:cNvPicPr/>
          <p:nvPr/>
        </p:nvPicPr>
        <p:blipFill>
          <a:blip r:embed="rId2"/>
          <a:stretch/>
        </p:blipFill>
        <p:spPr>
          <a:xfrm>
            <a:off x="971640" y="3284640"/>
            <a:ext cx="30589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30:51Z</dcterms:created>
  <dc:creator>slybyc</dc:creator>
  <dc:description/>
  <dc:language>en-US</dc:language>
  <cp:lastModifiedBy>Administrator</cp:lastModifiedBy>
  <dcterms:modified xsi:type="dcterms:W3CDTF">2019-11-13T06:33:32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