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6ED-302C-408F-9052-C4A84D21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FE8-9377-48B6-9B97-D5137783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0E0-BFE7-483E-A843-20BA624B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86E-01E6-41E1-A55E-0546D163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E77-1B65-4CED-BAE5-0B181F2D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238-6DA4-4992-BD86-08826B04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299-03E4-46CF-97AD-642DE5D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E88-D2F2-4E43-AF4D-9C600C6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0DA-6A08-40F5-8423-87048EFA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B45-9D98-4F2F-B4AE-6EDD0C95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8D8-90AD-44BF-9CF7-4A72E5F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C0A-C127-4FCA-AEE7-763EF9CA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9ADA-BB1D-4FF2-92D9-D1E055D59C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3809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公安县斗湖堤小学    陈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3716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青少年禁毒教育宣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72960"/>
            <a:ext cx="853452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7252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583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038480" cy="581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1695600"/>
            <a:ext cx="814392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488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220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03848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4582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132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5345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7858080" cy="1542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229520" cy="1162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990720" y="4648320"/>
            <a:ext cx="71434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010120" cy="66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3059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162920" cy="559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1809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839080" cy="5151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467480" y="3124080"/>
            <a:ext cx="12765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867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924680" y="3048120"/>
            <a:ext cx="9525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5835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10080" y="2743200"/>
            <a:ext cx="752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848360" cy="5843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15200" y="2286000"/>
            <a:ext cx="925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286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696080" y="2971800"/>
            <a:ext cx="9907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4495680"/>
            <a:ext cx="759132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714840" cy="58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8305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839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17272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543800" cy="2038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543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620120" cy="197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7543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19440" cy="56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0866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8T10:13:50Z</dcterms:created>
  <dc:creator>Administrator</dc:creator>
  <dc:description/>
  <dc:language>en-US</dc:language>
  <cp:lastModifiedBy>Windows 用户</cp:lastModifiedBy>
  <dcterms:modified xsi:type="dcterms:W3CDTF">2019-10-30T00:48:1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