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50C-2E75-4059-B3A7-C16D01DB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83D-1A89-437E-AEF5-CA5F31F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5A4-8B4D-492C-BC00-D8E44661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87A-85BD-4BF5-BBF5-7A70D0FF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BB8-7691-4C3A-8B47-2F42E6D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948-3F2F-4EC6-B1EB-95E6F0E9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BB0-45FA-4F81-AE84-0A806E4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755-1C92-4679-86DD-CB6ED65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91A-05E1-4E20-AB33-3CE5DE3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4E8-C5EE-445C-8B27-98C1F88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557-5949-4F02-A5DB-7EF9B8E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4E0-F2A0-432F-8F05-52134FB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E964-20C9-4E4C-BB4B-695744D7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haodf.com/jibing/jingshenfenliezheng.ht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&#35753;&#25105;&#20204;&#21548;&#21548;.fl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8611" descr="33"/>
          <p:cNvPicPr/>
          <p:nvPr/>
        </p:nvPicPr>
        <p:blipFill>
          <a:blip r:embed="rId1"/>
          <a:stretch/>
        </p:blipFill>
        <p:spPr>
          <a:xfrm>
            <a:off x="15840" y="12600"/>
            <a:ext cx="9112320" cy="683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756720" cy="63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行楷"/>
              </a:rPr>
              <a:t>珍爱生命 拒绝毒品</a:t>
            </a:r>
            <a:br>
              <a:rPr sz="8000"/>
            </a:br>
            <a:br>
              <a:rPr sz="6600"/>
            </a:b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         执教者：嘉鱼县陆溪中学熊倩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518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卡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内容占位符 235522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6119640" cy="39319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35523" descr="200483174381"/>
          <p:cNvPicPr/>
          <p:nvPr/>
        </p:nvPicPr>
        <p:blipFill>
          <a:blip r:embed="rId2"/>
          <a:stretch/>
        </p:blipFill>
        <p:spPr>
          <a:xfrm>
            <a:off x="5796000" y="836640"/>
            <a:ext cx="3024000" cy="2857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35524"/>
          <p:cNvSpPr/>
          <p:nvPr/>
        </p:nvSpPr>
        <p:spPr>
          <a:xfrm>
            <a:off x="395280" y="1197000"/>
            <a:ext cx="5256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剂量使用可使呼吸、心血管和呕吐中枢兴奋，严重者可发生惊厥，最后由兴奋转为抑制，出现呼吸抑制，心衰，甚至死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杜冷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文本占位符 237570" descr="200483173329611"/>
          <p:cNvPicPr/>
          <p:nvPr/>
        </p:nvPicPr>
        <p:blipFill>
          <a:blip r:embed="rId1"/>
          <a:stretch/>
        </p:blipFill>
        <p:spPr>
          <a:xfrm>
            <a:off x="324000" y="1235160"/>
            <a:ext cx="8424720" cy="47862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237571"/>
          <p:cNvSpPr/>
          <p:nvPr/>
        </p:nvSpPr>
        <p:spPr>
          <a:xfrm>
            <a:off x="684360" y="6237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一种成镇痛药，长期使用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产生依赖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被列为严格管制的麻醉药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内容占位符 239618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239619"/>
          <p:cNvSpPr/>
          <p:nvPr/>
        </p:nvSpPr>
        <p:spPr>
          <a:xfrm>
            <a:off x="684360" y="5300640"/>
            <a:ext cx="8064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般人只要足量接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、三次即可上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是一种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危险的精神药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粉具有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很强的依赖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服用后会产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意识与感觉的分离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导致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神经中毒反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幻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精神分裂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状，同时对记忆和思维能力都造成严重损害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内容占位符 205826" descr="图片5"/>
          <p:cNvPicPr/>
          <p:nvPr/>
        </p:nvPicPr>
        <p:blipFill>
          <a:blip r:embed="rId1"/>
          <a:stretch/>
        </p:blipFill>
        <p:spPr>
          <a:xfrm>
            <a:off x="3276720" y="260280"/>
            <a:ext cx="1871640" cy="5857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205827"/>
          <p:cNvSpPr/>
          <p:nvPr/>
        </p:nvSpPr>
        <p:spPr>
          <a:xfrm>
            <a:off x="877680" y="1052640"/>
            <a:ext cx="23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 、吸毒摧残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05828"/>
          <p:cNvSpPr/>
          <p:nvPr/>
        </p:nvSpPr>
        <p:spPr>
          <a:xfrm>
            <a:off x="892800" y="177336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对身体的危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05829"/>
          <p:cNvSpPr/>
          <p:nvPr/>
        </p:nvSpPr>
        <p:spPr>
          <a:xfrm>
            <a:off x="395280" y="2367000"/>
            <a:ext cx="78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大脑病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近年来的研究证实，毒品能直接改变人脑中部分化学物质的结构破坏、扰乱人体正常的高级神经活动，有的甚至毒害、损伤神经组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05831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05833"/>
          <p:cNvSpPr/>
          <p:nvPr/>
        </p:nvSpPr>
        <p:spPr>
          <a:xfrm>
            <a:off x="250920" y="5270760"/>
            <a:ext cx="819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心脏病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毒品毒害人体重要的组织、器官、对循环系统的毒害表现为血压下降，心动过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内容占位符 206850" descr="瘦弱不堪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1550880"/>
          </a:xfrm>
          <a:prstGeom prst="rect">
            <a:avLst/>
          </a:prstGeom>
          <a:ln w="0">
            <a:noFill/>
          </a:ln>
        </p:spPr>
      </p:pic>
      <p:pic>
        <p:nvPicPr>
          <p:cNvPr id="84" name="内容占位符 206851" descr="传染疾病"/>
          <p:cNvPicPr/>
          <p:nvPr/>
        </p:nvPicPr>
        <p:blipFill>
          <a:blip r:embed="rId2"/>
          <a:stretch/>
        </p:blipFill>
        <p:spPr>
          <a:xfrm>
            <a:off x="6516720" y="2060640"/>
            <a:ext cx="2232000" cy="15066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6852"/>
          <p:cNvSpPr/>
          <p:nvPr/>
        </p:nvSpPr>
        <p:spPr>
          <a:xfrm>
            <a:off x="1329840" y="38880"/>
            <a:ext cx="38595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瘦弱不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吸毒者胃肠道平滑肌和括约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张力提高，蠕动减弱，出现消化和吸收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障碍，食欲不振，甚至完全丧失营养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入严重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06853"/>
          <p:cNvSpPr/>
          <p:nvPr/>
        </p:nvSpPr>
        <p:spPr>
          <a:xfrm>
            <a:off x="1400760" y="2492280"/>
            <a:ext cx="3859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传染疾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毒品破坏人体免疫机制，使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毒者极易感染各种疾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06854"/>
          <p:cNvSpPr/>
          <p:nvPr/>
        </p:nvSpPr>
        <p:spPr>
          <a:xfrm>
            <a:off x="1260720" y="4024440"/>
            <a:ext cx="41443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传播艾滋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吸毒者使用不洁的注射器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共用注射器造成人类免疫缺陷病毒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直接血液传播或通过性接触感染爱滋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内容占位符 206855" descr="传播艾滋病"/>
          <p:cNvPicPr/>
          <p:nvPr/>
        </p:nvPicPr>
        <p:blipFill>
          <a:blip r:embed="rId3"/>
          <a:stretch/>
        </p:blipFill>
        <p:spPr>
          <a:xfrm>
            <a:off x="6659640" y="3860640"/>
            <a:ext cx="201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2"/>
                            </p:stCondLst>
                            <p:childTnLst>
                              <p:par>
                                <p:cTn id="35" dur="indefinite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3"/>
                            </p:stCondLst>
                            <p:childTnLst>
                              <p:par>
                                <p:cTn id="4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207874" descr="自%20伤"/>
          <p:cNvPicPr/>
          <p:nvPr/>
        </p:nvPicPr>
        <p:blipFill>
          <a:blip r:embed="rId1"/>
          <a:stretch/>
        </p:blipFill>
        <p:spPr>
          <a:xfrm>
            <a:off x="6084720" y="620640"/>
            <a:ext cx="2735280" cy="2033640"/>
          </a:xfrm>
          <a:prstGeom prst="rect">
            <a:avLst/>
          </a:prstGeom>
          <a:ln w="0">
            <a:noFill/>
          </a:ln>
        </p:spPr>
      </p:pic>
      <p:pic>
        <p:nvPicPr>
          <p:cNvPr id="90" name="内容占位符 207875" descr="自%20杀"/>
          <p:cNvPicPr/>
          <p:nvPr/>
        </p:nvPicPr>
        <p:blipFill>
          <a:blip r:embed="rId2"/>
          <a:stretch/>
        </p:blipFill>
        <p:spPr>
          <a:xfrm>
            <a:off x="5867280" y="3500280"/>
            <a:ext cx="3059280" cy="299880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207876"/>
          <p:cNvSpPr/>
          <p:nvPr/>
        </p:nvSpPr>
        <p:spPr>
          <a:xfrm>
            <a:off x="957600" y="333360"/>
            <a:ext cx="23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 、吸毒摧残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07877"/>
          <p:cNvSpPr/>
          <p:nvPr/>
        </p:nvSpPr>
        <p:spPr>
          <a:xfrm>
            <a:off x="539640" y="11048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自伤、自杀、自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7878"/>
          <p:cNvSpPr/>
          <p:nvPr/>
        </p:nvSpPr>
        <p:spPr>
          <a:xfrm>
            <a:off x="1509120" y="1608120"/>
            <a:ext cx="33141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吸毒者难以忍受毒瘾发作的巨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痛苦，往往采取自残甚至自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式摆脱毒瘾的发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7879"/>
          <p:cNvSpPr/>
          <p:nvPr/>
        </p:nvSpPr>
        <p:spPr>
          <a:xfrm>
            <a:off x="6550560" y="2780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福州某男自伤左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07880"/>
          <p:cNvSpPr/>
          <p:nvPr/>
        </p:nvSpPr>
        <p:spPr>
          <a:xfrm>
            <a:off x="3492360" y="393372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郑州陈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毒瘾发作难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用牙刷插入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孔自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7881"/>
          <p:cNvSpPr/>
          <p:nvPr/>
        </p:nvSpPr>
        <p:spPr>
          <a:xfrm>
            <a:off x="1387440" y="61646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自 残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207882" descr="自%20残2"/>
          <p:cNvPicPr/>
          <p:nvPr/>
        </p:nvPicPr>
        <p:blipFill>
          <a:blip r:embed="rId3"/>
          <a:stretch/>
        </p:blipFill>
        <p:spPr>
          <a:xfrm>
            <a:off x="684360" y="3357720"/>
            <a:ext cx="2028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1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内容占位符 208898" descr="中央戏剧学院毕业的电影演员朱洁1997年因吸毒过量死亡，年仅28岁。"/>
          <p:cNvPicPr/>
          <p:nvPr/>
        </p:nvPicPr>
        <p:blipFill>
          <a:blip r:embed="rId1"/>
          <a:stretch/>
        </p:blipFill>
        <p:spPr>
          <a:xfrm>
            <a:off x="5724360" y="2852640"/>
            <a:ext cx="2700360" cy="22273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208899" descr="梁蓓丽，21岁，贵州人，一个聪慧、漂亮的女孩，染上毒瘾后，靠卖淫维持吸毒，因注射毒品过量死于南宁市街头。"/>
          <p:cNvPicPr/>
          <p:nvPr/>
        </p:nvPicPr>
        <p:blipFill>
          <a:blip r:embed="rId2"/>
          <a:stretch/>
        </p:blipFill>
        <p:spPr>
          <a:xfrm>
            <a:off x="468360" y="3068640"/>
            <a:ext cx="2036880" cy="3241800"/>
          </a:xfrm>
          <a:prstGeom prst="rect">
            <a:avLst/>
          </a:prstGeom>
          <a:ln w="0">
            <a:noFill/>
          </a:ln>
        </p:spPr>
      </p:pic>
      <p:sp>
        <p:nvSpPr>
          <p:cNvPr id="100" name="矩形 208900"/>
          <p:cNvSpPr/>
          <p:nvPr/>
        </p:nvSpPr>
        <p:spPr>
          <a:xfrm>
            <a:off x="797040" y="76428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加速死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08901"/>
          <p:cNvSpPr/>
          <p:nvPr/>
        </p:nvSpPr>
        <p:spPr>
          <a:xfrm>
            <a:off x="877320" y="115920"/>
            <a:ext cx="23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 、吸毒摧残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8902"/>
          <p:cNvSpPr/>
          <p:nvPr/>
        </p:nvSpPr>
        <p:spPr>
          <a:xfrm>
            <a:off x="2024640" y="1340640"/>
            <a:ext cx="519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加速死亡：吸毒者为满足毒瘾易造成吸食（注射）过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品导致呼吸中枢衰竭而死亡或毒品中混杂有毒、有害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出现过敏性休克及各种复杂的并发症，严重者导致死亡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08903"/>
          <p:cNvSpPr/>
          <p:nvPr/>
        </p:nvSpPr>
        <p:spPr>
          <a:xfrm>
            <a:off x="6084720" y="5299200"/>
            <a:ext cx="2259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中央戏剧学院毕业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电影演员朱洁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97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因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毒过量死亡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仅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岁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208904" descr="梁蓓丽死于南宁市街头"/>
          <p:cNvPicPr/>
          <p:nvPr/>
        </p:nvPicPr>
        <p:blipFill>
          <a:blip r:embed="rId3"/>
          <a:stretch/>
        </p:blipFill>
        <p:spPr>
          <a:xfrm>
            <a:off x="2771640" y="3068640"/>
            <a:ext cx="1905120" cy="140976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208905"/>
          <p:cNvGrpSpPr/>
          <p:nvPr/>
        </p:nvGrpSpPr>
        <p:grpSpPr>
          <a:xfrm>
            <a:off x="2627280" y="4581360"/>
            <a:ext cx="2736720" cy="1548000"/>
            <a:chOff x="2627280" y="4581360"/>
            <a:chExt cx="2736720" cy="1548000"/>
          </a:xfrm>
        </p:grpSpPr>
        <p:sp>
          <p:nvSpPr>
            <p:cNvPr id="106" name="矩形 208906"/>
            <p:cNvSpPr/>
            <p:nvPr/>
          </p:nvSpPr>
          <p:spPr>
            <a:xfrm>
              <a:off x="2627280" y="5792760"/>
              <a:ext cx="80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8907"/>
            <p:cNvSpPr/>
            <p:nvPr/>
          </p:nvSpPr>
          <p:spPr>
            <a:xfrm>
              <a:off x="2627280" y="4581360"/>
              <a:ext cx="27367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梁蓓丽，</a:t>
              </a:r>
              <a:r>
                <a:rPr b="1" lang="en-US" sz="1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1</a:t>
              </a:r>
              <a:r>
                <a:rPr b="1" lang="zh-CN" sz="1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岁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贵州人，一个聪慧、漂亮的女孩，染上毒瘾后，靠卖淫维持吸毒，因注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射毒品过量死于南宁市街头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1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09921"/>
          <p:cNvSpPr/>
          <p:nvPr/>
        </p:nvSpPr>
        <p:spPr>
          <a:xfrm>
            <a:off x="395280" y="3699000"/>
            <a:ext cx="554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倾家荡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吸毒的费用是个“无底洞”普遍的工资收入根本不能满足吸毒的需要。即使有一定的经济基础也只能维持一时。因为毒瘾永远不可能得到满足，结果只能是吸得一贫如洗、倾家荡产。很多吸毒者为满足毒瘾不惜遗弃老人、出卖子女，甚至胁迫妻女卖淫以获取毒资，直至妻离子散、家破人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内容占位符 209923" descr="图片5"/>
          <p:cNvPicPr/>
          <p:nvPr/>
        </p:nvPicPr>
        <p:blipFill>
          <a:blip r:embed="rId1"/>
          <a:stretch/>
        </p:blipFill>
        <p:spPr>
          <a:xfrm>
            <a:off x="3276720" y="260280"/>
            <a:ext cx="1871640" cy="585720"/>
          </a:xfrm>
          <a:prstGeom prst="rect">
            <a:avLst/>
          </a:prstGeom>
          <a:ln w="0">
            <a:noFill/>
          </a:ln>
        </p:spPr>
      </p:pic>
      <p:sp>
        <p:nvSpPr>
          <p:cNvPr id="110" name="矩形 209924"/>
          <p:cNvSpPr/>
          <p:nvPr/>
        </p:nvSpPr>
        <p:spPr>
          <a:xfrm>
            <a:off x="1332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9925"/>
          <p:cNvSpPr/>
          <p:nvPr/>
        </p:nvSpPr>
        <p:spPr>
          <a:xfrm>
            <a:off x="1870920" y="907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吸毒毁灭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09926"/>
          <p:cNvSpPr/>
          <p:nvPr/>
        </p:nvSpPr>
        <p:spPr>
          <a:xfrm>
            <a:off x="3570480" y="1556640"/>
            <a:ext cx="9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倾家荡产、妻离子散、家破人亡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09927"/>
          <p:cNvSpPr/>
          <p:nvPr/>
        </p:nvSpPr>
        <p:spPr>
          <a:xfrm>
            <a:off x="2406600" y="5875920"/>
            <a:ext cx="474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西宁市吸毒人员马某某夫妇二人因吸毒先后死亡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家中财产全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吸光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，留下两个不满十岁的小孩和年迈的母亲，生活苦不堪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内容占位符 209928" descr="倾家荡产"/>
          <p:cNvPicPr/>
          <p:nvPr/>
        </p:nvPicPr>
        <p:blipFill>
          <a:blip r:embed="rId2"/>
          <a:stretch/>
        </p:blipFill>
        <p:spPr>
          <a:xfrm>
            <a:off x="6084720" y="2276640"/>
            <a:ext cx="29880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11969"/>
          <p:cNvSpPr/>
          <p:nvPr/>
        </p:nvSpPr>
        <p:spPr>
          <a:xfrm>
            <a:off x="2010960" y="1123560"/>
            <a:ext cx="50713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吸毒对后代贻害无穷。或是母婴垂直传播成为爱滋病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害者，或是一出生就染上了毒瘾成为小小的“瘾君子”，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为了吸毒父母亲毒瘾发作时发泄的对象。“瘾君子们！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后代无辜啊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211971" descr="图片5"/>
          <p:cNvPicPr/>
          <p:nvPr/>
        </p:nvPicPr>
        <p:blipFill>
          <a:blip r:embed="rId1"/>
          <a:stretch/>
        </p:blipFill>
        <p:spPr>
          <a:xfrm>
            <a:off x="3419640" y="106200"/>
            <a:ext cx="1871640" cy="58608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211972" descr="南宁市一名妇女怀孕期间吸食毒品，胎儿在母体中深受其害，一出世就呈现窒息、痉挛状态，此后，母亲哺乳前必须吸食毒品，婴儿才肯进食，否则哭闹不止，严重危及生命。"/>
          <p:cNvPicPr/>
          <p:nvPr/>
        </p:nvPicPr>
        <p:blipFill>
          <a:blip r:embed="rId2"/>
          <a:stretch/>
        </p:blipFill>
        <p:spPr>
          <a:xfrm>
            <a:off x="6156360" y="2581200"/>
            <a:ext cx="2232000" cy="1495440"/>
          </a:xfrm>
          <a:prstGeom prst="rect">
            <a:avLst/>
          </a:prstGeom>
          <a:ln w="0">
            <a:noFill/>
          </a:ln>
        </p:spPr>
      </p:pic>
      <p:pic>
        <p:nvPicPr>
          <p:cNvPr id="118" name="内容占位符 211973" descr="广东某女生下“海洛因婴儿”。"/>
          <p:cNvPicPr/>
          <p:nvPr/>
        </p:nvPicPr>
        <p:blipFill>
          <a:blip r:embed="rId3"/>
          <a:stretch/>
        </p:blipFill>
        <p:spPr>
          <a:xfrm>
            <a:off x="755640" y="4076640"/>
            <a:ext cx="2808360" cy="19512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11974"/>
          <p:cNvSpPr/>
          <p:nvPr/>
        </p:nvSpPr>
        <p:spPr>
          <a:xfrm>
            <a:off x="1103400" y="5482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吸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贻害后代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11975"/>
          <p:cNvSpPr/>
          <p:nvPr/>
        </p:nvSpPr>
        <p:spPr>
          <a:xfrm>
            <a:off x="1541520" y="285264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南宁市一名妇女怀孕期间吸食毒品，胎儿在母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中深受其害，一出世就呈现窒息、痉挛状态，此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母亲哺乳前必须吸食毒品，婴儿才肯进食，否则哭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不止，严重危及生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11976"/>
          <p:cNvSpPr/>
          <p:nvPr/>
        </p:nvSpPr>
        <p:spPr>
          <a:xfrm>
            <a:off x="1199520" y="6165000"/>
            <a:ext cx="20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广东某女生下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海洛因婴儿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”。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11977"/>
          <p:cNvSpPr/>
          <p:nvPr/>
        </p:nvSpPr>
        <p:spPr>
          <a:xfrm>
            <a:off x="6951960" y="4437000"/>
            <a:ext cx="132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宁夏一对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妻吸毒败家，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岁的孩子托付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一名男子，孩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惨遭毒打。</a:t>
            </a:r>
            <a:r>
              <a:rPr b="0" lang="zh-CN" sz="1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内容占位符 211978" descr="宁夏一对夫妻吸毒败家，将5岁孩子托付给一名男子，孩子惨遭毒打"/>
          <p:cNvPicPr/>
          <p:nvPr/>
        </p:nvPicPr>
        <p:blipFill>
          <a:blip r:embed="rId4"/>
          <a:stretch/>
        </p:blipFill>
        <p:spPr>
          <a:xfrm>
            <a:off x="3851280" y="407664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124" name="动作按钮: 影片 211980"/>
          <p:cNvSpPr/>
          <p:nvPr/>
        </p:nvSpPr>
        <p:spPr>
          <a:xfrm>
            <a:off x="6877080" y="5950080"/>
            <a:ext cx="1655640" cy="907920"/>
          </a:xfrm>
          <a:custGeom>
            <a:avLst/>
            <a:gdLst>
              <a:gd name="textAreaLeft" fmla="*/ 58680 w 1655640"/>
              <a:gd name="textAreaRight" fmla="*/ 1596960 w 1655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7301"/>
                </a:moveTo>
                <a:lnTo>
                  <a:pt x="13598" y="7301"/>
                </a:lnTo>
                <a:lnTo>
                  <a:pt x="13981" y="7667"/>
                </a:lnTo>
                <a:lnTo>
                  <a:pt x="23190" y="7667"/>
                </a:lnTo>
                <a:lnTo>
                  <a:pt x="23747" y="8224"/>
                </a:lnTo>
                <a:lnTo>
                  <a:pt x="23747" y="8772"/>
                </a:lnTo>
                <a:lnTo>
                  <a:pt x="25592" y="8772"/>
                </a:lnTo>
                <a:lnTo>
                  <a:pt x="25958" y="8224"/>
                </a:lnTo>
                <a:lnTo>
                  <a:pt x="26697" y="8224"/>
                </a:lnTo>
                <a:lnTo>
                  <a:pt x="26697" y="13376"/>
                </a:lnTo>
                <a:lnTo>
                  <a:pt x="25958" y="13376"/>
                </a:lnTo>
                <a:lnTo>
                  <a:pt x="25592" y="12828"/>
                </a:lnTo>
                <a:lnTo>
                  <a:pt x="23747" y="12828"/>
                </a:lnTo>
                <a:lnTo>
                  <a:pt x="23747" y="14107"/>
                </a:lnTo>
                <a:lnTo>
                  <a:pt x="14164" y="14107"/>
                </a:lnTo>
                <a:lnTo>
                  <a:pt x="14164" y="9877"/>
                </a:lnTo>
                <a:lnTo>
                  <a:pt x="13981" y="9877"/>
                </a:lnTo>
                <a:lnTo>
                  <a:pt x="13598" y="10243"/>
                </a:lnTo>
                <a:lnTo>
                  <a:pt x="1268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有谁知道他（她）们为什么会吸毒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9100"/>
          <p:cNvPicPr/>
          <p:nvPr/>
        </p:nvPicPr>
        <p:blipFill>
          <a:blip r:embed="rId1"/>
          <a:stretch/>
        </p:blipFill>
        <p:spPr>
          <a:xfrm>
            <a:off x="179280" y="2421000"/>
            <a:ext cx="8964720" cy="4437000"/>
          </a:xfrm>
          <a:prstGeom prst="rect">
            <a:avLst/>
          </a:prstGeom>
          <a:ln w="0">
            <a:noFill/>
          </a:ln>
        </p:spPr>
      </p:pic>
      <p:sp>
        <p:nvSpPr>
          <p:cNvPr id="127" name="动作按钮: 影片 201735">
            <a:hlinkClick r:id="rId2"/>
          </p:cNvPr>
          <p:cNvSpPr/>
          <p:nvPr/>
        </p:nvSpPr>
        <p:spPr>
          <a:xfrm>
            <a:off x="795672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4703" y="7301"/>
                </a:moveTo>
                <a:lnTo>
                  <a:pt x="5616" y="7301"/>
                </a:lnTo>
                <a:lnTo>
                  <a:pt x="5999" y="7667"/>
                </a:lnTo>
                <a:lnTo>
                  <a:pt x="15208" y="7667"/>
                </a:lnTo>
                <a:lnTo>
                  <a:pt x="15765" y="8224"/>
                </a:lnTo>
                <a:lnTo>
                  <a:pt x="15765" y="8772"/>
                </a:lnTo>
                <a:lnTo>
                  <a:pt x="17610" y="8772"/>
                </a:lnTo>
                <a:lnTo>
                  <a:pt x="17976" y="8224"/>
                </a:lnTo>
                <a:lnTo>
                  <a:pt x="18715" y="8224"/>
                </a:lnTo>
                <a:lnTo>
                  <a:pt x="18715" y="13376"/>
                </a:lnTo>
                <a:lnTo>
                  <a:pt x="17976" y="13376"/>
                </a:lnTo>
                <a:lnTo>
                  <a:pt x="17610" y="12828"/>
                </a:lnTo>
                <a:lnTo>
                  <a:pt x="15765" y="12828"/>
                </a:lnTo>
                <a:lnTo>
                  <a:pt x="15765" y="14107"/>
                </a:lnTo>
                <a:lnTo>
                  <a:pt x="6182" y="14107"/>
                </a:lnTo>
                <a:lnTo>
                  <a:pt x="6182" y="9877"/>
                </a:lnTo>
                <a:lnTo>
                  <a:pt x="5999" y="9877"/>
                </a:lnTo>
                <a:lnTo>
                  <a:pt x="5616" y="10243"/>
                </a:lnTo>
                <a:lnTo>
                  <a:pt x="470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9880" y="-33840"/>
            <a:ext cx="866448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是什么害了他们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20161" descr="漫画5—绝路"/>
          <p:cNvPicPr/>
          <p:nvPr/>
        </p:nvPicPr>
        <p:blipFill>
          <a:blip r:embed="rId1"/>
          <a:stretch/>
        </p:blipFill>
        <p:spPr>
          <a:xfrm>
            <a:off x="4211640" y="476280"/>
            <a:ext cx="4751280" cy="5400720"/>
          </a:xfrm>
          <a:prstGeom prst="rect">
            <a:avLst/>
          </a:prstGeom>
          <a:ln w="0">
            <a:noFill/>
          </a:ln>
        </p:spPr>
      </p:pic>
      <p:sp>
        <p:nvSpPr>
          <p:cNvPr id="129" name="矩形 220162"/>
          <p:cNvSpPr/>
          <p:nvPr/>
        </p:nvSpPr>
        <p:spPr>
          <a:xfrm>
            <a:off x="5508720" y="5815080"/>
            <a:ext cx="266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漫画：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20163"/>
          <p:cNvSpPr/>
          <p:nvPr/>
        </p:nvSpPr>
        <p:spPr>
          <a:xfrm>
            <a:off x="1735920" y="184464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好奇心作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20165"/>
          <p:cNvSpPr/>
          <p:nvPr/>
        </p:nvSpPr>
        <p:spPr>
          <a:xfrm>
            <a:off x="395280" y="2421000"/>
            <a:ext cx="360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占第一位的原因就是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体会感觉”、“抽着玩玩”、“试一试”、“尝新鲜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种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试一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的念头往往就是走上吸毒不归路的开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20166"/>
          <p:cNvSpPr/>
          <p:nvPr/>
        </p:nvSpPr>
        <p:spPr>
          <a:xfrm>
            <a:off x="179280" y="5796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吸毒的主要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寻找刺激和对毒品无知。认为吸毒时髦、气派。误认为毒品能减肥，美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死爱面子。被激将而吸毒，导致吸毒后戒不了，特别是个性极强的人往往容易被“面子”所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因无知而被欺骗、引诱。不少吸毒者是在毫不知情的情况下被欺骗吸毒，几次后无法自拔。不少毒贩为扩大毒网，经常利用青年学生的无知多方引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青少年怎样防止吸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接受毒品基本知识和禁毒法律法规教育，了解毒品的危害，懂得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吸毒一口，掉入虎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树立正确的人生观，不盲目追求享受，寻求刺激，赶时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听信毒品能治病、毒品能解脱烦恼和痛苦、毒品能给人带来快乐等各种花言巧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不结交有吸毒、贩毒行为的人。如果发现亲朋好友中有吸、贩毒行为的人，一要劝阻，二要远离，三要报告公安机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进歌舞厅要谨慎，决不吸食摇头丸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粉等兴奋剂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即使自己在不知情的情况下，被引诱、欺骗吸毒一次，也要珍惜自己的生命，不再吸第二次，更不要吸第三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直截了当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坚定直接地拒绝引诱：“吸毒会上瘾的，害人害己别害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金蝉脱壳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况若不许可。或者受到威逼利诱，可以借口婉转拒绝：“我，我肚子痛，我要去厕所。”然后溜之大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秘密报案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实在无法脱身，趁人不注意时，偷偷告诉你信赖的人，或者拨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及时告知家长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毒贩、毒友逼你吸毒并威胁你，不许你告诉家人老师，否则就要对你或家人下手时，一定不要被他们威吓住，要第一时间告诉你的师长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1075" descr="6"/>
          <p:cNvPicPr/>
          <p:nvPr/>
        </p:nvPicPr>
        <p:blipFill>
          <a:blip r:embed="rId1"/>
          <a:stretch/>
        </p:blipFill>
        <p:spPr>
          <a:xfrm>
            <a:off x="0" y="1700280"/>
            <a:ext cx="8893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动作按钮: 影片 131076"/>
          <p:cNvSpPr/>
          <p:nvPr/>
        </p:nvSpPr>
        <p:spPr>
          <a:xfrm>
            <a:off x="8101080" y="613872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7301"/>
                </a:moveTo>
                <a:lnTo>
                  <a:pt x="5799" y="7301"/>
                </a:lnTo>
                <a:lnTo>
                  <a:pt x="6182" y="7667"/>
                </a:lnTo>
                <a:lnTo>
                  <a:pt x="15390" y="7667"/>
                </a:lnTo>
                <a:lnTo>
                  <a:pt x="15947" y="8224"/>
                </a:lnTo>
                <a:lnTo>
                  <a:pt x="15947" y="8772"/>
                </a:lnTo>
                <a:lnTo>
                  <a:pt x="17792" y="8772"/>
                </a:lnTo>
                <a:lnTo>
                  <a:pt x="18158" y="8224"/>
                </a:lnTo>
                <a:lnTo>
                  <a:pt x="18898" y="8224"/>
                </a:lnTo>
                <a:lnTo>
                  <a:pt x="18898" y="13376"/>
                </a:lnTo>
                <a:lnTo>
                  <a:pt x="18158" y="13376"/>
                </a:lnTo>
                <a:lnTo>
                  <a:pt x="17792" y="12828"/>
                </a:lnTo>
                <a:lnTo>
                  <a:pt x="15947" y="12828"/>
                </a:lnTo>
                <a:lnTo>
                  <a:pt x="15947" y="14107"/>
                </a:lnTo>
                <a:lnTo>
                  <a:pt x="6364" y="14107"/>
                </a:lnTo>
                <a:lnTo>
                  <a:pt x="6364" y="9877"/>
                </a:lnTo>
                <a:lnTo>
                  <a:pt x="6182" y="9877"/>
                </a:lnTo>
                <a:lnTo>
                  <a:pt x="5799" y="10243"/>
                </a:lnTo>
                <a:lnTo>
                  <a:pt x="488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当有人向你提供毒品时，你会怎样做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毒品知识知多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7640" y="1412640"/>
            <a:ext cx="87850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什么是毒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华人民共和国刑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规定：毒品是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鸦片、海洛因、冰毒、吗啡、大麻、可卡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国家规定管制的其他能够使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成瘾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麻醉药品和精神药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罂粟和鸦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文本占位符 223234" descr="200483171927797"/>
          <p:cNvPicPr/>
          <p:nvPr/>
        </p:nvPicPr>
        <p:blipFill>
          <a:blip r:embed="rId1"/>
          <a:stretch/>
        </p:blipFill>
        <p:spPr>
          <a:xfrm>
            <a:off x="611280" y="155736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23235" descr="2004831725301"/>
          <p:cNvPicPr/>
          <p:nvPr/>
        </p:nvPicPr>
        <p:blipFill>
          <a:blip r:embed="rId2"/>
          <a:stretch/>
        </p:blipFill>
        <p:spPr>
          <a:xfrm>
            <a:off x="4427640" y="1989000"/>
            <a:ext cx="4103640" cy="27543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23236"/>
          <p:cNvSpPr/>
          <p:nvPr/>
        </p:nvSpPr>
        <p:spPr>
          <a:xfrm>
            <a:off x="4572000" y="5157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使人先天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免疫力丧失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极易患染各种疾病。吸食鸦片会成瘾，过量吸食鸦片可引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急性中毒而死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洛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毒品之王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俗称“白粉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文本占位符 225282" descr="22004091321202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39236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25283"/>
          <p:cNvSpPr/>
          <p:nvPr/>
        </p:nvSpPr>
        <p:spPr>
          <a:xfrm>
            <a:off x="755640" y="5734080"/>
            <a:ext cx="8064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吸食海洛因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大多数情况下都会使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理和心理上的依赖，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产生梦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象，长期使用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破坏人的免疫功能，传播艾滋病等疾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23018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冰  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文本占位符 227330" descr="20048318138811"/>
          <p:cNvPicPr/>
          <p:nvPr/>
        </p:nvPicPr>
        <p:blipFill>
          <a:blip r:embed="rId1"/>
          <a:stretch/>
        </p:blipFill>
        <p:spPr>
          <a:xfrm>
            <a:off x="4264200" y="549360"/>
            <a:ext cx="4824360" cy="46418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27331" descr="2004831813341"/>
          <p:cNvPicPr/>
          <p:nvPr/>
        </p:nvPicPr>
        <p:blipFill>
          <a:blip r:embed="rId2"/>
          <a:stretch/>
        </p:blipFill>
        <p:spPr>
          <a:xfrm>
            <a:off x="0" y="2057400"/>
            <a:ext cx="4264200" cy="31338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227332"/>
          <p:cNvSpPr/>
          <p:nvPr/>
        </p:nvSpPr>
        <p:spPr>
          <a:xfrm>
            <a:off x="468360" y="5445000"/>
            <a:ext cx="78487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吸食后会产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强烈的生理兴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能大量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消耗人的体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降低免疫功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严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损害心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大脑组织甚至导致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死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251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吗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文本占位符 229378" descr="200483174037423"/>
          <p:cNvPicPr/>
          <p:nvPr/>
        </p:nvPicPr>
        <p:blipFill>
          <a:blip r:embed="rId1"/>
          <a:stretch/>
        </p:blipFill>
        <p:spPr>
          <a:xfrm>
            <a:off x="357120" y="3419640"/>
            <a:ext cx="8185320" cy="34574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29379" descr="2004831741101"/>
          <p:cNvPicPr/>
          <p:nvPr/>
        </p:nvPicPr>
        <p:blipFill>
          <a:blip r:embed="rId2"/>
          <a:stretch/>
        </p:blipFill>
        <p:spPr>
          <a:xfrm>
            <a:off x="4734000" y="38160"/>
            <a:ext cx="4105080" cy="33814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229380"/>
          <p:cNvSpPr/>
          <p:nvPr/>
        </p:nvSpPr>
        <p:spPr>
          <a:xfrm>
            <a:off x="179280" y="1989000"/>
            <a:ext cx="4464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吗啡是鸦片中最主要的生物碱 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急性中毒回导致呼吸中枢麻痹、呼吸停止至死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摇头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文本占位符 231426" descr="200483173550480"/>
          <p:cNvPicPr/>
          <p:nvPr/>
        </p:nvPicPr>
        <p:blipFill>
          <a:blip r:embed="rId1"/>
          <a:stretch/>
        </p:blipFill>
        <p:spPr>
          <a:xfrm>
            <a:off x="684360" y="981000"/>
            <a:ext cx="7561080" cy="47196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31427"/>
          <p:cNvSpPr/>
          <p:nvPr/>
        </p:nvSpPr>
        <p:spPr>
          <a:xfrm>
            <a:off x="539640" y="5734080"/>
            <a:ext cx="77774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两三次即可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成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过量使用会产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急生中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严重时可产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生脑出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虚脱、昏迷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死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18160" y="475920"/>
            <a:ext cx="3238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文本占位符 233474" descr="200483188481"/>
          <p:cNvPicPr/>
          <p:nvPr/>
        </p:nvPicPr>
        <p:blipFill>
          <a:blip r:embed="rId1"/>
          <a:stretch/>
        </p:blipFill>
        <p:spPr>
          <a:xfrm>
            <a:off x="684360" y="620640"/>
            <a:ext cx="3081240" cy="5759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33475" descr="200483188482"/>
          <p:cNvPicPr/>
          <p:nvPr/>
        </p:nvPicPr>
        <p:blipFill>
          <a:blip r:embed="rId2"/>
          <a:stretch/>
        </p:blipFill>
        <p:spPr>
          <a:xfrm>
            <a:off x="4067280" y="2060640"/>
            <a:ext cx="4537080" cy="342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5:33:45Z</dcterms:created>
  <dc:creator>桥中四楼</dc:creator>
  <dc:description/>
  <dc:language>en-US</dc:language>
  <cp:lastModifiedBy>cai</cp:lastModifiedBy>
  <dcterms:modified xsi:type="dcterms:W3CDTF">2019-11-18T00:29:59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