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8.jpeg" ContentType="image/jpeg"/>
  <Override PartName="/ppt/media/image26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23.jpeg" ContentType="image/jpeg"/>
  <Override PartName="/ppt/media/image7.png" ContentType="image/png"/>
  <Override PartName="/ppt/media/image34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5.png" ContentType="image/png"/>
  <Override PartName="/ppt/media/image12.jpeg" ContentType="image/jpeg"/>
  <Override PartName="/ppt/media/image13.jpeg" ContentType="image/jpeg"/>
  <Override PartName="/ppt/media/image40.jpeg" ContentType="image/jpeg"/>
  <Override PartName="/ppt/media/image38.jpeg" ContentType="image/jpeg"/>
  <Override PartName="/ppt/media/image22.jpeg" ContentType="image/jpeg"/>
  <Override PartName="/ppt/media/image9.png" ContentType="image/pn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2.jpeg" ContentType="image/jpeg"/>
  <Override PartName="/ppt/media/image11.jpeg" ContentType="image/jpeg"/>
  <Override PartName="/ppt/media/image39.jpeg" ContentType="image/jpeg"/>
  <Override PartName="/ppt/media/image8.png" ContentType="image/png"/>
  <Override PartName="/ppt/media/image14.jpeg" ContentType="image/jpeg"/>
  <Override PartName="/ppt/media/image30.png" ContentType="image/png"/>
  <Override PartName="/ppt/media/image37.jpeg" ContentType="image/jpeg"/>
  <Override PartName="/ppt/media/image3.jpeg" ContentType="image/jpeg"/>
  <Override PartName="/ppt/media/image24.jpeg" ContentType="image/jpeg"/>
  <Override PartName="/ppt/media/image36.jpeg" ContentType="image/jpeg"/>
  <Override PartName="/ppt/media/image2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  <p:sldId id="273" r:id="rId33"/>
    <p:sldId id="274" r:id="rId34"/>
    <p:sldId id="275" r:id="rId35"/>
    <p:sldId id="276" r:id="rId36"/>
    <p:sldId id="277" r:id="rId37"/>
    <p:sldId id="278" r:id="rId38"/>
    <p:sldId id="279" r:id="rId39"/>
    <p:sldId id="280" r:id="rId40"/>
    <p:sldId id="281" r:id="rId41"/>
    <p:sldId id="282" r:id="rId42"/>
    <p:sldId id="283" r:id="rId43"/>
    <p:sldId id="284" r:id="rId44"/>
    <p:sldId id="285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slide" Target="slides/slide18.xml"/><Relationship Id="rId34" Type="http://schemas.openxmlformats.org/officeDocument/2006/relationships/slide" Target="slides/slide19.xml"/><Relationship Id="rId35" Type="http://schemas.openxmlformats.org/officeDocument/2006/relationships/slide" Target="slides/slide20.xml"/><Relationship Id="rId36" Type="http://schemas.openxmlformats.org/officeDocument/2006/relationships/slide" Target="slides/slide21.xml"/><Relationship Id="rId37" Type="http://schemas.openxmlformats.org/officeDocument/2006/relationships/slide" Target="slides/slide22.xml"/><Relationship Id="rId38" Type="http://schemas.openxmlformats.org/officeDocument/2006/relationships/slide" Target="slides/slide23.xml"/><Relationship Id="rId39" Type="http://schemas.openxmlformats.org/officeDocument/2006/relationships/slide" Target="slides/slide24.xml"/><Relationship Id="rId40" Type="http://schemas.openxmlformats.org/officeDocument/2006/relationships/slide" Target="slides/slide25.xml"/><Relationship Id="rId41" Type="http://schemas.openxmlformats.org/officeDocument/2006/relationships/slide" Target="slides/slide26.xml"/><Relationship Id="rId42" Type="http://schemas.openxmlformats.org/officeDocument/2006/relationships/slide" Target="slides/slide27.xml"/><Relationship Id="rId43" Type="http://schemas.openxmlformats.org/officeDocument/2006/relationships/slide" Target="slides/slide28.xml"/><Relationship Id="rId44" Type="http://schemas.openxmlformats.org/officeDocument/2006/relationships/slide" Target="slides/slide29.xml"/><Relationship Id="rId45" Type="http://schemas.openxmlformats.org/officeDocument/2006/relationships/slide" Target="slides/slide30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0C99E-B699-4E35-AB8B-83927ED290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D25D3-B9F2-4071-A618-9572732D7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FD56D4-3518-459B-88CC-9ED8743C8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5F0610-E88C-42AC-98EA-ECB49E35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41835B-5F57-424F-9FBD-9FB2080B1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6EF403-5B58-4D8E-BFCF-0E51A40A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37C198-3945-445C-B250-BD8AAD24E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7D5468-6222-4938-9AAE-3593CE8D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EA4149-4B12-47E2-85A7-C1559F80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D8C780-A659-4027-9BF5-24ECD813B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5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6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4AE609-1B94-4A8C-8E99-46CBB3AA7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B996480-DB2A-4786-9C86-EF57A0D9DB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74D4-B5A4-44E4-A4B0-9BEA42EB1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37335-E835-44CB-B387-936B06758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3E6E08-5178-489B-BDF4-52F8ED73A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776274-FE14-4332-B2A6-6AADADD3C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7753F1-EA33-4ED7-A524-A16387270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4BA4561-017F-4EF8-8108-649F217EA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5CA431-EE6F-4FCA-9EC4-B81A6E305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9DAE93-8D7A-4F1E-8CA0-194A5C6F8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7FACC0-A47D-4E56-A646-9A529D0A1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FB7415-1744-40E0-A7E5-1ADDFD9E74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E98FB-2903-436A-8472-271B41C697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28EF-B1EB-4F36-A864-CCA4C403A1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7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18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C8468F-A35C-413A-B66B-5328649B4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157F6B-429D-4F12-9E70-AE8144F47B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BF7D80-8ADE-44DB-8B86-EAB40B1D6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5BF825-2711-4356-98BE-7D6EADEB3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B8D861-7FC6-44CB-8A92-86EF1167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8B1825C-8102-4689-9558-0117A018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A4D3CE-BB87-4827-BB9A-B09C7A9EA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285FA4B-024D-46B0-88B8-C838A0748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72216A-AAC1-48C4-8D59-5E50EEC48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FC8CA2-2AA0-43ED-BC40-E681345A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5C206-28F5-4164-B61E-3A8905710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9DB538-D990-405F-8408-E12993329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C4A006A-A5C5-47C5-945F-9D3A7D498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59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0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7C86D8-66CC-45F7-B305-80A4A9BDD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5EE45AC-91A3-4C0F-9BB6-A64FE4E1D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95602A8-CBAF-4667-8BF5-78935890A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DC1CDD-02C2-44BA-BD3A-555024B2C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2372DC-13E2-4A72-A2A2-5C4C53B94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CD52352-33BA-4DCA-99A6-ADA1B454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249267-5795-4294-A7A2-16D97BF5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7B57AE-1D06-4DBA-9027-4A5D14BBC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B928D-86F7-4AF1-AB7A-0C7D38626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2352B7-9EFC-4351-A114-E78515F67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33F544-C462-4AC9-92E5-36CDC050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038E54-3D57-40DF-BFA9-D0AC0FA0F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14E0428-9F95-409B-8307-AFB23ADCAE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C1227C7-5577-455D-981B-A691AC2F0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67ACE2-377B-4E80-8277-0CB6DC54D5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D51FE8-536F-4CDE-9AD7-98174D3B3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5CF3D5-F190-4441-B1E7-9D7A782FE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7D8E80B-226F-4F1B-A487-40600F9AA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4D0298-7D70-4197-B689-95FA5A54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638F-D41E-40AC-AAE5-79964FE87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7E7745-F0E5-4D16-8EAB-DDCB7EB6D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88F2CF-C14F-45F4-894B-C35879F56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040AB3-103D-4781-A059-A97B2CBF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BAD807-3171-44D8-91F9-CB4BCC9FD2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5FAF1E-2F33-486E-9F11-4A00A717C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C06EA2-0310-4F27-8A47-630AED70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3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4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0605FD2-CE2A-45AB-9963-5348B4AF9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14460B-3424-40F7-A293-52CDD995B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3290C6D-BE35-4878-878D-6E22E2B20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D9BB09B-1C1D-49E6-9144-3408F1D2D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DFDAD-0A64-4852-A33F-D14DC5EEA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5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C6B2D0-BE2A-46D0-B8B6-4645287F6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B2149F3-365D-4EFB-A507-94B82EBA3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2E109C-D241-4587-AF6F-90B51EA6B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7E3F318-CC15-430E-B68C-8DAA7FFBB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F36658-56FB-4BF8-B0A8-E009D5A77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8B74349-035F-487A-BAEA-CB8F85A7D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7A3EB3-F13C-4309-883E-EEBA7EB6E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8FF12BB-9F41-4C3F-93CD-49AB30E4B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4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5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020F0B-21BA-426D-BF2F-6795ED901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329B9-B2E7-445F-9F90-6AD0D6672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79039-581D-4691-9029-0330429A2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3DF64-EC6D-4301-8678-6C2DF1D6A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60A7-3ADF-4CB3-BFA1-2CE86B9B3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2957D-62EB-4AC8-AB82-B3755B5FB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5C7A9-0F59-4B37-A9C9-06B1546A6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A9DD3A-7F5C-410A-9D26-063358C5FB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8B08E0-210C-437C-8B76-D9D701225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589DF-9CD4-47F4-BDF3-EC948DC7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F887D5-B919-4C4A-9F02-C2AA4B11F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AECCF3-01F6-400E-800D-C75200D08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99650B-FD9D-4BD5-9B3D-3D2A487B3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D848B0-D911-4C09-85FA-95E2F0FAA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4763DA-E0F7-4CAC-979C-871205A4A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9056-0C9E-4D1E-80B8-E7E708477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0DC5B4-C88B-44E6-8D7B-46311A887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7C1F11-EAFA-41FA-9411-E1254DCE6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D5B222-7403-4378-B7D4-DEEE9F4C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E5AD2F-D653-4E11-8B78-50F31DF37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67822F-BD07-4AE0-B07F-E605CF61C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1A75C2-B7D1-49F7-87BC-0241BE54F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95D49E-91BF-4688-9BE7-7DD02D1C97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01E8A4-6AF2-405E-B1F0-B39D3CD27B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BD4FCB-C27C-4D51-8DCA-3B32B7D27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79DD2D-04B2-4B42-A55B-6EB139A46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CBB41-5E3E-4C37-84DB-DB0F6E9DD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F04940-B7BD-4DF4-A533-D289C52E4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7332C0-0B20-4EEA-ACFE-510FACE54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BAC808-AFAE-4F80-8024-EDAF0BA1E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22C14E7-9792-4FA0-A088-DF12C0A33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D85E43-A24C-462C-A05D-4BD1BAF7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2EB0D7-6550-49FB-BC9B-5618A683E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A260176-0EDC-4FE3-B214-0BE64EA45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963355-97AA-4F3C-A363-5A6F1CCF4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4BD35-AB30-4B17-9D7A-16AB857A1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E1ABD7-195E-4A5D-BAFC-570346AA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3BBCF-40C0-4C04-87F9-778EACB0F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2D182-E6AB-42D7-B4E7-FC551F77D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4B238C-B07B-4DF1-B1CC-74D560453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5327502-FEBE-4E6C-8F88-24575C6EE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939711-32C2-4CDC-B44F-86066B561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234DA8-3426-4387-9461-53EFA3EFB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4821B9-7F94-4023-8D50-589D72E24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4E1EFB-28E5-4071-AD57-0FAEFF79A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4516D1-E779-45F1-8642-2285C556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75A6D8-538E-4E71-B2C4-BC08FA3FC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DDECC1-4A23-410A-AD80-678CCA1AA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9A81C-BE93-4C3F-AD2E-47AAA77D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16A71C-3F26-4A46-82D8-CB5298EEF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E33A426-3D87-48E6-8FE2-8D7A6174A8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8081A2-FFB3-420D-9F7B-B61E6E417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7996F6-7B8E-4013-A196-1721E252F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639C39E-09A0-40D3-ACB2-7AA86596F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373133-960B-4D2A-A5EF-E7131E8B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4F83EB-5988-4621-8951-1D8C9482F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ECFE3D-5827-45AB-812F-E669756C14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10741D0-6C88-4F4B-BA66-0194477E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4F834C-E1E4-4C83-BF46-6F600C21D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4A39-0558-47D2-AC3E-2A4AC846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474E04-7A12-4A29-BEFD-D71477136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677F8-AB59-4060-8B60-D3B59DDE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2E09E-F427-4E46-8BAA-9C2F040B38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5A49E-326B-42EE-AC14-138A331C16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1D23739-3CD2-4895-B3BE-C71673332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D0186E-1C9A-4594-BFB1-A1D1AF9A0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D721F5-3CC3-4FA5-AD5C-602300785D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16BF22-16EA-4B62-AF37-B29EA55A7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2BDD051-161D-4D42-958D-85AC2836A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E04510-BE9C-4AAA-97BC-4C0374983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555B3-CA66-4132-A507-BF7BA96E3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96A985-DE73-446A-B238-8E5441061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EC02C0-9B0A-43F2-A8D5-E3622C416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2A9ED5-1F67-4DB3-B1B8-2A9B1DB1D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7ADBC7-A85D-4F01-80D5-5DBC03930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98C02B-FD2A-497F-98C6-20B22B04A5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CA17C1-0A56-4765-80B7-2FEA158C4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ACBD0E-BE95-48A5-B808-EB17F1A7A5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87A7C3-B633-4202-A46B-43CE21406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B20E49-F0AE-4398-9AB8-0558430DF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2FBDCF-4321-4230-BE91-8DFE6DCE8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EA93B-C54A-406C-9A87-E5D34F863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ubTitle"/>
          </p:nvPr>
        </p:nvSpPr>
        <p:spPr>
          <a:xfrm>
            <a:off x="406080" y="776160"/>
            <a:ext cx="821052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D9F1D9-D332-42F7-8963-3794085C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EE7B5D8-82C8-4B43-BE5D-BF753F010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078EA1-CAC8-40A5-8DBD-EF5DA11D2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693FB5-8AEB-45EB-90CE-8818EA5D8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95280" y="4107240"/>
            <a:ext cx="822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12926-B9FB-443B-8396-0431FC1E8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12320" y="185580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39528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4612320" y="4107240"/>
            <a:ext cx="40158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790C4F-8C1C-4B7E-915E-7153D3444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317772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5960160" y="185580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/>
          </p:nvPr>
        </p:nvSpPr>
        <p:spPr>
          <a:xfrm>
            <a:off x="39528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3" name="PlaceHolder 6"/>
          <p:cNvSpPr>
            <a:spLocks noGrp="1"/>
          </p:cNvSpPr>
          <p:nvPr>
            <p:ph/>
          </p:nvPr>
        </p:nvSpPr>
        <p:spPr>
          <a:xfrm>
            <a:off x="317772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34" name="PlaceHolder 7"/>
          <p:cNvSpPr>
            <a:spLocks noGrp="1"/>
          </p:cNvSpPr>
          <p:nvPr>
            <p:ph/>
          </p:nvPr>
        </p:nvSpPr>
        <p:spPr>
          <a:xfrm>
            <a:off x="5960160" y="4107240"/>
            <a:ext cx="2649600" cy="205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43C42-8C32-464A-B878-EA7C33886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CEE68C-853D-4B55-9254-04C78DEC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 type="subTitle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F375EE8-24F1-4D78-A644-2FE9D59D5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11DFAC-A1AC-48B4-96C1-F847B4887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B756-2FC6-4D7B-9A23-E8864805005D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FECA-FABC-45F2-95C5-5F8A1CEFBEF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0AD66-D271-4247-B79B-45F7B121C38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5BF2D-259B-4E80-B91B-AB46E2AFA34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A5F90-EDD2-4606-9184-0FA2A1519A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BF7BC-08B5-4277-89AD-16EE292D96E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7ACBE-1E34-4E93-89B2-4DF2D1E912D2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76564-B919-4D1B-BD21-2660F93EBC89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Rounded MT Bold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 Rounded MT Bol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Rounded MT Bol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9399-E455-4DFA-9287-F2D573843F5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FC9A3-4449-4E2B-B379-A8F1BE04DE2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7CA80-C875-4F63-A2C4-996F0BBD65BD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3796C-76BF-4F46-9402-121E9BD2C5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1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33AA-CD69-4AF2-9C58-4A1E722E2C7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6943A-CF49-49B1-B394-064E128053F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图片 6" descr="6.jpg"/>
          <p:cNvPicPr/>
          <p:nvPr/>
        </p:nvPicPr>
        <p:blipFill>
          <a:blip r:embed="rId2"/>
          <a:stretch/>
        </p:blipFill>
        <p:spPr>
          <a:xfrm>
            <a:off x="-7920" y="-11160"/>
            <a:ext cx="9156600" cy="6870600"/>
          </a:xfrm>
          <a:prstGeom prst="rect">
            <a:avLst/>
          </a:prstGeom>
          <a:ln w="0">
            <a:noFill/>
          </a:ln>
        </p:spPr>
      </p:pic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AEDA1-40CB-42AC-92EE-ACA76F28AD5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2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87" name=""/>
          <p:cNvSpPr txBox="1"/>
          <p:nvPr/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588" name="图片 4099" descr="jdxc4"/>
          <p:cNvPicPr/>
          <p:nvPr/>
        </p:nvPicPr>
        <p:blipFill>
          <a:blip r:embed="rId1"/>
          <a:stretch/>
        </p:blipFill>
        <p:spPr>
          <a:xfrm>
            <a:off x="-38160" y="0"/>
            <a:ext cx="9372600" cy="6858000"/>
          </a:xfrm>
          <a:prstGeom prst="rect">
            <a:avLst/>
          </a:prstGeom>
          <a:ln w="0">
            <a:noFill/>
          </a:ln>
        </p:spPr>
      </p:pic>
      <p:pic>
        <p:nvPicPr>
          <p:cNvPr id="589" name="文本框 4102" descr=""/>
          <p:cNvPicPr/>
          <p:nvPr/>
        </p:nvPicPr>
        <p:blipFill>
          <a:blip r:embed="rId2"/>
          <a:stretch/>
        </p:blipFill>
        <p:spPr>
          <a:xfrm>
            <a:off x="152280" y="1650960"/>
            <a:ext cx="8991720" cy="2016000"/>
          </a:xfrm>
          <a:prstGeom prst="rect">
            <a:avLst/>
          </a:prstGeom>
          <a:ln w="0">
            <a:noFill/>
          </a:ln>
        </p:spPr>
      </p:pic>
      <p:sp>
        <p:nvSpPr>
          <p:cNvPr id="590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1" name="Picture 10" descr="021032664"/>
          <p:cNvPicPr/>
          <p:nvPr/>
        </p:nvPicPr>
        <p:blipFill>
          <a:blip r:embed="rId1"/>
          <a:stretch/>
        </p:blipFill>
        <p:spPr>
          <a:xfrm>
            <a:off x="4643280" y="3935520"/>
            <a:ext cx="4318200" cy="28782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13" descr="020120086"/>
          <p:cNvPicPr/>
          <p:nvPr/>
        </p:nvPicPr>
        <p:blipFill>
          <a:blip r:embed="rId2"/>
          <a:stretch/>
        </p:blipFill>
        <p:spPr>
          <a:xfrm>
            <a:off x="179280" y="3935520"/>
            <a:ext cx="4318200" cy="287820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4" descr="020118758"/>
          <p:cNvPicPr/>
          <p:nvPr/>
        </p:nvPicPr>
        <p:blipFill>
          <a:blip r:embed="rId3"/>
          <a:stretch/>
        </p:blipFill>
        <p:spPr>
          <a:xfrm>
            <a:off x="179280" y="1125360"/>
            <a:ext cx="4318200" cy="266076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5" descr="020123289"/>
          <p:cNvPicPr/>
          <p:nvPr/>
        </p:nvPicPr>
        <p:blipFill>
          <a:blip r:embed="rId4"/>
          <a:stretch/>
        </p:blipFill>
        <p:spPr>
          <a:xfrm>
            <a:off x="4643280" y="1125360"/>
            <a:ext cx="4318200" cy="2662560"/>
          </a:xfrm>
          <a:prstGeom prst="rect">
            <a:avLst/>
          </a:prstGeom>
          <a:ln w="0">
            <a:noFill/>
          </a:ln>
        </p:spPr>
      </p:pic>
      <p:sp>
        <p:nvSpPr>
          <p:cNvPr id="64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C3A0FA-2F2D-4871-A229-EEF1E83A7F8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7" name="Picture 15" descr="154011op294xwgzwrbrirr"/>
          <p:cNvPicPr/>
          <p:nvPr/>
        </p:nvPicPr>
        <p:blipFill>
          <a:blip r:embed="rId1"/>
          <a:stretch/>
        </p:blipFill>
        <p:spPr>
          <a:xfrm>
            <a:off x="4635360" y="3860640"/>
            <a:ext cx="4329360" cy="287820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4" descr="U5321P1433DT20120913104533"/>
          <p:cNvPicPr/>
          <p:nvPr/>
        </p:nvPicPr>
        <p:blipFill>
          <a:blip r:embed="rId2"/>
          <a:stretch/>
        </p:blipFill>
        <p:spPr>
          <a:xfrm>
            <a:off x="179280" y="3860640"/>
            <a:ext cx="4318200" cy="287820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1" descr="1523000gmrrdszg0l8xpg8"/>
          <p:cNvPicPr/>
          <p:nvPr/>
        </p:nvPicPr>
        <p:blipFill>
          <a:blip r:embed="rId3"/>
          <a:stretch/>
        </p:blipFill>
        <p:spPr>
          <a:xfrm>
            <a:off x="4643280" y="1125360"/>
            <a:ext cx="4318200" cy="26607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3" descr="917045474123797434"/>
          <p:cNvPicPr/>
          <p:nvPr/>
        </p:nvPicPr>
        <p:blipFill>
          <a:blip r:embed="rId4"/>
          <a:stretch/>
        </p:blipFill>
        <p:spPr>
          <a:xfrm>
            <a:off x="179280" y="1125360"/>
            <a:ext cx="4318200" cy="2662560"/>
          </a:xfrm>
          <a:prstGeom prst="rect">
            <a:avLst/>
          </a:prstGeom>
          <a:ln w="0">
            <a:noFill/>
          </a:ln>
        </p:spPr>
      </p:pic>
      <p:sp>
        <p:nvSpPr>
          <p:cNvPr id="65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72ABF-0572-4C79-9DC2-AE3CD8244DE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Picture 10" descr="002511f36021133487cb15"/>
          <p:cNvPicPr/>
          <p:nvPr/>
        </p:nvPicPr>
        <p:blipFill>
          <a:blip r:embed="rId1"/>
          <a:stretch/>
        </p:blipFill>
        <p:spPr>
          <a:xfrm>
            <a:off x="611280" y="1197000"/>
            <a:ext cx="3963960" cy="263664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13" descr="83924775"/>
          <p:cNvPicPr/>
          <p:nvPr/>
        </p:nvPicPr>
        <p:blipFill>
          <a:blip r:embed="rId2"/>
          <a:stretch/>
        </p:blipFill>
        <p:spPr>
          <a:xfrm>
            <a:off x="4932360" y="4076640"/>
            <a:ext cx="3956040" cy="253692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12" descr="002511f36021133487d11c"/>
          <p:cNvPicPr/>
          <p:nvPr/>
        </p:nvPicPr>
        <p:blipFill>
          <a:blip r:embed="rId3"/>
          <a:stretch/>
        </p:blipFill>
        <p:spPr>
          <a:xfrm>
            <a:off x="611280" y="4005360"/>
            <a:ext cx="3963960" cy="263664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11" descr="0025116acb57119182645a"/>
          <p:cNvPicPr/>
          <p:nvPr/>
        </p:nvPicPr>
        <p:blipFill>
          <a:blip r:embed="rId4"/>
          <a:stretch/>
        </p:blipFill>
        <p:spPr>
          <a:xfrm>
            <a:off x="4932360" y="1268280"/>
            <a:ext cx="3956040" cy="2536920"/>
          </a:xfrm>
          <a:prstGeom prst="rect">
            <a:avLst/>
          </a:prstGeom>
          <a:ln w="0">
            <a:noFill/>
          </a:ln>
        </p:spPr>
      </p:pic>
      <p:sp>
        <p:nvSpPr>
          <p:cNvPr id="65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147F63-BFEC-4EE3-95E2-C6052058967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37800" y="-44640"/>
            <a:ext cx="821052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 Rounded MT Bold"/>
              </a:rPr>
              <a:t>涉毒的公众人物：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60" name="内容占位符 95" descr=""/>
          <p:cNvPicPr/>
          <p:nvPr/>
        </p:nvPicPr>
        <p:blipFill>
          <a:blip r:embed="rId1"/>
          <a:stretch/>
        </p:blipFill>
        <p:spPr>
          <a:xfrm>
            <a:off x="38160" y="890640"/>
            <a:ext cx="9086760" cy="5935680"/>
          </a:xfrm>
          <a:prstGeom prst="rect">
            <a:avLst/>
          </a:prstGeom>
          <a:ln w="0">
            <a:noFill/>
          </a:ln>
        </p:spPr>
      </p:pic>
      <p:sp>
        <p:nvSpPr>
          <p:cNvPr id="66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3D593-516C-41E1-A1D3-B8667780656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Rectangle 2"/>
          <p:cNvSpPr/>
          <p:nvPr/>
        </p:nvSpPr>
        <p:spPr>
          <a:xfrm>
            <a:off x="166680" y="84240"/>
            <a:ext cx="44751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方正小标宋简体"/>
              </a:rPr>
              <a:t>二、</a:t>
            </a:r>
            <a:r>
              <a:rPr b="1" lang="zh-CN" sz="3600" spc="-1" strike="noStrike">
                <a:solidFill>
                  <a:srgbClr val="ffffff"/>
                </a:solidFill>
                <a:latin typeface="Arial Rounded MT Bold"/>
                <a:ea typeface="方正小标宋简体"/>
              </a:rPr>
              <a:t>毒品</a:t>
            </a: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方正小标宋简体"/>
              </a:rPr>
              <a:t>的危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166680" y="976320"/>
            <a:ext cx="8472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  <a:ea typeface="方正小标宋简体"/>
              </a:rPr>
              <a:t>      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方正小标宋简体"/>
              </a:rPr>
              <a:t>长期吸食毒品会成瘾，对人体神经系统免疫系统产生危害，如嗜睡、感觉迟钝、运动失调、幻觉、妄想，而且易感染乙型肝炎、艾滋病等疾病。如果服用过量，则可直接导致死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方正小标宋简体"/>
              </a:rPr>
              <a:t>      </a:t>
            </a:r>
            <a:r>
              <a:rPr b="1" lang="zh-CN" sz="3200" spc="-1" strike="noStrike">
                <a:solidFill>
                  <a:srgbClr val="002060"/>
                </a:solidFill>
                <a:latin typeface="Arial"/>
                <a:ea typeface="方正小标宋简体"/>
              </a:rPr>
              <a:t>当突然终止吸毒时，就会出现不安、焦虑、忽冷忽热、起鸡皮疙瘩、流泪、流涕、出汗、恶心、呕吐、腹痛、腹泻等症状。吸毒者为避免这种痛苦而千方百计地维持吸毒状态。许多吸毒者在没有经济来源购毒、吸毒的情况下，或死于严重的并发症，或由于痛苦难忍而自杀身亡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298C5-4970-4CA7-B908-44B14574DC2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6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Rectangle 7"/>
          <p:cNvSpPr/>
          <p:nvPr/>
        </p:nvSpPr>
        <p:spPr>
          <a:xfrm>
            <a:off x="3492360" y="3716280"/>
            <a:ext cx="2303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方正小标宋简体"/>
                <a:ea typeface="方正小标宋简体"/>
              </a:rPr>
              <a:t>祸及家庭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8"/>
          <p:cNvSpPr/>
          <p:nvPr/>
        </p:nvSpPr>
        <p:spPr>
          <a:xfrm>
            <a:off x="3419640" y="2565360"/>
            <a:ext cx="244764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方正小标宋简体"/>
                <a:ea typeface="方正小标宋简体"/>
              </a:rPr>
              <a:t>毁灭自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9"/>
          <p:cNvSpPr/>
          <p:nvPr/>
        </p:nvSpPr>
        <p:spPr>
          <a:xfrm>
            <a:off x="3492360" y="4869000"/>
            <a:ext cx="2303640" cy="10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5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66ff"/>
                </a:solidFill>
                <a:latin typeface="方正小标宋简体"/>
                <a:ea typeface="方正小标宋简体"/>
              </a:rPr>
              <a:t>危害社会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0" name="矩形 556035" descr=""/>
          <p:cNvPicPr/>
          <p:nvPr/>
        </p:nvPicPr>
        <p:blipFill>
          <a:blip r:embed="rId1"/>
          <a:stretch/>
        </p:blipFill>
        <p:spPr>
          <a:xfrm>
            <a:off x="1042920" y="1214280"/>
            <a:ext cx="5897520" cy="1067040"/>
          </a:xfrm>
          <a:prstGeom prst="rect">
            <a:avLst/>
          </a:prstGeom>
          <a:ln w="0">
            <a:noFill/>
          </a:ln>
        </p:spPr>
      </p:pic>
      <p:sp>
        <p:nvSpPr>
          <p:cNvPr id="67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6805A-23A8-4067-BEB7-09EE4C92B81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Text Box 2"/>
          <p:cNvSpPr/>
          <p:nvPr/>
        </p:nvSpPr>
        <p:spPr>
          <a:xfrm>
            <a:off x="971640" y="4365720"/>
            <a:ext cx="403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毒品摧毁的不但是人的肉体，也是人的意志。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每年的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6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月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26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黑体"/>
                <a:ea typeface="黑体"/>
              </a:rPr>
              <a:t>日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是联合国确定的国际禁毒日。</a:t>
            </a:r>
            <a:r>
              <a:rPr b="0" lang="zh-CN" sz="2800" spc="-1" strike="noStrike" u="sng">
                <a:solidFill>
                  <a:srgbClr val="000000"/>
                </a:solidFill>
                <a:uFillTx/>
                <a:latin typeface="华文行楷"/>
                <a:ea typeface="华文行楷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4" name="Picture 3" descr="9a0428381f30e924a149cf754c086e061c95f795"/>
          <p:cNvPicPr/>
          <p:nvPr/>
        </p:nvPicPr>
        <p:blipFill>
          <a:blip r:embed="rId1"/>
          <a:stretch/>
        </p:blipFill>
        <p:spPr>
          <a:xfrm>
            <a:off x="1403280" y="741240"/>
            <a:ext cx="4805280" cy="32162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" descr="4dae0cf431adcbef07d82d42acaf2edda2cc9f96"/>
          <p:cNvPicPr/>
          <p:nvPr/>
        </p:nvPicPr>
        <p:blipFill>
          <a:blip r:embed="rId2"/>
          <a:stretch/>
        </p:blipFill>
        <p:spPr>
          <a:xfrm>
            <a:off x="5076720" y="2060640"/>
            <a:ext cx="3106800" cy="4336920"/>
          </a:xfrm>
          <a:prstGeom prst="rect">
            <a:avLst/>
          </a:prstGeom>
          <a:ln w="0">
            <a:noFill/>
          </a:ln>
        </p:spPr>
      </p:pic>
      <p:sp>
        <p:nvSpPr>
          <p:cNvPr id="67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291BE-F0B1-445E-BF6F-8C41C19F83B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0" dur="2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5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6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8" name="Picture 7" descr="201112200851272845"/>
          <p:cNvPicPr/>
          <p:nvPr/>
        </p:nvPicPr>
        <p:blipFill>
          <a:blip r:embed="rId1"/>
          <a:stretch/>
        </p:blipFill>
        <p:spPr>
          <a:xfrm>
            <a:off x="-31680" y="-28440"/>
            <a:ext cx="9166320" cy="6831000"/>
          </a:xfrm>
          <a:prstGeom prst="rect">
            <a:avLst/>
          </a:prstGeom>
          <a:ln w="0">
            <a:noFill/>
          </a:ln>
        </p:spPr>
      </p:pic>
      <p:sp>
        <p:nvSpPr>
          <p:cNvPr id="67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C74455-042D-4136-8256-6A530A2542B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Rectangle 2"/>
          <p:cNvSpPr/>
          <p:nvPr/>
        </p:nvSpPr>
        <p:spPr>
          <a:xfrm>
            <a:off x="314280" y="144360"/>
            <a:ext cx="44751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Arial"/>
                <a:ea typeface="方正小标宋简体"/>
              </a:rPr>
              <a:t>（二）我国禁毒工作现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7"/>
          <p:cNvSpPr/>
          <p:nvPr/>
        </p:nvSpPr>
        <p:spPr>
          <a:xfrm>
            <a:off x="793800" y="1258920"/>
            <a:ext cx="7486560" cy="24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目前，我们全国统计在册的吸毒人员是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250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多万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少年占整体吸毒人群的比例已经超过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70%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青少年吸食冰毒、摇头丸、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K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粉等合成毒品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0%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以上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3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福建省登记在册的吸毒人员有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万多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Text Box 8"/>
          <p:cNvSpPr/>
          <p:nvPr/>
        </p:nvSpPr>
        <p:spPr>
          <a:xfrm>
            <a:off x="201600" y="4503600"/>
            <a:ext cx="1728720" cy="16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66ff"/>
                </a:solidFill>
                <a:latin typeface="Arial"/>
                <a:ea typeface="仿宋_GB2312"/>
              </a:rPr>
              <a:t>250</a:t>
            </a:r>
            <a:r>
              <a:rPr b="1" lang="zh-CN" sz="30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多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统计在册吸毒人员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   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  <a:ea typeface="仿宋_GB2312"/>
              </a:rPr>
              <a:t>×5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仿宋_GB2312"/>
              </a:rPr>
              <a:t>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  <a:ea typeface="仿宋_GB2312"/>
              </a:rPr>
              <a:t>1250</a:t>
            </a:r>
            <a:r>
              <a:rPr b="1" lang="zh-CN" sz="28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多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Text Box 9"/>
          <p:cNvSpPr/>
          <p:nvPr/>
        </p:nvSpPr>
        <p:spPr>
          <a:xfrm>
            <a:off x="2050920" y="4724280"/>
            <a:ext cx="2089440" cy="12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截止</a:t>
            </a:r>
            <a:r>
              <a:rPr b="1" lang="en-US" sz="13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2014</a:t>
            </a:r>
            <a:r>
              <a:rPr b="1" lang="zh-CN" sz="13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年底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3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全国吸毒的青少年人数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ff"/>
                </a:solidFill>
                <a:latin typeface="Arial"/>
                <a:ea typeface="仿宋_GB2312"/>
              </a:rPr>
              <a:t>800</a:t>
            </a:r>
            <a:r>
              <a:rPr b="1" lang="zh-CN" sz="36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多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5" name="Group 14"/>
          <p:cNvGrpSpPr/>
          <p:nvPr/>
        </p:nvGrpSpPr>
        <p:grpSpPr>
          <a:xfrm>
            <a:off x="4140360" y="4724280"/>
            <a:ext cx="2666880" cy="1235520"/>
            <a:chOff x="4140360" y="4724280"/>
            <a:chExt cx="2666880" cy="1235520"/>
          </a:xfrm>
        </p:grpSpPr>
        <p:sp>
          <p:nvSpPr>
            <p:cNvPr id="686" name="Text Box 12"/>
            <p:cNvSpPr/>
            <p:nvPr/>
          </p:nvSpPr>
          <p:spPr>
            <a:xfrm>
              <a:off x="4789800" y="4724280"/>
              <a:ext cx="2017440" cy="123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66ff"/>
                  </a:solidFill>
                  <a:latin typeface="仿宋_GB2312"/>
                  <a:ea typeface="仿宋_GB2312"/>
                </a:rPr>
                <a:t>2014</a:t>
              </a:r>
              <a:r>
                <a:rPr b="1" lang="zh-CN" sz="1300" spc="-1" strike="noStrike">
                  <a:solidFill>
                    <a:srgbClr val="0066ff"/>
                  </a:solidFill>
                  <a:latin typeface="仿宋_GB2312"/>
                  <a:ea typeface="仿宋_GB2312"/>
                </a:rPr>
                <a:t>年全国普通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81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300" spc="-1" strike="noStrike">
                  <a:solidFill>
                    <a:srgbClr val="0066ff"/>
                  </a:solidFill>
                  <a:latin typeface="仿宋_GB2312"/>
                  <a:ea typeface="仿宋_GB2312"/>
                </a:rPr>
                <a:t>高校毕业规模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65000"/>
                </a:lnSpc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66ff"/>
                  </a:solidFill>
                  <a:latin typeface="Arial"/>
                  <a:ea typeface="仿宋_GB2312"/>
                </a:rPr>
                <a:t>725</a:t>
              </a:r>
              <a:r>
                <a:rPr b="1" lang="zh-CN" sz="3600" spc="-1" strike="noStrike">
                  <a:solidFill>
                    <a:srgbClr val="0066ff"/>
                  </a:solidFill>
                  <a:latin typeface="仿宋_GB2312"/>
                  <a:ea typeface="仿宋_GB2312"/>
                </a:rPr>
                <a:t>万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Text Box 13"/>
            <p:cNvSpPr/>
            <p:nvPr/>
          </p:nvSpPr>
          <p:spPr>
            <a:xfrm>
              <a:off x="4140360" y="4892400"/>
              <a:ext cx="7938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66ff"/>
                  </a:solidFill>
                  <a:latin typeface="Arial"/>
                  <a:ea typeface="宋体"/>
                </a:rPr>
                <a:t>≈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8" name="Text Box 18"/>
          <p:cNvSpPr/>
          <p:nvPr/>
        </p:nvSpPr>
        <p:spPr>
          <a:xfrm>
            <a:off x="7020000" y="4224240"/>
            <a:ext cx="1728720" cy="18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福建省吸毒人数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  <a:ea typeface="仿宋_GB2312"/>
              </a:rPr>
              <a:t>8</a:t>
            </a:r>
            <a:r>
              <a:rPr b="1" lang="en-US" sz="1600" spc="-1" strike="noStrike">
                <a:solidFill>
                  <a:srgbClr val="0066ff"/>
                </a:solidFill>
                <a:latin typeface="Arial"/>
              </a:rPr>
              <a:t>×5=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40</a:t>
            </a:r>
            <a:r>
              <a:rPr b="1" lang="zh-CN" sz="2400" spc="-1" strike="noStrike">
                <a:solidFill>
                  <a:srgbClr val="0066ff"/>
                </a:solidFill>
                <a:latin typeface="Arial"/>
                <a:ea typeface="宋体"/>
              </a:rPr>
              <a:t>万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福建省总人口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      </a:t>
            </a:r>
            <a:r>
              <a:rPr b="1" lang="en-US" sz="2000" spc="-1" strike="noStrike">
                <a:solidFill>
                  <a:srgbClr val="0066ff"/>
                </a:solidFill>
                <a:latin typeface="Arial"/>
              </a:rPr>
              <a:t>3689</a:t>
            </a:r>
            <a:r>
              <a:rPr b="1" lang="zh-CN" sz="2000" spc="-1" strike="noStrike">
                <a:solidFill>
                  <a:srgbClr val="0066ff"/>
                </a:solidFill>
                <a:latin typeface="Arial"/>
                <a:ea typeface="宋体"/>
              </a:rPr>
              <a:t>万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仿宋_GB2312"/>
                <a:ea typeface="仿宋_GB2312"/>
              </a:rPr>
              <a:t>约占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  <a:ea typeface="仿宋_GB2312"/>
              </a:rPr>
              <a:t>1.08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灯片编号占位符 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6A711-40AC-42FB-911F-8001D43577C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7" dur="8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8" dur="8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80"/>
                                        <p:tgtEl>
                                          <p:spTgt spid="6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4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5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6" dur="80"/>
                                        <p:tgtEl>
                                          <p:spTgt spid="6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1" dur="80"/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2" dur="80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3" dur="80"/>
                                        <p:tgtEl>
                                          <p:spTgt spid="6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900" fill="hold"/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Rectangle 2"/>
          <p:cNvSpPr/>
          <p:nvPr/>
        </p:nvSpPr>
        <p:spPr>
          <a:xfrm>
            <a:off x="506520" y="1154160"/>
            <a:ext cx="447516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66ff"/>
                </a:solidFill>
                <a:latin typeface="Arial"/>
                <a:ea typeface="方正小标宋简体"/>
              </a:rPr>
              <a:t>青少年吸毒的原因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Rectangle 3"/>
          <p:cNvSpPr/>
          <p:nvPr/>
        </p:nvSpPr>
        <p:spPr>
          <a:xfrm>
            <a:off x="98280" y="1260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方正小标宋简体"/>
                <a:ea typeface="方正小标宋简体"/>
              </a:rPr>
              <a:t>三、青少年如何做好毒品预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Rectangle 7"/>
          <p:cNvSpPr/>
          <p:nvPr/>
        </p:nvSpPr>
        <p:spPr>
          <a:xfrm>
            <a:off x="506520" y="2286000"/>
            <a:ext cx="748800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对毒品的认知能力差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不正当的好奇心驱使下涉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交友不慎被拉下水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. </a:t>
            </a:r>
            <a:r>
              <a:rPr b="1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承受压力和挫折的意志力不强而希望在吸毒中寻求解脱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4" name="Picture 10" descr="11664993_142016399173_2"/>
          <p:cNvPicPr/>
          <p:nvPr/>
        </p:nvPicPr>
        <p:blipFill>
          <a:blip r:embed="rId1"/>
          <a:stretch/>
        </p:blipFill>
        <p:spPr>
          <a:xfrm>
            <a:off x="5219640" y="1628640"/>
            <a:ext cx="2879640" cy="2880000"/>
          </a:xfrm>
          <a:prstGeom prst="rect">
            <a:avLst/>
          </a:prstGeom>
          <a:ln w="0">
            <a:noFill/>
          </a:ln>
        </p:spPr>
      </p:pic>
      <p:sp>
        <p:nvSpPr>
          <p:cNvPr id="6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B791A-7CCE-4971-A1B6-9F7A6F12FE8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文本框 1"/>
          <p:cNvSpPr/>
          <p:nvPr/>
        </p:nvSpPr>
        <p:spPr>
          <a:xfrm>
            <a:off x="531000" y="1224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宋体"/>
              </a:rPr>
              <a:t>学习目标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Text Box 11"/>
          <p:cNvSpPr/>
          <p:nvPr/>
        </p:nvSpPr>
        <p:spPr>
          <a:xfrm>
            <a:off x="1017720" y="1739880"/>
            <a:ext cx="633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73"/>
                </a:solidFill>
                <a:latin typeface="隶书"/>
                <a:ea typeface="隶书"/>
              </a:rPr>
              <a:t>一</a:t>
            </a:r>
            <a:r>
              <a:rPr b="0" lang="en-US" sz="4000" spc="-1" strike="noStrike">
                <a:solidFill>
                  <a:srgbClr val="262673"/>
                </a:solidFill>
                <a:latin typeface="隶书"/>
                <a:ea typeface="隶书"/>
              </a:rPr>
              <a:t>.</a:t>
            </a:r>
            <a:r>
              <a:rPr b="0" lang="zh-CN" sz="4000" spc="-1" strike="noStrike">
                <a:solidFill>
                  <a:srgbClr val="262673"/>
                </a:solidFill>
                <a:latin typeface="隶书"/>
                <a:ea typeface="隶书"/>
              </a:rPr>
              <a:t>了解毒品基本知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Text Box 13"/>
          <p:cNvSpPr/>
          <p:nvPr/>
        </p:nvSpPr>
        <p:spPr>
          <a:xfrm>
            <a:off x="1019160" y="3057480"/>
            <a:ext cx="6674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二</a:t>
            </a:r>
            <a:r>
              <a:rPr b="0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.</a:t>
            </a:r>
            <a:r>
              <a:rPr b="0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了解毒情及其毒品的危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Text Box 14"/>
          <p:cNvSpPr/>
          <p:nvPr/>
        </p:nvSpPr>
        <p:spPr>
          <a:xfrm>
            <a:off x="1114560" y="4597560"/>
            <a:ext cx="691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三</a:t>
            </a:r>
            <a:r>
              <a:rPr b="0" lang="en-US" sz="4000" spc="-1" strike="noStrike">
                <a:solidFill>
                  <a:srgbClr val="333399"/>
                </a:solidFill>
                <a:latin typeface="隶书"/>
                <a:ea typeface="隶书"/>
              </a:rPr>
              <a:t>.</a:t>
            </a:r>
            <a:r>
              <a:rPr b="0" lang="zh-CN" sz="4000" spc="-1" strike="noStrike">
                <a:solidFill>
                  <a:srgbClr val="333399"/>
                </a:solidFill>
                <a:latin typeface="隶书"/>
                <a:ea typeface="隶书"/>
              </a:rPr>
              <a:t>学会如何做好毒品预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53AC63-51ED-49FE-BAA5-38C23070822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7" name="图片 460802" descr="试一试"/>
          <p:cNvPicPr/>
          <p:nvPr/>
        </p:nvPicPr>
        <p:blipFill>
          <a:blip r:embed="rId1"/>
          <a:srcRect l="13464" t="7216" r="5703" b="0"/>
          <a:stretch/>
        </p:blipFill>
        <p:spPr>
          <a:xfrm>
            <a:off x="4648320" y="1420920"/>
            <a:ext cx="4267080" cy="4957560"/>
          </a:xfrm>
          <a:prstGeom prst="rect">
            <a:avLst/>
          </a:prstGeom>
          <a:ln w="0">
            <a:noFill/>
          </a:ln>
        </p:spPr>
      </p:pic>
      <p:pic>
        <p:nvPicPr>
          <p:cNvPr id="698" name="图片 460803" descr="毒贩子"/>
          <p:cNvPicPr/>
          <p:nvPr/>
        </p:nvPicPr>
        <p:blipFill>
          <a:blip r:embed="rId2"/>
          <a:srcRect l="8605" t="14611" r="6901" b="9720"/>
          <a:stretch/>
        </p:blipFill>
        <p:spPr>
          <a:xfrm>
            <a:off x="533520" y="1228680"/>
            <a:ext cx="4114800" cy="5191200"/>
          </a:xfrm>
          <a:prstGeom prst="rect">
            <a:avLst/>
          </a:prstGeom>
          <a:ln w="0">
            <a:noFill/>
          </a:ln>
        </p:spPr>
      </p:pic>
      <p:sp>
        <p:nvSpPr>
          <p:cNvPr id="69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E7BD7-8332-4A65-A5A5-1D0B7CB1F18E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图片 461826" descr="赶时"/>
          <p:cNvPicPr/>
          <p:nvPr/>
        </p:nvPicPr>
        <p:blipFill>
          <a:blip r:embed="rId1"/>
          <a:srcRect l="11338" t="16352" r="5264" b="0"/>
          <a:stretch/>
        </p:blipFill>
        <p:spPr>
          <a:xfrm>
            <a:off x="873000" y="880920"/>
            <a:ext cx="6789960" cy="5840640"/>
          </a:xfrm>
          <a:prstGeom prst="rect">
            <a:avLst/>
          </a:prstGeom>
          <a:ln w="0">
            <a:noFill/>
          </a:ln>
        </p:spPr>
      </p:pic>
      <p:sp>
        <p:nvSpPr>
          <p:cNvPr id="70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35640-110B-4EFF-A2A7-65511CA76AC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矩形 460801"/>
          <p:cNvSpPr/>
          <p:nvPr/>
        </p:nvSpPr>
        <p:spPr>
          <a:xfrm>
            <a:off x="254160" y="1366920"/>
            <a:ext cx="8424720" cy="233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友情特别提醒</a:t>
            </a:r>
            <a:r>
              <a:rPr b="1" lang="en-US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正确把握好奇心，抑制不良诱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好奇是我们青少年的共同特点，对于没有体验的东西，总有一种跃跃欲试的愿望，但是，一定要明辨是非，把握好奇心。面对毒品，一定要态度鲜明，千万不要心存侥幸，以好奇为由去尝试，自觉抑制不良                                              诱惑，千万不要吸食第一口。　　</a:t>
            </a:r>
            <a:r>
              <a:rPr b="0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 </a:t>
            </a:r>
            <a:r>
              <a:rPr b="0" lang="zh-CN" sz="24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CB328-CEC5-4481-88CD-A96CDE88EDC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7" name="图片 459778" descr="挫折和困难"/>
          <p:cNvPicPr/>
          <p:nvPr/>
        </p:nvPicPr>
        <p:blipFill>
          <a:blip r:embed="rId1"/>
          <a:srcRect l="15353" t="16209" r="3543" b="0"/>
          <a:stretch/>
        </p:blipFill>
        <p:spPr>
          <a:xfrm>
            <a:off x="901800" y="1214280"/>
            <a:ext cx="6943680" cy="5207040"/>
          </a:xfrm>
          <a:prstGeom prst="rect">
            <a:avLst/>
          </a:prstGeom>
          <a:ln w="0">
            <a:noFill/>
          </a:ln>
        </p:spPr>
      </p:pic>
      <p:sp>
        <p:nvSpPr>
          <p:cNvPr id="708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F633F-A4DC-498D-8C65-EF81FF1805B7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矩形 459777"/>
          <p:cNvSpPr/>
          <p:nvPr/>
        </p:nvSpPr>
        <p:spPr>
          <a:xfrm>
            <a:off x="533520" y="914400"/>
            <a:ext cx="82296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友情特别提醒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正确对待挫折和困难 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　 假如，我们在学习、生活中遇到了像考试成绩不尽人意、和朋友吵架、家庭生活遇到困难等，要知道这都是正常的，要正确对待。遇到这类情况时，我们可以试着和父母、老师、同伴沟通，或者听听自己喜欢的音乐，参加自己喜欢的体育活动等，要分散自己的注意力，排解烦恼，绝对不要用毒品来麻醉自己，逃避现实，回避困难。当别人用毒品来引诱我们、安慰我们时，一定要意志坚定，坚决拒绝。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请相信：挫折和困难是暂时的，战胜挫折和困难是宝贵的人生财富！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13C2C-2CAB-4503-96E5-AF122CD3017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矩形 461825"/>
          <p:cNvSpPr/>
          <p:nvPr/>
        </p:nvSpPr>
        <p:spPr>
          <a:xfrm>
            <a:off x="533520" y="623880"/>
            <a:ext cx="8305560" cy="22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记住：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无论是哪一种毒品，危害都很大，对我们个人的身心健康、对家庭、对社会都会造成严重的破坏。所以，无论什么毒品，我们都不要尝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矩形 535553"/>
          <p:cNvSpPr/>
          <p:nvPr/>
        </p:nvSpPr>
        <p:spPr>
          <a:xfrm>
            <a:off x="946080" y="4005360"/>
            <a:ext cx="65120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彩云"/>
              </a:rPr>
              <a:t>务必知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戒毒有多难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国际上戒毒二次复吸率达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98%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！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DDBC0-5047-464F-B767-E85AAD76977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矩形 462849"/>
          <p:cNvSpPr/>
          <p:nvPr/>
        </p:nvSpPr>
        <p:spPr>
          <a:xfrm>
            <a:off x="76320" y="1141560"/>
            <a:ext cx="8991360" cy="29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学会说“不”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情景设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在一次朋友聚会中，偶尔发现你的朋友在吸毒，朋友让你试一口，同学和朋友说：“尝一下吧，不会有事的。”你如何拒绝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规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每大组分前后两组，全班共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宋体"/>
              </a:rPr>
              <a:t>要求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：群策群议，想尽一切可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能的办法予以拒绝。最后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每组选出两人组合上台演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示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文本框 462850"/>
          <p:cNvSpPr/>
          <p:nvPr/>
        </p:nvSpPr>
        <p:spPr>
          <a:xfrm>
            <a:off x="4343400" y="5859360"/>
            <a:ext cx="2514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9" name="图片 462851" descr="诱惑"/>
          <p:cNvPicPr/>
          <p:nvPr/>
        </p:nvPicPr>
        <p:blipFill>
          <a:blip r:embed="rId1"/>
          <a:srcRect l="12215" t="10100" r="16146" b="8013"/>
          <a:stretch/>
        </p:blipFill>
        <p:spPr>
          <a:xfrm>
            <a:off x="4343400" y="3657600"/>
            <a:ext cx="4267080" cy="2952720"/>
          </a:xfrm>
          <a:prstGeom prst="rect">
            <a:avLst/>
          </a:prstGeom>
          <a:ln w="0">
            <a:noFill/>
          </a:ln>
        </p:spPr>
      </p:pic>
      <p:sp>
        <p:nvSpPr>
          <p:cNvPr id="720" name="文本框 2"/>
          <p:cNvSpPr/>
          <p:nvPr/>
        </p:nvSpPr>
        <p:spPr>
          <a:xfrm>
            <a:off x="1681560" y="5181480"/>
            <a:ext cx="16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让我们一起来坚定自己的意愿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楷体"/>
                <a:ea typeface="楷体"/>
              </a:rPr>
              <a:t>拒绝不良诱惑！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文本框 4"/>
          <p:cNvSpPr/>
          <p:nvPr/>
        </p:nvSpPr>
        <p:spPr>
          <a:xfrm>
            <a:off x="458640" y="162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情景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ADE11-3652-4A35-8FD1-42A7191792BB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Rectangle 2"/>
          <p:cNvSpPr/>
          <p:nvPr/>
        </p:nvSpPr>
        <p:spPr>
          <a:xfrm>
            <a:off x="758880" y="1147680"/>
            <a:ext cx="665784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怎样做到远离毒品 ？？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Rectangle 7"/>
          <p:cNvSpPr/>
          <p:nvPr/>
        </p:nvSpPr>
        <p:spPr>
          <a:xfrm>
            <a:off x="900000" y="2421000"/>
            <a:ext cx="7488360" cy="36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1.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要时刻牢记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朝吸毒，终生难戒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仿宋_GB2312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、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仿宋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一时不慎，痛悔一生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仿宋_GB2312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的   忠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2.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面对诱惑要增强自控能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3.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慎重交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4.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涉足公共娱乐场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5.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不要相信毒品瘦身、治病的诺言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6. </a:t>
            </a:r>
            <a:r>
              <a:rPr b="0" lang="zh-CN" sz="20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在困难和挫折面前要自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6" name="Picture 9" descr="6159252dd42a2834d64573f35ab5c9ea14cebf63"/>
          <p:cNvPicPr/>
          <p:nvPr/>
        </p:nvPicPr>
        <p:blipFill>
          <a:blip r:embed="rId1"/>
          <a:stretch/>
        </p:blipFill>
        <p:spPr>
          <a:xfrm>
            <a:off x="5580000" y="3573360"/>
            <a:ext cx="2879640" cy="2880000"/>
          </a:xfrm>
          <a:prstGeom prst="rect">
            <a:avLst/>
          </a:prstGeom>
          <a:ln w="0">
            <a:noFill/>
          </a:ln>
        </p:spPr>
      </p:pic>
      <p:sp>
        <p:nvSpPr>
          <p:cNvPr id="72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773A1-4C89-489E-822D-69D506C6E29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7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矩形 533505"/>
          <p:cNvSpPr/>
          <p:nvPr/>
        </p:nvSpPr>
        <p:spPr>
          <a:xfrm>
            <a:off x="533520" y="1295280"/>
            <a:ext cx="7315200" cy="324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隶书"/>
              </a:rPr>
              <a:t>警钟长鸣：记住了吗？“四知道”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 </a:t>
            </a:r>
            <a:r>
              <a:rPr b="1" lang="zh-CN" sz="28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一要知道什么是毒品； </a:t>
            </a:r>
            <a:br>
              <a:rPr sz="2800"/>
            </a:br>
            <a:r>
              <a:rPr b="1" lang="zh-CN" sz="28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二要知道吸毒极易成瘾，难以戒除； </a:t>
            </a:r>
            <a:br>
              <a:rPr sz="2800"/>
            </a:br>
            <a:r>
              <a:rPr b="1" lang="zh-CN" sz="28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三要知道毒品的危害； </a:t>
            </a:r>
            <a:br>
              <a:rPr sz="2800"/>
            </a:br>
            <a:r>
              <a:rPr b="1" lang="zh-CN" sz="2800" spc="-1" strike="noStrike">
                <a:solidFill>
                  <a:srgbClr val="009999"/>
                </a:solidFill>
                <a:latin typeface="仿宋_GB2312"/>
                <a:ea typeface="仿宋_GB2312"/>
              </a:rPr>
              <a:t>四要知道毒品违法犯罪要受到法律制裁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笑脸 533506"/>
          <p:cNvSpPr/>
          <p:nvPr/>
        </p:nvSpPr>
        <p:spPr>
          <a:xfrm>
            <a:off x="8458200" y="5867280"/>
            <a:ext cx="380880" cy="381240"/>
          </a:xfrm>
          <a:prstGeom prst="smileyFace">
            <a:avLst>
              <a:gd name="adj" fmla="val 4653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9D298-7655-48FF-A93E-58B4C15C067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8352000" cy="387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 Rounded MT Bold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 Rounded MT Bold"/>
            </a:endParaRPr>
          </a:p>
          <a:p>
            <a:pPr marL="343080" indent="0">
              <a:lnSpc>
                <a:spcPct val="15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66ff"/>
                </a:solidFill>
                <a:latin typeface="方正小标宋简体"/>
                <a:ea typeface="方正小标宋简体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远离毒品，关爱未来”，对每一个人而言，这决不仅仅是一句简单的口号。无论是出于主观还是客观，有些路，永远不能走；有的错，永远都不能犯！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734" name="Rectangle 7"/>
          <p:cNvSpPr/>
          <p:nvPr/>
        </p:nvSpPr>
        <p:spPr>
          <a:xfrm>
            <a:off x="0" y="-15840"/>
            <a:ext cx="8001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黑体"/>
                <a:ea typeface="黑体"/>
              </a:rPr>
              <a:t>心灵寄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07837-2FB7-4248-AC97-E8BF675A4A8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37760" y="1414440"/>
            <a:ext cx="446724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Arial Rounded MT Bold"/>
                <a:ea typeface="方正小标宋简体"/>
              </a:rPr>
              <a:t>（一）什么是毒品？</a:t>
            </a:r>
            <a:endParaRPr b="0" lang="en-US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8454960" cy="125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0000"/>
              </a:lnSpc>
              <a:spcBef>
                <a:spcPts val="7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根据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中华人民共和国禁毒法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</a:rPr>
              <a:t>》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第二条规定：毒品，是指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</a:rPr>
              <a:t>鸦片、海洛因、甲基苯丙胺（冰毒）、吗啡、大麻、可卡因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</a:rPr>
              <a:t>，以及国家规定管制的其他能够使人形成瘾癖的麻醉药品和精神药品。</a:t>
            </a:r>
            <a:r>
              <a:rPr b="1" lang="zh-CN" sz="3200" spc="-1" strike="noStrike">
                <a:solidFill>
                  <a:srgbClr val="000000"/>
                </a:solidFill>
                <a:latin typeface="仿宋_GB2312"/>
                <a:ea typeface="仿宋_GB2312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599" name="Rectangle 7"/>
          <p:cNvSpPr/>
          <p:nvPr/>
        </p:nvSpPr>
        <p:spPr>
          <a:xfrm>
            <a:off x="88920" y="-114480"/>
            <a:ext cx="800100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方正小标宋简体"/>
                <a:ea typeface="方正小标宋简体"/>
              </a:rPr>
              <a:t>一、毒品基本知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EBC8F-DABD-42E8-A035-0B8E15172B8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图片 4099" descr="jdxc4"/>
          <p:cNvPicPr/>
          <p:nvPr/>
        </p:nvPicPr>
        <p:blipFill>
          <a:blip r:embed="rId1"/>
          <a:stretch/>
        </p:blipFill>
        <p:spPr>
          <a:xfrm>
            <a:off x="-38160" y="0"/>
            <a:ext cx="9372600" cy="6858000"/>
          </a:xfrm>
          <a:prstGeom prst="rect">
            <a:avLst/>
          </a:prstGeom>
          <a:ln w="0">
            <a:noFill/>
          </a:ln>
        </p:spPr>
      </p:pic>
      <p:sp>
        <p:nvSpPr>
          <p:cNvPr id="738" name="文本框 4102"/>
          <p:cNvSpPr/>
          <p:nvPr/>
        </p:nvSpPr>
        <p:spPr>
          <a:xfrm>
            <a:off x="76320" y="2747880"/>
            <a:ext cx="8991360" cy="26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3300"/>
                </a:solidFill>
                <a:latin typeface="Arial"/>
                <a:ea typeface="华文行楷"/>
              </a:rPr>
              <a:t>谢谢大家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26FB-2065-4D92-A598-548483FCD57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"/>
          <p:cNvSpPr txBox="1"/>
          <p:nvPr/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03" name="Picture 2" descr="鸦片"/>
          <p:cNvPicPr/>
          <p:nvPr/>
        </p:nvPicPr>
        <p:blipFill>
          <a:blip r:embed="rId1"/>
          <a:stretch/>
        </p:blipFill>
        <p:spPr>
          <a:xfrm>
            <a:off x="900000" y="1197000"/>
            <a:ext cx="3800520" cy="2279520"/>
          </a:xfrm>
          <a:prstGeom prst="rect">
            <a:avLst/>
          </a:prstGeom>
          <a:ln w="0">
            <a:noFill/>
          </a:ln>
        </p:spPr>
      </p:pic>
      <p:sp>
        <p:nvSpPr>
          <p:cNvPr id="604" name="Text Box 3"/>
          <p:cNvSpPr/>
          <p:nvPr/>
        </p:nvSpPr>
        <p:spPr>
          <a:xfrm>
            <a:off x="4932360" y="1052640"/>
            <a:ext cx="39877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华文新魏"/>
              </a:rPr>
              <a:t>鸦片：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华文新魏"/>
              </a:rPr>
              <a:t>俗称大烟，是罂粟果实中流出的乳液经干燥凝结而成。呈黑色或褐色，味苦。吸食者初吸时会感到头晕目眩、恶心或头痛，多次吸食就会上瘾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5" name="Picture 4" descr="可卡因"/>
          <p:cNvPicPr/>
          <p:nvPr/>
        </p:nvPicPr>
        <p:blipFill>
          <a:blip r:embed="rId2"/>
          <a:stretch/>
        </p:blipFill>
        <p:spPr>
          <a:xfrm>
            <a:off x="4191120" y="3733920"/>
            <a:ext cx="4572000" cy="2895480"/>
          </a:xfrm>
          <a:prstGeom prst="rect">
            <a:avLst/>
          </a:prstGeom>
          <a:ln w="0">
            <a:noFill/>
          </a:ln>
        </p:spPr>
      </p:pic>
      <p:sp>
        <p:nvSpPr>
          <p:cNvPr id="606" name="Text Box 5"/>
          <p:cNvSpPr/>
          <p:nvPr/>
        </p:nvSpPr>
        <p:spPr>
          <a:xfrm>
            <a:off x="826920" y="3789360"/>
            <a:ext cx="3211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华文新魏"/>
              </a:rPr>
              <a:t>可卡因：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华文新魏"/>
              </a:rPr>
              <a:t>呈白色晶状，吸食后表现出情绪高涨、好动、健谈，有时还有攻击倾向，具有很强的成瘾性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336213-18E4-433C-9E6D-C5AB40A572A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 txBox="1"/>
          <p:nvPr/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pic>
        <p:nvPicPr>
          <p:cNvPr id="610" name="Picture 2" descr="海洛因"/>
          <p:cNvPicPr/>
          <p:nvPr/>
        </p:nvPicPr>
        <p:blipFill>
          <a:blip r:embed="rId1"/>
          <a:stretch/>
        </p:blipFill>
        <p:spPr>
          <a:xfrm>
            <a:off x="4572000" y="966960"/>
            <a:ext cx="4140360" cy="2635200"/>
          </a:xfrm>
          <a:prstGeom prst="rect">
            <a:avLst/>
          </a:prstGeom>
          <a:ln w="0">
            <a:noFill/>
          </a:ln>
        </p:spPr>
      </p:pic>
      <p:sp>
        <p:nvSpPr>
          <p:cNvPr id="611" name="Text Box 3"/>
          <p:cNvSpPr/>
          <p:nvPr/>
        </p:nvSpPr>
        <p:spPr>
          <a:xfrm>
            <a:off x="611280" y="1052640"/>
            <a:ext cx="38862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华文新魏"/>
                <a:ea typeface="华文新魏"/>
              </a:rPr>
              <a:t>海洛因：</a:t>
            </a:r>
            <a:r>
              <a:rPr b="1" lang="zh-CN" sz="2600" spc="-1" strike="noStrike">
                <a:solidFill>
                  <a:srgbClr val="ff3300"/>
                </a:solidFill>
                <a:latin typeface="华文新魏"/>
                <a:ea typeface="华文新魏"/>
              </a:rPr>
              <a:t>化学名称“二乙酰吗啡”，俗称白粉。成瘾快，极难戒断。其被称为世界毒品之王，是我国目前监控、查禁的最重要的毒品之一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2" name="Picture 4" descr="吗啡"/>
          <p:cNvPicPr/>
          <p:nvPr/>
        </p:nvPicPr>
        <p:blipFill>
          <a:blip r:embed="rId2"/>
          <a:stretch/>
        </p:blipFill>
        <p:spPr>
          <a:xfrm>
            <a:off x="457200" y="3581280"/>
            <a:ext cx="4495680" cy="2868840"/>
          </a:xfrm>
          <a:prstGeom prst="rect">
            <a:avLst/>
          </a:prstGeom>
          <a:ln w="0">
            <a:noFill/>
          </a:ln>
        </p:spPr>
      </p:pic>
      <p:sp>
        <p:nvSpPr>
          <p:cNvPr id="613" name="Text Box 5"/>
          <p:cNvSpPr/>
          <p:nvPr/>
        </p:nvSpPr>
        <p:spPr>
          <a:xfrm>
            <a:off x="5181480" y="358128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吗啡：</a:t>
            </a: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为无色或白色结晶粉末状，具有镇痛、催眠、止咳、止泻等作用，吸食后会产生欣快感，比鸦片容易成瘾。长期使用会引起精神失常、谵妄和幻想，过量使用会导致呼吸衰竭而死亡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1093E-E171-4456-886E-E17251AA96F4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2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6" name="Picture 5" descr="200606250140_608994"/>
          <p:cNvPicPr/>
          <p:nvPr/>
        </p:nvPicPr>
        <p:blipFill>
          <a:blip r:embed="rId1"/>
          <a:stretch/>
        </p:blipFill>
        <p:spPr>
          <a:xfrm>
            <a:off x="5076720" y="4005360"/>
            <a:ext cx="3422880" cy="2357280"/>
          </a:xfrm>
          <a:prstGeom prst="rect">
            <a:avLst/>
          </a:prstGeom>
          <a:ln w="0">
            <a:noFill/>
          </a:ln>
        </p:spPr>
      </p:pic>
      <p:sp>
        <p:nvSpPr>
          <p:cNvPr id="617" name="Text Box 3"/>
          <p:cNvSpPr/>
          <p:nvPr/>
        </p:nvSpPr>
        <p:spPr>
          <a:xfrm>
            <a:off x="826920" y="4365720"/>
            <a:ext cx="4176720" cy="52056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摇头丸，冰毒的衍生物，具有兴奋和致幻双重作用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Text Box 5"/>
          <p:cNvSpPr/>
          <p:nvPr/>
        </p:nvSpPr>
        <p:spPr>
          <a:xfrm>
            <a:off x="826920" y="1700280"/>
            <a:ext cx="4176720" cy="9471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冰毒即“甲基苯丙胺”，外观为纯白结晶体，故被称为“冰”（</a:t>
            </a:r>
            <a:r>
              <a:rPr b="1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Ice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9" name="Picture 6" descr="01300000181322121357952460511"/>
          <p:cNvPicPr/>
          <p:nvPr/>
        </p:nvPicPr>
        <p:blipFill>
          <a:blip r:embed="rId2"/>
          <a:stretch/>
        </p:blipFill>
        <p:spPr>
          <a:xfrm>
            <a:off x="5076720" y="1268280"/>
            <a:ext cx="3395880" cy="2241720"/>
          </a:xfrm>
          <a:prstGeom prst="rect">
            <a:avLst/>
          </a:prstGeom>
          <a:ln w="0">
            <a:noFill/>
          </a:ln>
        </p:spPr>
      </p:pic>
      <p:sp>
        <p:nvSpPr>
          <p:cNvPr id="620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AEF03-9BA3-4C5D-BC8D-DA0CDCFC3DE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Text Box 2"/>
          <p:cNvSpPr/>
          <p:nvPr/>
        </p:nvSpPr>
        <p:spPr>
          <a:xfrm>
            <a:off x="826920" y="1773360"/>
            <a:ext cx="4104000" cy="52056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K</a:t>
            </a: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粉，静脉全麻药，有时也可用作兽用麻醉药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3" name="Picture 3" descr="xinsrc_350603211109062292085"/>
          <p:cNvPicPr/>
          <p:nvPr/>
        </p:nvPicPr>
        <p:blipFill>
          <a:blip r:embed="rId1"/>
          <a:stretch/>
        </p:blipFill>
        <p:spPr>
          <a:xfrm>
            <a:off x="5219640" y="1125360"/>
            <a:ext cx="3311640" cy="2270160"/>
          </a:xfrm>
          <a:prstGeom prst="rect">
            <a:avLst/>
          </a:prstGeom>
          <a:ln w="0">
            <a:noFill/>
          </a:ln>
        </p:spPr>
      </p:pic>
      <p:sp>
        <p:nvSpPr>
          <p:cNvPr id="624" name="Text Box 4"/>
          <p:cNvSpPr/>
          <p:nvPr/>
        </p:nvSpPr>
        <p:spPr>
          <a:xfrm>
            <a:off x="755640" y="4005360"/>
            <a:ext cx="2827440" cy="947160"/>
          </a:xfrm>
          <a:prstGeom prst="rect">
            <a:avLst/>
          </a:prstGeom>
          <a:solidFill>
            <a:srgbClr val="ccc1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咖啡因是化学合成或从茶叶、咖啡果中提炼出来的一种生物碱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Picture 5" descr="002564a4366012741b6434"/>
          <p:cNvPicPr/>
          <p:nvPr/>
        </p:nvPicPr>
        <p:blipFill>
          <a:blip r:embed="rId2"/>
          <a:stretch/>
        </p:blipFill>
        <p:spPr>
          <a:xfrm>
            <a:off x="3708360" y="3573360"/>
            <a:ext cx="4967280" cy="2786040"/>
          </a:xfrm>
          <a:prstGeom prst="rect">
            <a:avLst/>
          </a:prstGeom>
          <a:ln w="0">
            <a:noFill/>
          </a:ln>
        </p:spPr>
      </p:pic>
      <p:sp>
        <p:nvSpPr>
          <p:cNvPr id="626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51057-1356-4DB0-89DD-A1AEABE6C31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9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Box 5"/>
          <p:cNvSpPr/>
          <p:nvPr/>
        </p:nvSpPr>
        <p:spPr>
          <a:xfrm>
            <a:off x="2050920" y="3646440"/>
            <a:ext cx="309600" cy="4572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Rectangle 6"/>
          <p:cNvSpPr/>
          <p:nvPr/>
        </p:nvSpPr>
        <p:spPr>
          <a:xfrm>
            <a:off x="395280" y="1694880"/>
            <a:ext cx="4537080" cy="947160"/>
          </a:xfrm>
          <a:prstGeom prst="rect">
            <a:avLst/>
          </a:prstGeom>
          <a:solidFill>
            <a:srgbClr val="c4bd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酣乐欣，淡蓝色片，是一种强烈的麻醉药品，口服后可以迅速使人昏迷晕倒，故俗称迷药、蒙汗药、迷魂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7" descr="20061014202132869"/>
          <p:cNvPicPr/>
          <p:nvPr/>
        </p:nvPicPr>
        <p:blipFill>
          <a:blip r:embed="rId1"/>
          <a:stretch/>
        </p:blipFill>
        <p:spPr>
          <a:xfrm>
            <a:off x="5003640" y="981000"/>
            <a:ext cx="3859200" cy="3095640"/>
          </a:xfrm>
          <a:prstGeom prst="rect">
            <a:avLst/>
          </a:prstGeom>
          <a:ln w="0">
            <a:noFill/>
          </a:ln>
        </p:spPr>
      </p:pic>
      <p:sp>
        <p:nvSpPr>
          <p:cNvPr id="631" name="Text Box 5"/>
          <p:cNvSpPr/>
          <p:nvPr/>
        </p:nvSpPr>
        <p:spPr>
          <a:xfrm>
            <a:off x="4211640" y="4653000"/>
            <a:ext cx="4608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华文新魏"/>
              </a:rPr>
              <a:t>伪装成</a:t>
            </a:r>
            <a:r>
              <a:rPr b="1" lang="zh-CN" sz="2600" spc="-1" strike="noStrike">
                <a:solidFill>
                  <a:srgbClr val="0000ff"/>
                </a:solidFill>
                <a:latin typeface="Arial"/>
                <a:ea typeface="华文新魏"/>
              </a:rPr>
              <a:t>橙汁跳跳糖</a:t>
            </a:r>
            <a:r>
              <a:rPr b="1" lang="zh-CN" sz="2600" spc="-1" strike="noStrike">
                <a:solidFill>
                  <a:srgbClr val="ff3300"/>
                </a:solidFill>
                <a:latin typeface="Arial"/>
                <a:ea typeface="华文新魏"/>
              </a:rPr>
              <a:t>的新型毒品。这种毒品遇水即溶，即冲即饮，与各种饮品混合后口味都不发生变化，甚至香味都相似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Picture 6" descr="跳跳糖"/>
          <p:cNvPicPr/>
          <p:nvPr/>
        </p:nvPicPr>
        <p:blipFill>
          <a:blip r:embed="rId2"/>
          <a:stretch/>
        </p:blipFill>
        <p:spPr>
          <a:xfrm>
            <a:off x="971640" y="3284640"/>
            <a:ext cx="3058920" cy="3429000"/>
          </a:xfrm>
          <a:prstGeom prst="rect">
            <a:avLst/>
          </a:prstGeom>
          <a:ln w="0">
            <a:noFill/>
          </a:ln>
        </p:spPr>
      </p:pic>
      <p:sp>
        <p:nvSpPr>
          <p:cNvPr id="63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2B3C2D-8DE6-41B6-917F-C2AE9BDBB4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6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19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4" dur="5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7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06080" y="776160"/>
            <a:ext cx="8210520" cy="9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6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95280" y="1855800"/>
            <a:ext cx="8229600" cy="43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 Rounded MT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Rounded MT Bold"/>
            </a:endParaRPr>
          </a:p>
        </p:txBody>
      </p:sp>
      <p:sp>
        <p:nvSpPr>
          <p:cNvPr id="637" name="Text Box 2"/>
          <p:cNvSpPr/>
          <p:nvPr/>
        </p:nvSpPr>
        <p:spPr>
          <a:xfrm>
            <a:off x="539640" y="1413000"/>
            <a:ext cx="410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这是一款名为</a:t>
            </a:r>
            <a:r>
              <a:rPr b="1" lang="zh-CN" sz="2400" spc="-1" strike="noStrike">
                <a:solidFill>
                  <a:srgbClr val="0000ff"/>
                </a:solidFill>
                <a:latin typeface="华文新魏"/>
                <a:ea typeface="华文新魏"/>
              </a:rPr>
              <a:t>“阿拉伯茶”</a:t>
            </a:r>
            <a:r>
              <a:rPr b="1" lang="zh-CN" sz="2400" spc="-1" strike="noStrike">
                <a:solidFill>
                  <a:srgbClr val="ff3300"/>
                </a:solidFill>
                <a:latin typeface="华文新魏"/>
                <a:ea typeface="华文新魏"/>
              </a:rPr>
              <a:t>的新型毒品，学名叫恰特草，也常被称为“巧茶”，被认为是软性毒品。新鲜的时候就像苋菜，但与苋菜有一个区别就是它的茎都是红的，叶子比苋菜更显得苗条一点，而在晒干之后，“阿拉伯茶”看上去就与茶叶非常像，很有迷惑性，但口感苦涩。无论是生吃还是晒干磨粉冲服，效果与海洛因极似，毒效惊人且成瘾性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3" descr="9e9ba87c-3e2f-40d4-9c06-95da2c7207f2"/>
          <p:cNvPicPr/>
          <p:nvPr/>
        </p:nvPicPr>
        <p:blipFill>
          <a:blip r:embed="rId1"/>
          <a:stretch/>
        </p:blipFill>
        <p:spPr>
          <a:xfrm>
            <a:off x="4716360" y="1341360"/>
            <a:ext cx="3886200" cy="4824360"/>
          </a:xfrm>
          <a:prstGeom prst="rect">
            <a:avLst/>
          </a:prstGeom>
          <a:ln w="0">
            <a:noFill/>
          </a:ln>
        </p:spPr>
      </p:pic>
      <p:sp>
        <p:nvSpPr>
          <p:cNvPr id="63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FD997-B813-4200-B0C8-3FA42CDA4C1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页脚占位符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6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5T06:30:51Z</dcterms:created>
  <dc:creator>slybyc</dc:creator>
  <dc:description/>
  <dc:language>en-US</dc:language>
  <cp:lastModifiedBy>Administrator</cp:lastModifiedBy>
  <dcterms:modified xsi:type="dcterms:W3CDTF">2019-10-08T08:51:07Z</dcterms:modified>
  <cp:revision>6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8648</vt:lpwstr>
  </property>
</Properties>
</file>