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5AD-12A0-4AA9-BFB4-8764C0FB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58F-CB0F-4CF0-8A09-9F5A1428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994D-F13B-461E-ABCC-6C922A9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D7BFA-60D6-4AA8-9310-B1851E05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7C594-AA36-421F-9552-E8383931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7939-71D9-4553-8FA0-5D28406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B03C5-50F2-4EE8-8D2A-A21AF78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A83F-C5A2-421C-8F59-5866543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D8DF3-8844-4440-AB47-E623EA8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6DD9E-42FD-4C2A-898F-AD2844A0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3D5CF-2588-486E-B8FB-1ADCC6B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7FCD-6A6F-405D-B79A-E5C2CC1F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E00-B985-4601-85A4-6321270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8BD2E-EA06-4D40-A6CF-561F2C0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1B535-7953-4631-8992-AC5DB12E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0E226-3D4A-4974-8DF1-31F983F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2B7AA-5D53-4CBD-81A3-D500D92E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745EA-45CB-4975-AFF8-5D5FB35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F31EB-F2C6-44BD-B147-0CC138E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4EE3A-32F4-412C-A1CD-68279B8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A0353-7AFB-48C1-9C8C-C870E34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56F8A-B08E-4A28-8D16-0C45EE07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AD6A2-93C4-43AA-8BF5-FFFE1C97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4C1-5D70-4AB8-BC32-59B6E83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20BFC-A6ED-4DAF-85A8-233ACC4B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1C28-337A-4C5E-AAB2-565A771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72C5-BCDE-4CD7-A733-A7D1DD8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641-2E07-4152-85E0-4D5A9C1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910-67E5-40E3-B3AA-B850482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413A-9350-4EF1-B8C2-839C215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96C-B08E-4203-8586-B046A25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CAD-452A-4E1E-ADD0-6023BEC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45B-9418-4024-8125-FBFA500B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419-F101-48C1-A99B-9232825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7914-B4A0-4C08-9305-BE6DF6D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A32-5E0D-43FB-8412-710EF37E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6CC5-95FD-4483-BF18-AC3744A2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AC6-BED8-42E4-8EAB-E61B878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99E5-534C-4B8F-9B42-1FEAC48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7419-9C45-4115-ABA8-8106B100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8E60-594F-4CEA-83FB-2CDCF89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CE0A-C443-49B3-8EBF-591ECDD4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5266-CFB8-4EE9-B36A-4152207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026-09AF-4648-875A-A4A15BE4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E744-484C-4848-81D4-9B7A63DB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6335-343E-40A0-B2F6-FF55B28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D371-8A26-4D4A-9683-84B10D2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ADAD-6532-4CAF-AA65-1D968F3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5033-5537-4495-9658-734A324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CDDF-6C37-4CF7-AAC7-966CBE6D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2BB1-C58C-4751-BAC5-340D5D25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F2EC-77EE-43C9-98C6-2E77CA65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17ED-BE32-46A7-8244-8668C32B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16D2-D22A-47DF-AFA2-992D3F7E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24A-F256-4DDA-8B41-8E909E6F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BE61-D6E9-4D61-987E-E2276BC9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7A94-56B1-4FC6-B63F-CC9062A6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16F3-EAD3-400B-89DC-FC3BD42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D965-A45A-409E-802C-FE2D32C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56E7-7E6B-4586-BBAF-D7AD195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1398-BB28-409A-B5F1-ECFCFBC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5D0E-2E34-4A53-8DA5-88636FA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B28A-01FB-4F34-838C-F90E3B49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4F39-CEE6-4793-BE23-5AE6E6B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18908-FD14-408A-84E7-4984DDA2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A16-8CA5-4E05-95E4-821AE3E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9B8B-D7B9-4F75-B388-736AD58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C1E3-3870-4022-90E7-6369E91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8A50-4CCE-400A-AE6F-2C36DEB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BD77-8E49-4A2C-AF50-D0CD84C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0317-6111-416A-91E9-1029138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D7359-B92D-470E-BCC0-3B0E820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98BF-71FB-419A-A8E4-1F7BABC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AD54-2424-4E14-A7B7-01F424F8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20A4-BFC6-433A-934B-399B3E5A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3A46-9D01-4B6B-96E8-53954651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01F-61D9-4E8E-B40F-94C31143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9010-3141-47E7-AB66-8B3D65D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9F59E-423E-494D-A23D-0D20CF80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8CAB-ACDF-4287-BA6F-C5ACC72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FE4C2-16C7-445B-85D3-A97CF5F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CE98-CFEE-4D92-80F7-C7D73DD3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50F8-0A2B-4847-A4FE-BB2F52D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621B-4C73-47EE-9431-C5477B0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1910-35DA-4A27-B039-3C59992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4DCF-5BB8-4E17-8125-CE8A957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3612-AAA5-481D-AD43-A940000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0C8-3D75-4594-AE7A-B9031CC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E647-AC7D-44E3-BFCB-355F9F4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C0A2-3D32-45EE-AB09-ED7CBEC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1093-0C4E-4CB8-BDC2-04895E08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BDB0E-41D8-4518-A6FD-ADB83F3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7733-B004-4B15-9CFD-B6D7B7B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847C-51E2-44EA-AC37-13B209B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EE3A-0BC8-467E-86A6-505A6D2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F0AC-8230-4DF2-87C5-FB136EB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5D17-07BF-419F-9D07-E3FB2F38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AD716-87D2-4696-889F-6214FA9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67D-9A7D-4A4B-ABF1-F2E04BC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5DD5A-6BD1-4AFB-827B-71B00C2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870D-D9A5-4E57-BDEA-B04812E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43B7-E763-40F4-A4E4-30E70B8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DDF0-0066-41E5-8786-AB4D85D7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1A45-A33E-4C59-95B7-C72E2ACB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383D-B122-42AA-8EF8-E249B228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CD89-B708-4F90-9A09-8307949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6993-A317-43CA-8E08-71D9C89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8FE0-F6F7-4AF7-8348-8ACB866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E7FA-1132-4BC8-827C-065464F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F3D-7486-48F9-9926-6C6FFB5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35FED-6BE5-4ED2-99CE-E70C59C0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2F5D-B569-490F-8B65-0296A17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525B-DDFB-4FFD-BB1F-04EC9FA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154F-022A-486E-9E6B-63BCC02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2998-0F3A-4BCC-9CD9-8B33904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841E9-17C0-472F-B780-AF924E3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1362-1659-40FC-BD91-49F5A7F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A01EE-BA3E-4703-9C6B-2769FD9A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571B9-F8E9-43A9-9FAC-0C55FD93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568F9-A91A-4F10-B08A-4C600BB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1BB7-EA5D-4414-96B6-B4AD1563AB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17A9-5FFD-4A05-9D2A-34955A912E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DA9E-415F-4C8F-B99C-2F7F53DC7A8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D092-8F64-47E7-8F80-D08443A376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FE3-DD06-4F46-B2D3-3AED96D0307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FAD-D4E2-4500-97A0-600CC880EE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105-5A1A-4B3E-9ACD-E4134B876E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60E8-0E3A-4EAC-A658-282DDFC686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602A-E97B-4AAC-8F0C-665B6684E4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D40-FA61-4661-BE20-9F48B18014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FB7-B52C-46BC-AE1A-0A06BEC483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75F-9528-4DD8-B567-2DEF0FD083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896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7" descr=""/>
          <p:cNvPicPr/>
          <p:nvPr/>
        </p:nvPicPr>
        <p:blipFill>
          <a:blip r:embed="rId3"/>
          <a:srcRect l="35564" t="19410" r="23782" b="19662"/>
          <a:stretch/>
        </p:blipFill>
        <p:spPr>
          <a:xfrm>
            <a:off x="9788400" y="4351320"/>
            <a:ext cx="2698920" cy="2844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290-3E2A-463A-BF3A-8EC7733E72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4D35-4FCD-4E04-B42C-735AE0D173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0DA-2625-4DD5-B5F2-C0CB3371C7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C25-40E6-45A3-BA20-A6C921BB6B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8968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7" descr=""/>
          <p:cNvPicPr/>
          <p:nvPr/>
        </p:nvPicPr>
        <p:blipFill>
          <a:blip r:embed="rId3"/>
          <a:srcRect l="35564" t="19410" r="23782" b="19662"/>
          <a:stretch/>
        </p:blipFill>
        <p:spPr>
          <a:xfrm>
            <a:off x="9788400" y="4351320"/>
            <a:ext cx="2698920" cy="2844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63B-5BFC-4F11-8538-9FC43BE2F26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E25D-0366-4EC3-832A-69BB49AECD2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350-51FC-414C-9D74-923F024040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F85-B996-4715-8659-96B9B8FCCB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方正清刻本悦宋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1321920"/>
            <a:ext cx="9144000" cy="218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《论语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7" descr="E:\稻壳\有料\孔子讲学.jpg孔子讲学"/>
          <p:cNvPicPr/>
          <p:nvPr/>
        </p:nvPicPr>
        <p:blipFill>
          <a:blip r:embed="rId1"/>
          <a:srcRect l="25841" t="0" r="0" b="0"/>
          <a:stretch/>
        </p:blipFill>
        <p:spPr>
          <a:xfrm>
            <a:off x="-47520" y="-47520"/>
            <a:ext cx="12239640" cy="3809880"/>
          </a:xfrm>
          <a:prstGeom prst="rect">
            <a:avLst/>
          </a:prstGeom>
          <a:ln w="0">
            <a:noFill/>
          </a:ln>
        </p:spPr>
      </p:pic>
      <p:sp>
        <p:nvSpPr>
          <p:cNvPr id="424" name="矩形 9"/>
          <p:cNvSpPr/>
          <p:nvPr/>
        </p:nvSpPr>
        <p:spPr>
          <a:xfrm>
            <a:off x="2278080" y="1457280"/>
            <a:ext cx="858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方正清刻本悦宋简体"/>
                <a:ea typeface="方正清刻本悦宋简体"/>
              </a:rPr>
              <a:t>《毒品的危害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0"/>
          <p:cNvSpPr/>
          <p:nvPr/>
        </p:nvSpPr>
        <p:spPr>
          <a:xfrm>
            <a:off x="3287880" y="3936960"/>
            <a:ext cx="5618160" cy="368280"/>
          </a:xfrm>
          <a:prstGeom prst="rect">
            <a:avLst/>
          </a:prstGeom>
          <a:solidFill>
            <a:srgbClr val="e940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教学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2"/>
          <p:cNvSpPr/>
          <p:nvPr/>
        </p:nvSpPr>
        <p:spPr>
          <a:xfrm>
            <a:off x="596880" y="4727520"/>
            <a:ext cx="1104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通过活动的开展，使学生了解有关毒品的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通过图文并茂、通俗易懂的图片的故事，教育和引导小学生远离毒品，提高拒毒防毒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"/>
          <p:cNvSpPr/>
          <p:nvPr/>
        </p:nvSpPr>
        <p:spPr>
          <a:xfrm>
            <a:off x="2986200" y="302724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54cd"/>
                </a:solidFill>
                <a:latin typeface="Arial"/>
              </a:rPr>
              <a:t>阎家河中心学校  毛攀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1d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14337"/>
          <p:cNvSpPr/>
          <p:nvPr/>
        </p:nvSpPr>
        <p:spPr>
          <a:xfrm>
            <a:off x="1346040" y="609480"/>
            <a:ext cx="278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学生讲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99"/>
          <p:cNvSpPr/>
          <p:nvPr/>
        </p:nvSpPr>
        <p:spPr>
          <a:xfrm>
            <a:off x="838080" y="1722600"/>
            <a:ext cx="10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请事先网上搜集材料的学生读有关吸毒者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讲故事"/>
          <p:cNvPicPr/>
          <p:nvPr/>
        </p:nvPicPr>
        <p:blipFill>
          <a:blip r:embed="rId1"/>
          <a:srcRect l="0" t="0" r="47723" b="0"/>
          <a:stretch/>
        </p:blipFill>
        <p:spPr>
          <a:xfrm>
            <a:off x="5041800" y="2597040"/>
            <a:ext cx="2301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7"/>
          <p:cNvSpPr/>
          <p:nvPr/>
        </p:nvSpPr>
        <p:spPr>
          <a:xfrm>
            <a:off x="3819600" y="981000"/>
            <a:ext cx="7358040" cy="4984920"/>
          </a:xfrm>
          <a:custGeom>
            <a:avLst/>
            <a:gdLst/>
            <a:ahLst/>
            <a:rect l="l" t="t" r="r" b="b"/>
            <a:pathLst>
              <a:path w="12630" h="856">
                <a:moveTo>
                  <a:pt x="75" y="0"/>
                </a:moveTo>
                <a:lnTo>
                  <a:pt x="12555" y="0"/>
                </a:lnTo>
                <a:cubicBezTo>
                  <a:pt x="12597" y="0"/>
                  <a:pt x="12630" y="42"/>
                  <a:pt x="12630" y="94"/>
                </a:cubicBezTo>
                <a:lnTo>
                  <a:pt x="12630" y="763"/>
                </a:lnTo>
                <a:cubicBezTo>
                  <a:pt x="12630" y="814"/>
                  <a:pt x="12597" y="856"/>
                  <a:pt x="12555" y="856"/>
                </a:cubicBezTo>
                <a:lnTo>
                  <a:pt x="75" y="856"/>
                </a:lnTo>
                <a:cubicBezTo>
                  <a:pt x="34" y="856"/>
                  <a:pt x="0" y="814"/>
                  <a:pt x="0" y="763"/>
                </a:cubicBezTo>
                <a:lnTo>
                  <a:pt x="0" y="94"/>
                </a:lnTo>
                <a:cubicBezTo>
                  <a:pt x="0" y="42"/>
                  <a:pt x="34" y="0"/>
                  <a:pt x="75" y="0"/>
                </a:cubicBezTo>
                <a:close/>
              </a:path>
            </a:pathLst>
          </a:custGeom>
          <a:solidFill>
            <a:srgbClr val="e6e4e4"/>
          </a:solidFill>
          <a:ln w="0">
            <a:solidFill>
              <a:srgbClr val="c7c7c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>
            <a:off x="1789200" y="981000"/>
            <a:ext cx="1412640" cy="1455840"/>
          </a:xfrm>
          <a:custGeom>
            <a:avLst/>
            <a:gdLst/>
            <a:ahLst/>
            <a:rect l="l" t="t" r="r" b="b"/>
            <a:pathLst>
              <a:path w="2333" h="1818">
                <a:moveTo>
                  <a:pt x="2333" y="0"/>
                </a:moveTo>
                <a:lnTo>
                  <a:pt x="2333" y="1364"/>
                </a:lnTo>
                <a:lnTo>
                  <a:pt x="1166" y="1818"/>
                </a:lnTo>
                <a:lnTo>
                  <a:pt x="0" y="1364"/>
                </a:lnTo>
                <a:lnTo>
                  <a:pt x="0" y="0"/>
                </a:lnTo>
                <a:lnTo>
                  <a:pt x="2333" y="0"/>
                </a:lnTo>
                <a:close/>
                <a:moveTo>
                  <a:pt x="1166" y="0"/>
                </a:moveTo>
              </a:path>
            </a:pathLst>
          </a:custGeom>
          <a:solidFill>
            <a:srgbClr val="e94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7"/>
          <p:cNvSpPr/>
          <p:nvPr/>
        </p:nvSpPr>
        <p:spPr>
          <a:xfrm>
            <a:off x="3819600" y="9810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54cd"/>
                </a:solidFill>
                <a:latin typeface="方正清刻本悦宋简体"/>
                <a:ea typeface="方正清刻本悦宋简体"/>
              </a:rPr>
              <a:t>同学们，希望我们每个人都能做到：一发现有人吸毒，以现有毒品犯罪时，立即举报；为了自己的健康，这了家人的幸福，为了社会的安定，请你远离毒品，珍爱生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1789200" y="2278080"/>
            <a:ext cx="1412640" cy="1420920"/>
          </a:xfrm>
          <a:custGeom>
            <a:avLst/>
            <a:gdLst/>
            <a:ahLst/>
            <a:rect l="l" t="t" r="r" b="b"/>
            <a:pathLst>
              <a:path w="2333" h="1775">
                <a:moveTo>
                  <a:pt x="2333" y="0"/>
                </a:moveTo>
                <a:lnTo>
                  <a:pt x="2333" y="1331"/>
                </a:lnTo>
                <a:lnTo>
                  <a:pt x="1166" y="1775"/>
                </a:lnTo>
                <a:lnTo>
                  <a:pt x="0" y="1331"/>
                </a:lnTo>
                <a:lnTo>
                  <a:pt x="0" y="0"/>
                </a:lnTo>
                <a:lnTo>
                  <a:pt x="1166" y="444"/>
                </a:lnTo>
                <a:lnTo>
                  <a:pt x="2333" y="0"/>
                </a:lnTo>
                <a:close/>
                <a:moveTo>
                  <a:pt x="1750" y="222"/>
                </a:moveTo>
              </a:path>
            </a:pathLst>
          </a:custGeom>
          <a:solidFill>
            <a:srgbClr val="e94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1789200" y="3519360"/>
            <a:ext cx="1412640" cy="1420920"/>
          </a:xfrm>
          <a:custGeom>
            <a:avLst/>
            <a:gdLst/>
            <a:ahLst/>
            <a:rect l="l" t="t" r="r" b="b"/>
            <a:pathLst>
              <a:path w="2333" h="1775">
                <a:moveTo>
                  <a:pt x="2333" y="0"/>
                </a:moveTo>
                <a:lnTo>
                  <a:pt x="2333" y="1331"/>
                </a:lnTo>
                <a:lnTo>
                  <a:pt x="1166" y="1775"/>
                </a:lnTo>
                <a:lnTo>
                  <a:pt x="0" y="1331"/>
                </a:lnTo>
                <a:lnTo>
                  <a:pt x="0" y="0"/>
                </a:lnTo>
                <a:lnTo>
                  <a:pt x="1166" y="444"/>
                </a:lnTo>
                <a:lnTo>
                  <a:pt x="2333" y="0"/>
                </a:lnTo>
                <a:close/>
                <a:moveTo>
                  <a:pt x="1750" y="222"/>
                </a:moveTo>
              </a:path>
            </a:pathLst>
          </a:custGeom>
          <a:solidFill>
            <a:srgbClr val="e94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1789200" y="4745160"/>
            <a:ext cx="1412640" cy="1419120"/>
          </a:xfrm>
          <a:custGeom>
            <a:avLst/>
            <a:gdLst/>
            <a:ahLst/>
            <a:rect l="l" t="t" r="r" b="b"/>
            <a:pathLst>
              <a:path w="2333" h="1774">
                <a:moveTo>
                  <a:pt x="2333" y="0"/>
                </a:moveTo>
                <a:lnTo>
                  <a:pt x="2333" y="1331"/>
                </a:lnTo>
                <a:lnTo>
                  <a:pt x="1166" y="1774"/>
                </a:lnTo>
                <a:lnTo>
                  <a:pt x="0" y="1331"/>
                </a:lnTo>
                <a:lnTo>
                  <a:pt x="0" y="0"/>
                </a:lnTo>
                <a:lnTo>
                  <a:pt x="1166" y="443"/>
                </a:lnTo>
                <a:lnTo>
                  <a:pt x="2333" y="0"/>
                </a:lnTo>
                <a:close/>
                <a:moveTo>
                  <a:pt x="1750" y="221"/>
                </a:moveTo>
              </a:path>
            </a:pathLst>
          </a:custGeom>
          <a:solidFill>
            <a:srgbClr val="e94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"/>
          <p:cNvSpPr/>
          <p:nvPr/>
        </p:nvSpPr>
        <p:spPr>
          <a:xfrm>
            <a:off x="2093760" y="1282680"/>
            <a:ext cx="8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"/>
          <p:cNvSpPr/>
          <p:nvPr/>
        </p:nvSpPr>
        <p:spPr>
          <a:xfrm>
            <a:off x="2093760" y="2752560"/>
            <a:ext cx="8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7"/>
          <p:cNvSpPr/>
          <p:nvPr/>
        </p:nvSpPr>
        <p:spPr>
          <a:xfrm>
            <a:off x="2093760" y="3914640"/>
            <a:ext cx="8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8"/>
          <p:cNvSpPr/>
          <p:nvPr/>
        </p:nvSpPr>
        <p:spPr>
          <a:xfrm>
            <a:off x="2093760" y="5137200"/>
            <a:ext cx="8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2cc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14337"/>
          <p:cNvSpPr/>
          <p:nvPr/>
        </p:nvSpPr>
        <p:spPr>
          <a:xfrm>
            <a:off x="2849400" y="603360"/>
            <a:ext cx="64929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清刻本悦宋简体"/>
              </a:rPr>
              <a:t>新课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985680" y="1957320"/>
            <a:ext cx="97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话：在前面的课上，同学们一定对毒品有了一些了解，谁能说一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" descr="timg"/>
          <p:cNvPicPr/>
          <p:nvPr/>
        </p:nvPicPr>
        <p:blipFill>
          <a:blip r:embed="rId1"/>
          <a:stretch/>
        </p:blipFill>
        <p:spPr>
          <a:xfrm>
            <a:off x="5086440" y="3228840"/>
            <a:ext cx="38908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2cc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文本框 14337"/>
          <p:cNvSpPr/>
          <p:nvPr/>
        </p:nvSpPr>
        <p:spPr>
          <a:xfrm>
            <a:off x="2868480" y="311040"/>
            <a:ext cx="6212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字迹-邢体草书简体"/>
                <a:ea typeface="方正字迹-邢体草书简体"/>
              </a:rPr>
              <a:t>认识毒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2" descr="鸦片"/>
          <p:cNvPicPr/>
          <p:nvPr/>
        </p:nvPicPr>
        <p:blipFill>
          <a:blip r:embed="rId1"/>
          <a:stretch/>
        </p:blipFill>
        <p:spPr>
          <a:xfrm flipH="1">
            <a:off x="708120" y="1584360"/>
            <a:ext cx="3651120" cy="2736720"/>
          </a:xfrm>
          <a:prstGeom prst="rect">
            <a:avLst/>
          </a:prstGeom>
          <a:ln w="0">
            <a:noFill/>
          </a:ln>
        </p:spPr>
      </p:pic>
      <p:sp>
        <p:nvSpPr>
          <p:cNvPr id="433" name="文本框 3"/>
          <p:cNvSpPr/>
          <p:nvPr/>
        </p:nvSpPr>
        <p:spPr>
          <a:xfrm>
            <a:off x="1663560" y="4871880"/>
            <a:ext cx="15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鸦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7" descr="吗啡"/>
          <p:cNvPicPr/>
          <p:nvPr/>
        </p:nvPicPr>
        <p:blipFill>
          <a:blip r:embed="rId2"/>
          <a:srcRect l="0" t="0" r="50420" b="0"/>
          <a:stretch/>
        </p:blipFill>
        <p:spPr>
          <a:xfrm>
            <a:off x="6300720" y="1444680"/>
            <a:ext cx="3246480" cy="3279600"/>
          </a:xfrm>
          <a:prstGeom prst="rect">
            <a:avLst/>
          </a:prstGeom>
          <a:ln w="0">
            <a:noFill/>
          </a:ln>
        </p:spPr>
      </p:pic>
      <p:sp>
        <p:nvSpPr>
          <p:cNvPr id="435" name="文本框 8"/>
          <p:cNvSpPr/>
          <p:nvPr/>
        </p:nvSpPr>
        <p:spPr>
          <a:xfrm>
            <a:off x="7169040" y="49989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吗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4337"/>
          <p:cNvSpPr/>
          <p:nvPr/>
        </p:nvSpPr>
        <p:spPr>
          <a:xfrm>
            <a:off x="2868480" y="311040"/>
            <a:ext cx="6212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字迹-邢体草书简体"/>
                <a:ea typeface="方正字迹-邢体草书简体"/>
              </a:rPr>
              <a:t>认识毒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"/>
          <p:cNvSpPr/>
          <p:nvPr/>
        </p:nvSpPr>
        <p:spPr>
          <a:xfrm>
            <a:off x="2266920" y="488808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海洛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"/>
          <p:cNvSpPr/>
          <p:nvPr/>
        </p:nvSpPr>
        <p:spPr>
          <a:xfrm>
            <a:off x="7688160" y="4998960"/>
            <a:ext cx="15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冰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1" descr="海洛因"/>
          <p:cNvPicPr/>
          <p:nvPr/>
        </p:nvPicPr>
        <p:blipFill>
          <a:blip r:embed="rId1"/>
          <a:stretch/>
        </p:blipFill>
        <p:spPr>
          <a:xfrm>
            <a:off x="1349280" y="1662120"/>
            <a:ext cx="3683160" cy="284472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5" descr="病毒"/>
          <p:cNvPicPr/>
          <p:nvPr/>
        </p:nvPicPr>
        <p:blipFill>
          <a:blip r:embed="rId2"/>
          <a:stretch/>
        </p:blipFill>
        <p:spPr>
          <a:xfrm>
            <a:off x="6629400" y="1662120"/>
            <a:ext cx="3627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14337"/>
          <p:cNvSpPr/>
          <p:nvPr/>
        </p:nvSpPr>
        <p:spPr>
          <a:xfrm>
            <a:off x="2868480" y="311040"/>
            <a:ext cx="6212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字迹-邢体草书简体"/>
                <a:ea typeface="方正字迹-邢体草书简体"/>
              </a:rPr>
              <a:t>认识毒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"/>
          <p:cNvSpPr/>
          <p:nvPr/>
        </p:nvSpPr>
        <p:spPr>
          <a:xfrm>
            <a:off x="2266920" y="488808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摇头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8"/>
          <p:cNvSpPr/>
          <p:nvPr/>
        </p:nvSpPr>
        <p:spPr>
          <a:xfrm>
            <a:off x="7858080" y="488808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可卡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片 2" descr="摇头丸"/>
          <p:cNvPicPr/>
          <p:nvPr/>
        </p:nvPicPr>
        <p:blipFill>
          <a:blip r:embed="rId1"/>
          <a:stretch/>
        </p:blipFill>
        <p:spPr>
          <a:xfrm>
            <a:off x="808200" y="1589040"/>
            <a:ext cx="4941720" cy="3089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6" descr="可卡因"/>
          <p:cNvPicPr/>
          <p:nvPr/>
        </p:nvPicPr>
        <p:blipFill>
          <a:blip r:embed="rId2"/>
          <a:stretch/>
        </p:blipFill>
        <p:spPr>
          <a:xfrm>
            <a:off x="6400800" y="1589040"/>
            <a:ext cx="4424400" cy="308916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99"/>
          <p:cNvSpPr/>
          <p:nvPr/>
        </p:nvSpPr>
        <p:spPr>
          <a:xfrm>
            <a:off x="824040" y="5638680"/>
            <a:ext cx="88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些毒品长期吸食都会成瘾，对人体产生危害，而且易感染疾病。如果服用过量，则可导致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1d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14337"/>
          <p:cNvSpPr/>
          <p:nvPr/>
        </p:nvSpPr>
        <p:spPr>
          <a:xfrm>
            <a:off x="1143000" y="793800"/>
            <a:ext cx="2786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自由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"/>
          <p:cNvSpPr/>
          <p:nvPr/>
        </p:nvSpPr>
        <p:spPr>
          <a:xfrm>
            <a:off x="2572560" y="2052720"/>
            <a:ext cx="487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77dea"/>
                </a:solidFill>
                <a:latin typeface="Arial"/>
              </a:rPr>
              <a:t>看了这些图片，你有什么感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图片 6" descr="自由谈话"/>
          <p:cNvPicPr/>
          <p:nvPr/>
        </p:nvPicPr>
        <p:blipFill>
          <a:blip r:embed="rId1"/>
          <a:stretch/>
        </p:blipFill>
        <p:spPr>
          <a:xfrm>
            <a:off x="917640" y="3267000"/>
            <a:ext cx="45831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1d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076040" y="2538360"/>
            <a:ext cx="92898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1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毒品摧毁人的消化功能。</a:t>
            </a:r>
            <a:r>
              <a:rPr b="1" lang="zh-CN" sz="4400" spc="-1" strike="noStrike" u="sng">
                <a:solidFill>
                  <a:srgbClr val="7030a0"/>
                </a:solidFill>
                <a:uFillTx/>
                <a:latin typeface="方正清刻本悦宋简体"/>
                <a:ea typeface="方正清刻本悦宋简体"/>
              </a:rPr>
              <a:t>                                                                                                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2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摧毁人的神经系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3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摧毁人的呼吸及循环系统。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4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传染性病及“爱滋病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AIDS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4337"/>
          <p:cNvSpPr/>
          <p:nvPr/>
        </p:nvSpPr>
        <p:spPr>
          <a:xfrm>
            <a:off x="1346040" y="609480"/>
            <a:ext cx="278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毒品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99"/>
          <p:cNvSpPr/>
          <p:nvPr/>
        </p:nvSpPr>
        <p:spPr>
          <a:xfrm>
            <a:off x="1266840" y="1641600"/>
            <a:ext cx="45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．毒品毁人毁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1d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076040" y="2538000"/>
            <a:ext cx="928980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1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丧失工作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2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倾家荡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（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3</a:t>
            </a:r>
            <a:r>
              <a:rPr b="1" lang="zh-CN" sz="4400" spc="-1" strike="noStrike">
                <a:solidFill>
                  <a:srgbClr val="7030a0"/>
                </a:solidFill>
                <a:latin typeface="方正清刻本悦宋简体"/>
                <a:ea typeface="方正清刻本悦宋简体"/>
              </a:rPr>
              <a:t>）给家人带来无尽的折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4337"/>
          <p:cNvSpPr/>
          <p:nvPr/>
        </p:nvSpPr>
        <p:spPr>
          <a:xfrm>
            <a:off x="1346040" y="609480"/>
            <a:ext cx="278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毒品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1266840" y="164160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．毒品令家人倾家荡产、家破人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1d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文本框 14337"/>
          <p:cNvSpPr/>
          <p:nvPr/>
        </p:nvSpPr>
        <p:spPr>
          <a:xfrm>
            <a:off x="1346040" y="609480"/>
            <a:ext cx="278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毒品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99"/>
          <p:cNvSpPr/>
          <p:nvPr/>
        </p:nvSpPr>
        <p:spPr>
          <a:xfrm>
            <a:off x="1214280" y="219852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．吸毒导致堕落、犯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1754cd"/>
                </a:solidFill>
                <a:latin typeface="Arial"/>
                <a:ea typeface="宋体"/>
              </a:rPr>
              <a:t>．吸毒危害社会，成为世界公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>kingsoft</dc:creator>
  <dc:description/>
  <dc:language>en-US</dc:language>
  <cp:lastModifiedBy>海风</cp:lastModifiedBy>
  <dcterms:modified xsi:type="dcterms:W3CDTF">2019-10-29T08:37:41Z</dcterms:modified>
  <cp:revision>4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