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8B5F-A18A-4CF3-85A4-C355D380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531-DDCD-4D2C-B3A8-570ADC59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B0051-9536-4447-B14E-BCEF68AA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B61F0-E6AF-48FA-A5C8-44268C7B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501D8-E801-4B47-8B57-F8D5E7D1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4A48E-C460-4013-88EF-FA11197E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5D60A-1AE1-48C5-8F29-BE755971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53812-6F89-4F26-A8A5-67E11311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3C341-7EFD-4BA9-911C-AD409317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3F546-D403-4376-AD6B-B5D7C42A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15602-0052-4163-ADE6-AE4BC379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C2C3F-7129-4FF8-842D-87F53E29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488-AC2E-4449-8BFC-23FF2415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C04F43-314A-4028-9CF3-FB6A7C563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CC915-562E-4334-A27A-44247C7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46C21-7B38-4D17-B6BA-FB262BFCB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80596-E476-46C4-986A-50FB6BB6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5744E-970D-4851-85EC-4288271D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3042F-8281-404D-B122-06C48657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343FE-8AAC-43D3-B565-B5598DD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5626F5-EF77-4375-85CC-C1A8F5EB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E0503-C86A-4AC1-B433-9997A31E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5E6CB-17FF-4182-B182-4BCF07EB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A9F-94F9-4F76-8B15-A0888571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9B4F9-27C8-447C-83A0-73B84814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34ACE-6FEA-4798-B7E7-6E1F97D0A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63514-6487-4183-9483-A5F695DF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C304E-A8F9-4B4F-9E1C-F4E895D0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C9C6D-3572-46CE-96E9-D62ED68DD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B26071-66BA-411D-A00F-69E911E8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BA83AB-5051-41EC-903D-83E73076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02828-9F7A-4715-B63E-1EFC4D97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3E9ED-7031-4C86-B7D9-1123E99E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B7085-07D1-4CCD-8FE4-4821C654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D389-4567-4387-80BF-CA062C80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9A29D-854A-4527-B15B-15A4FC4F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C9F84-CA9F-439D-88AE-5D52BC4F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DF509-2144-4382-AE6F-DC97F3C0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F39566-826A-47BA-8F59-412D7AB2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47F5E-0401-447C-B4B5-CE395855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AA825-D081-48B5-8722-391EF4E3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0C946-058A-43CF-BE8D-21E99550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5B485-877E-41AF-96CE-9F4CCCBB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92FAE-2D6A-4632-8C46-0BF5688D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AC12F-3F18-406F-8D99-C6B212C0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FADA-122C-4C74-AD6C-89FB90B5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84663-DD2B-4620-813D-AD7AECB0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ED134-CAB1-432F-9CB6-8448FEEC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244DB-D3F0-484F-A3EF-C502C410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7488D-A7D8-4D59-809C-7AEB7CA91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969BC-D8D5-4124-9434-05879B96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76DC-32C4-43F7-8BF7-72E6AE4F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6EAC-0C3C-47A2-A5FA-07FEE718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8FC1-F0DF-43CB-8E0B-243C52D3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641F-E8C9-4EB3-B226-66A53980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61B9-81EF-44BC-B8D2-C02F6812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7F8-1722-4A6B-A5E0-95C99FFF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8ED-94A4-468B-A6C6-644192E3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4ABA-2959-4F17-B742-A0ED897C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CB0D8-102F-4588-974D-E21C4DE4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1B1B-B515-4DC5-BF1B-48E316F3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EB2D-280D-4660-9B42-3C0FBE26B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B19C-D323-48CF-8733-6D6518D5A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5F8F-1712-4409-BD68-C9692BD7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574A-150D-416E-809F-82F6BBDF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20BEC-8ADF-4A1C-8243-D41FF1EB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3D391-F687-45C4-A853-58819EBA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0CD-13B5-4B64-8420-2D1118B2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9537-7D1E-426A-A0A0-BF4D3F8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A6B18-7508-4393-9341-0A21133D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4F29E-8855-443D-B7C4-2A04DCF6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5F3F8-A448-40D7-A8AC-4177B444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7871-55D7-4304-94D1-E5DC73DB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B6567-AFD0-436A-B87D-6943CC0A5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80A52-81C4-4650-9CA0-C82F5005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69D34-096A-48BE-BA55-5C929A6F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2E25D-991B-4AE9-B9AE-03AA2B1E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EB64-3639-4374-A27B-48EB82F5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5C5-315A-4634-9131-704552C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C7AD-F32D-4B47-B523-FD032F8BA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2D072-0FCE-4938-B183-ACCFCF0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882AE-8A86-4A34-8C6E-92DF447C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874D3-43FD-4D01-B4F9-F31B664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7A579-E221-4654-9220-A1DB686B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34A68-83BA-4A59-BCB2-4B861ACB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6A1DB-2284-4939-93CC-99ED1E17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F72FF-A84D-48FC-8212-B808CC260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5FB50-BD44-463E-869E-E4537412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FE5B-306C-4114-B814-05E7069DB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DF0-E4D6-4626-A63B-3523A2D7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02F20-FE5E-45CD-ABF2-F43E9BF9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D7300-7F1D-4E34-AEF3-255C7A4A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7FBF-CDC5-41E8-8A31-7B3C3B1D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F7D3A-9E8D-4CD4-9152-40C18438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E6B7D-AF27-4BEF-938A-995F7CA1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2C017-5DEF-425A-8B4F-261C93AA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EAE6C-E5E7-40DA-8F43-235B150A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BBF06-8175-4E9E-9BC0-A2C13B32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970E4-73BC-46E5-B3F2-C369E5AA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277AB-899E-4C12-A43A-3D50DA49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4D1-57C0-4F1B-8CB9-FE1DF5D3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C3987-9A18-476E-ADDD-E3AA0B97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2F067-4170-441C-95CB-46EFB5C2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5FC72-F9EE-4683-BD8B-F0E1B4C6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F37EF-3709-4D6E-8092-49B4C29F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EA68C-7375-4708-AAF2-9D66B118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D2831-EB41-41E6-A2E1-9BD0DE53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624D2-77D3-458C-B931-2800113B6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54A0-C93B-4E37-A60F-9D712C6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C6138-5DBB-4516-8FD2-074DBE86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17260-F1B8-4A88-B66D-202D2A2E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D58-766B-49EB-A4F8-5ACB9C2C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AFD47-436B-4652-9211-D71B5EF4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9BBC-8244-4F75-8FF7-DA9D1C0A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B3338-2EFE-4180-B833-E647AFEA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30913-8E50-422A-B0A3-BD04C258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CBAC-2B41-4884-8855-1609E205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98B28-782D-47B9-BF89-9446D165C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D604B-260C-4984-AC9F-D8C08393F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25418-1157-459C-8F7E-50758EB3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27EC7-E143-4FF6-9BD0-A2B6432C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20B25-D6D8-4A36-86CC-143004F0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7C6-9474-4A81-8A05-217B373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594C9-5921-4295-87A7-BF66FDECD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865F8-46C1-4B65-8F23-A394E78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E78C5-3F24-4F9C-AEEE-22978EA5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1996C-A45D-4954-8CF0-D89E5025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48A6B-50B0-4D34-B579-A583CF19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B67B1-4B91-43EE-AC48-B5300744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DCE41-2F91-426C-B426-1A22850F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C4DAA-3ECB-40CF-ADB1-67E297F6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58D96-16A8-4AD7-B5AE-656FDBF8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3BC03-98AA-4766-810A-4351D8DB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582A-6B25-43BD-80F5-404B8C71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52AE8-4734-4934-B17D-F74BCC53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91327-6133-4B4F-9B0C-6E04D5BA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36A05-8D4E-4499-B73C-093AA159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F5630-B22B-45AE-A81A-B7E84E62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8C95B-18C8-4887-B6E1-49AAA6C5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C80B4-11C1-4FD0-9693-0DF88E79E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ABC346-75FB-45E3-90AF-26205AED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6A9E2-C439-4308-8CB1-BF4D769B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9441-22F5-4CC3-B596-243E1E4E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75448-4086-4122-8976-1F17A1DC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2134-955F-4CBC-97A2-A5E46C5D26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5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6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717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718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19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20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21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22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23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24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25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26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727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28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29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30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31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732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733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734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735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36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37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38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39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40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41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42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43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744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45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46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747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748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749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750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751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52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53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54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55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56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57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58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759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CE8F-0782-4BA9-8273-2BFF7748AE43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2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3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804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05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06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07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08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09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10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11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12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13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814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815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816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17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18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819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820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821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822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823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24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25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26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27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28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29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30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831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32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33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834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835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836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837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838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39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40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41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42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43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44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45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846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54F0-C42D-4227-B7A8-2CAF743FAC8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9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90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891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892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93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94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95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96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97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98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899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00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901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902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903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04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05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906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907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908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909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910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11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12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13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14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15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16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17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918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919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920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921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922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923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924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925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26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27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28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29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30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31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32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933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39F1-9E8A-43EE-9C5C-6969B26F392B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2315-545A-4BAA-82BA-9CAFEFC13965}" type="datetime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4513-CDB4-4E63-800F-42576F02E40B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49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1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2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3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4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5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6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7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8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59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2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3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4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65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66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67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9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0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1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2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3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4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75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76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78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79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80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81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82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83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4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5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6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7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8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89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90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91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任意多边形 88065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29" name="组合 88071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任意多边形 88072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31" name="任意多边形 88073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32" name="任意多边形 88074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133" name="组合 88075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任意多边形 88076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35" name="任意多边形 88077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36" name="任意多边形 88078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37" name="任意多边形 88079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38" name="任意多边形 88080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</p:grpSp>
      <p:grpSp>
        <p:nvGrpSpPr>
          <p:cNvPr id="139" name="组合 88081"/>
          <p:cNvGrpSpPr/>
          <p:nvPr/>
        </p:nvGrpSpPr>
        <p:grpSpPr>
          <a:xfrm>
            <a:off x="7799040" y="4322160"/>
            <a:ext cx="976320" cy="1155960"/>
            <a:chOff x="7799040" y="4322160"/>
            <a:chExt cx="976320" cy="1155960"/>
          </a:xfrm>
        </p:grpSpPr>
        <p:sp>
          <p:nvSpPr>
            <p:cNvPr id="140" name="任意多边形 88082"/>
            <p:cNvSpPr/>
            <p:nvPr/>
          </p:nvSpPr>
          <p:spPr>
            <a:xfrm rot="7320000">
              <a:off x="7786440" y="4654440"/>
              <a:ext cx="99216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1" name="任意多边形 88083"/>
            <p:cNvSpPr/>
            <p:nvPr/>
          </p:nvSpPr>
          <p:spPr>
            <a:xfrm rot="7320000">
              <a:off x="7761600" y="4633200"/>
              <a:ext cx="989280" cy="4600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42" name="任意多边形 88084"/>
            <p:cNvSpPr/>
            <p:nvPr/>
          </p:nvSpPr>
          <p:spPr>
            <a:xfrm rot="7320000">
              <a:off x="7929000" y="4617360"/>
              <a:ext cx="65592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143" name="组合 88085"/>
            <p:cNvGrpSpPr/>
            <p:nvPr/>
          </p:nvGrpSpPr>
          <p:grpSpPr>
            <a:xfrm>
              <a:off x="7799040" y="4323960"/>
              <a:ext cx="976320" cy="1154160"/>
              <a:chOff x="7799040" y="4323960"/>
              <a:chExt cx="976320" cy="1154160"/>
            </a:xfrm>
          </p:grpSpPr>
          <p:sp>
            <p:nvSpPr>
              <p:cNvPr id="144" name="任意多边形 88086"/>
              <p:cNvSpPr/>
              <p:nvPr/>
            </p:nvSpPr>
            <p:spPr>
              <a:xfrm rot="7320000">
                <a:off x="7916760" y="5065560"/>
                <a:ext cx="9288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45" name="任意多边形 88087"/>
              <p:cNvSpPr/>
              <p:nvPr/>
            </p:nvSpPr>
            <p:spPr>
              <a:xfrm rot="7320000">
                <a:off x="7760880" y="4654080"/>
                <a:ext cx="105228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46" name="任意多边形 88088"/>
              <p:cNvSpPr/>
              <p:nvPr/>
            </p:nvSpPr>
            <p:spPr>
              <a:xfrm rot="7320000">
                <a:off x="8047800" y="4770000"/>
                <a:ext cx="74484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47" name="任意多边形 88089"/>
              <p:cNvSpPr/>
              <p:nvPr/>
            </p:nvSpPr>
            <p:spPr>
              <a:xfrm rot="7320000">
                <a:off x="8515080" y="4565880"/>
                <a:ext cx="9936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148" name="任意多边形 88090"/>
              <p:cNvSpPr/>
              <p:nvPr/>
            </p:nvSpPr>
            <p:spPr>
              <a:xfrm rot="7320000">
                <a:off x="8154720" y="4764240"/>
                <a:ext cx="30420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</p:grpSp>
      </p:grpSp>
      <p:sp>
        <p:nvSpPr>
          <p:cNvPr id="149" name="任意多边形 88091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0" name="任意多边形 88092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56A0-22E8-4182-8B62-1AF100325F3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3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4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95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6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7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8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9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00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01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02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03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04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205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6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7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08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09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210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11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12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213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4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15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16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17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18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19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0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21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222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3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24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225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226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227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228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229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0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1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2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3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4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5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36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237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F8E7-2C4A-44A6-A479-FB07E65F2EA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0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1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82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83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4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5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6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7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8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89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90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91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292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93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94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95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296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297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98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299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00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01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02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03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04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05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06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07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08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309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10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11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12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313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314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15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316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17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18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19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0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1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2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23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324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6213-96F8-4271-98DE-F1C675015926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7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8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69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70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1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2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3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4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5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6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7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78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379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80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81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82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83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384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385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386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387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88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89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0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1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2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3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4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395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396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97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98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399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400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401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402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403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04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05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06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07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08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09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10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411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15D0-F116-4DF2-BF16-8D10EAAB4649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4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5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456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57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58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59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60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61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62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63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64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65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466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67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68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69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70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471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72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473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474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75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76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77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78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79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80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81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82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483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84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485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486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487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488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489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490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91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92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93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94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95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96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497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498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D88A-338A-4007-A5BF-790C87A9663A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1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2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543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44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45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46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47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48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49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50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51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52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553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554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555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56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57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558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559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560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561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562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63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64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65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66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67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68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69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570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71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572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573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574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575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576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577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78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79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80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81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82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83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584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585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4AFB-3678-4A3E-9FDF-F2F79F35F3E2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任意多边形 87041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8" name="任意多边形 87047"/>
          <p:cNvSpPr/>
          <p:nvPr/>
        </p:nvSpPr>
        <p:spPr>
          <a:xfrm rot="18427200">
            <a:off x="7862760" y="20160"/>
            <a:ext cx="1165320" cy="20988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9" name="任意多边形 87048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630" name="组合 87049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31" name="任意多边形 87050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32" name="任意多边形 87051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33" name="任意多边形 87052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34" name="任意多边形 87053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35" name="任意多边形 87054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36" name="任意多边形 87055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37" name="任意多边形 87056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38" name="任意多边形 87057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39" name="任意多边形 87058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grpSp>
          <p:nvGrpSpPr>
            <p:cNvPr id="640" name="组合 87059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41" name="组合 87060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42" name="任意多边形 87061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43" name="任意多边形 87062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44" name="任意多边形 87063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  <p:sp>
            <p:nvSpPr>
              <p:cNvPr id="645" name="任意多边形 87064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646" name="任意多边形 87065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sp>
            <p:nvSpPr>
              <p:cNvPr id="647" name="任意多边形 87066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648" name="组合 87067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49" name="任意多边形 87068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50" name="任意多边形 87069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51" name="任意多边形 87070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52" name="任意多边形 87071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53" name="任意多边形 87072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54" name="任意多边形 87073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55" name="任意多边形 87074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56" name="任意多边形 87075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</p:grpSp>
      <p:grpSp>
        <p:nvGrpSpPr>
          <p:cNvPr id="657" name="组合 87076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658" name="任意多边形 87077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659" name="任意多边形 87078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grpSp>
        <p:nvGrpSpPr>
          <p:cNvPr id="660" name="组合 87079"/>
          <p:cNvGrpSpPr/>
          <p:nvPr/>
        </p:nvGrpSpPr>
        <p:grpSpPr>
          <a:xfrm>
            <a:off x="7171560" y="-78120"/>
            <a:ext cx="2427480" cy="2247120"/>
            <a:chOff x="7171560" y="-78120"/>
            <a:chExt cx="2427480" cy="2247120"/>
          </a:xfrm>
        </p:grpSpPr>
        <p:grpSp>
          <p:nvGrpSpPr>
            <p:cNvPr id="661" name="组合 87080"/>
            <p:cNvGrpSpPr/>
            <p:nvPr/>
          </p:nvGrpSpPr>
          <p:grpSpPr>
            <a:xfrm>
              <a:off x="7171560" y="-78120"/>
              <a:ext cx="2427480" cy="2247120"/>
              <a:chOff x="7171560" y="-78120"/>
              <a:chExt cx="2427480" cy="2247120"/>
            </a:xfrm>
          </p:grpSpPr>
          <p:sp>
            <p:nvSpPr>
              <p:cNvPr id="662" name="任意多边形 87081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黑体"/>
                </a:endParaRPr>
              </a:p>
            </p:txBody>
          </p:sp>
          <p:grpSp>
            <p:nvGrpSpPr>
              <p:cNvPr id="663" name="组合 87082"/>
              <p:cNvGrpSpPr/>
              <p:nvPr/>
            </p:nvGrpSpPr>
            <p:grpSpPr>
              <a:xfrm>
                <a:off x="7171560" y="-78120"/>
                <a:ext cx="2427480" cy="2247120"/>
                <a:chOff x="7171560" y="-78120"/>
                <a:chExt cx="2427480" cy="2247120"/>
              </a:xfrm>
            </p:grpSpPr>
            <p:sp>
              <p:nvSpPr>
                <p:cNvPr id="664" name="任意多边形 87083"/>
                <p:cNvSpPr/>
                <p:nvPr/>
              </p:nvSpPr>
              <p:spPr>
                <a:xfrm rot="18427200">
                  <a:off x="7873560" y="112320"/>
                  <a:ext cx="24300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65" name="任意多边形 87084"/>
                <p:cNvSpPr/>
                <p:nvPr/>
              </p:nvSpPr>
              <p:spPr>
                <a:xfrm rot="18427200">
                  <a:off x="8004960" y="52596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66" name="任意多边形 87085"/>
                <p:cNvSpPr/>
                <p:nvPr/>
              </p:nvSpPr>
              <p:spPr>
                <a:xfrm rot="18427200">
                  <a:off x="7703640" y="28764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67" name="任意多边形 87086"/>
                <p:cNvSpPr/>
                <p:nvPr/>
              </p:nvSpPr>
              <p:spPr>
                <a:xfrm rot="18427200">
                  <a:off x="7783200" y="-2088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68" name="任意多边形 87087"/>
                <p:cNvSpPr/>
                <p:nvPr/>
              </p:nvSpPr>
              <p:spPr>
                <a:xfrm rot="18427200">
                  <a:off x="8400240" y="14223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69" name="任意多边形 87088"/>
                <p:cNvSpPr/>
                <p:nvPr/>
              </p:nvSpPr>
              <p:spPr>
                <a:xfrm rot="18427200">
                  <a:off x="8330040" y="12783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70" name="任意多边形 87089"/>
                <p:cNvSpPr/>
                <p:nvPr/>
              </p:nvSpPr>
              <p:spPr>
                <a:xfrm rot="18427200">
                  <a:off x="7904160" y="333360"/>
                  <a:ext cx="28728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  <p:sp>
              <p:nvSpPr>
                <p:cNvPr id="671" name="任意多边形 87090"/>
                <p:cNvSpPr/>
                <p:nvPr/>
              </p:nvSpPr>
              <p:spPr>
                <a:xfrm rot="18427200">
                  <a:off x="7846200" y="2239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黑体"/>
                  </a:endParaRPr>
                </a:p>
              </p:txBody>
            </p:sp>
          </p:grpSp>
        </p:grpSp>
        <p:sp>
          <p:nvSpPr>
            <p:cNvPr id="672" name="直接连接符 87091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02120" indent="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04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06720" indent="-4021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9200" indent="-804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23E3-7768-4235-B6DF-1D385EBA9E2C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文本框 54274"/>
          <p:cNvSpPr/>
          <p:nvPr/>
        </p:nvSpPr>
        <p:spPr>
          <a:xfrm>
            <a:off x="152280" y="762120"/>
            <a:ext cx="89917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行楷"/>
              </a:rPr>
              <a:t>远离毒品   从小做起</a:t>
            </a:r>
            <a:endParaRPr b="1" lang="en-US" sz="66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               ——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仿宋_GB2312"/>
              </a:rPr>
              <a:t>毒品预防教育知识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976" name="文本框 54276" descr=""/>
          <p:cNvPicPr/>
          <p:nvPr/>
        </p:nvPicPr>
        <p:blipFill>
          <a:blip r:embed="rId2"/>
          <a:stretch/>
        </p:blipFill>
        <p:spPr>
          <a:xfrm>
            <a:off x="3208320" y="4289400"/>
            <a:ext cx="5641920" cy="1168560"/>
          </a:xfrm>
          <a:prstGeom prst="rect">
            <a:avLst/>
          </a:prstGeom>
          <a:ln w="0">
            <a:noFill/>
          </a:ln>
        </p:spPr>
      </p:pic>
      <p:sp>
        <p:nvSpPr>
          <p:cNvPr id="977" name="文本框 54277"/>
          <p:cNvSpPr/>
          <p:nvPr/>
        </p:nvSpPr>
        <p:spPr>
          <a:xfrm>
            <a:off x="4651200" y="5457960"/>
            <a:ext cx="39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华文新魏"/>
                <a:ea typeface="华文新魏"/>
              </a:rPr>
              <a:t>2019</a:t>
            </a:r>
            <a:r>
              <a:rPr b="1" lang="zh-CN" sz="2400" spc="-1" strike="noStrike">
                <a:solidFill>
                  <a:srgbClr val="00b050"/>
                </a:solidFill>
                <a:latin typeface="华文新魏"/>
                <a:ea typeface="华文新魏"/>
              </a:rPr>
              <a:t>年</a:t>
            </a:r>
            <a:r>
              <a:rPr b="1" lang="en-US" sz="2400" spc="-1" strike="noStrike">
                <a:solidFill>
                  <a:srgbClr val="00b050"/>
                </a:solidFill>
                <a:latin typeface="华文新魏"/>
                <a:ea typeface="华文新魏"/>
              </a:rPr>
              <a:t>10</a:t>
            </a:r>
            <a:r>
              <a:rPr b="1" lang="zh-CN" sz="2400" spc="-1" strike="noStrike">
                <a:solidFill>
                  <a:srgbClr val="00b050"/>
                </a:solidFill>
                <a:latin typeface="华文新魏"/>
                <a:ea typeface="华文新魏"/>
              </a:rPr>
              <a:t>月</a:t>
            </a:r>
            <a:r>
              <a:rPr b="1" lang="en-US" sz="2400" spc="-1" strike="noStrike">
                <a:solidFill>
                  <a:srgbClr val="00b050"/>
                </a:solidFill>
                <a:latin typeface="华文新魏"/>
                <a:ea typeface="华文新魏"/>
              </a:rPr>
              <a:t>16</a:t>
            </a:r>
            <a:r>
              <a:rPr b="1" lang="zh-CN" sz="2400" spc="-1" strike="noStrike">
                <a:solidFill>
                  <a:srgbClr val="00b050"/>
                </a:solidFill>
                <a:latin typeface="华文新魏"/>
                <a:ea typeface="华文新魏"/>
              </a:rPr>
              <a:t>日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1587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</a:rPr>
              <a:t>冰毒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omic Sans MS"/>
              </a:rPr>
              <a:t>冰毒：无味、透明的结晶体，学名是甲基苯丙胺。有极强的中枢神经兴奋作用、毒性剧烈。能使人精神偏执、行为失控，严重损害人体功能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10" name="图片 135173" descr="20091130144640187"/>
          <p:cNvPicPr/>
          <p:nvPr/>
        </p:nvPicPr>
        <p:blipFill>
          <a:blip r:embed="rId2"/>
          <a:stretch/>
        </p:blipFill>
        <p:spPr>
          <a:xfrm>
            <a:off x="1523880" y="2743200"/>
            <a:ext cx="574056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67800" y="380880"/>
            <a:ext cx="30322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各种摇头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摇头丸：有致幻作用，导致意志丧失、任人摆布，行为失控冲动，听曲即跳，甚至摇断脖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3" name="图片 136196" descr="72f082025aafa40fdbfa9a73ab64034f78f0195b"/>
          <p:cNvPicPr/>
          <p:nvPr/>
        </p:nvPicPr>
        <p:blipFill>
          <a:blip r:embed="rId2"/>
          <a:stretch/>
        </p:blipFill>
        <p:spPr>
          <a:xfrm>
            <a:off x="380880" y="2895480"/>
            <a:ext cx="4038840" cy="2473560"/>
          </a:xfrm>
          <a:prstGeom prst="rect">
            <a:avLst/>
          </a:prstGeom>
          <a:ln w="0">
            <a:noFill/>
          </a:ln>
        </p:spPr>
      </p:pic>
      <p:pic>
        <p:nvPicPr>
          <p:cNvPr id="1014" name="对象 136197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3818160" cy="32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09280" y="151920"/>
            <a:ext cx="4430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三、毒品的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文本框 137223"/>
          <p:cNvSpPr/>
          <p:nvPr/>
        </p:nvSpPr>
        <p:spPr>
          <a:xfrm>
            <a:off x="304920" y="838080"/>
            <a:ext cx="419076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案例一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 Narrow"/>
                <a:ea typeface="宋体"/>
              </a:rPr>
              <a:t>一天晚上，李某、赵某等四位青年在昆明一酒吧玩飞镖赢啤酒活动时与林某、严某发生争执，大打出手，最后林某被刀刺中右胸死亡，严某被刺中右大腿股动脉死亡。李某等四人被依法逮捕，等待他们的是法律的严惩。据公安机关调查，李某等四人在酒吧娱乐时服用过新型毒品“</a:t>
            </a:r>
            <a:r>
              <a:rPr b="0" lang="zh-CN" sz="2400" spc="-1" strike="noStrike">
                <a:solidFill>
                  <a:srgbClr val="0000ff"/>
                </a:solidFill>
                <a:latin typeface="Arial Narrow"/>
                <a:ea typeface="宋体"/>
              </a:rPr>
              <a:t>K”</a:t>
            </a:r>
            <a:r>
              <a:rPr b="0" lang="zh-CN" sz="2400" spc="-1" strike="noStrike">
                <a:solidFill>
                  <a:srgbClr val="0000ff"/>
                </a:solidFill>
                <a:latin typeface="Arial Narrow"/>
                <a:ea typeface="宋体"/>
              </a:rPr>
              <a:t>粉。服用“</a:t>
            </a:r>
            <a:r>
              <a:rPr b="0" lang="zh-CN" sz="2400" spc="-1" strike="noStrike">
                <a:solidFill>
                  <a:srgbClr val="0000ff"/>
                </a:solidFill>
                <a:latin typeface="Arial Narrow"/>
                <a:ea typeface="宋体"/>
              </a:rPr>
              <a:t>K”</a:t>
            </a:r>
            <a:r>
              <a:rPr b="0" lang="zh-CN" sz="2400" spc="-1" strike="noStrike">
                <a:solidFill>
                  <a:srgbClr val="0000ff"/>
                </a:solidFill>
                <a:latin typeface="Arial Narrow"/>
                <a:ea typeface="宋体"/>
              </a:rPr>
              <a:t>粉后他们产生强烈幻觉及被迫害的感觉，自我抑制能力降低，引发了暴力犯罪行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17" name="图片 137226" descr="f43e6124ee8810fafad526"/>
          <p:cNvPicPr/>
          <p:nvPr/>
        </p:nvPicPr>
        <p:blipFill>
          <a:blip r:embed="rId2"/>
          <a:stretch/>
        </p:blipFill>
        <p:spPr>
          <a:xfrm>
            <a:off x="5122800" y="4222800"/>
            <a:ext cx="4002120" cy="2563920"/>
          </a:xfrm>
          <a:prstGeom prst="rect">
            <a:avLst/>
          </a:prstGeom>
          <a:ln w="0">
            <a:noFill/>
          </a:ln>
        </p:spPr>
      </p:pic>
      <p:pic>
        <p:nvPicPr>
          <p:cNvPr id="1018" name="图片 137227" descr="20130320062707528347"/>
          <p:cNvPicPr/>
          <p:nvPr/>
        </p:nvPicPr>
        <p:blipFill>
          <a:blip r:embed="rId3"/>
          <a:stretch/>
        </p:blipFill>
        <p:spPr>
          <a:xfrm>
            <a:off x="4933800" y="-6480"/>
            <a:ext cx="419112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899640" y="274680"/>
            <a:ext cx="6621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三、毒品的危害 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案例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文本框 138247"/>
          <p:cNvSpPr/>
          <p:nvPr/>
        </p:nvSpPr>
        <p:spPr>
          <a:xfrm>
            <a:off x="1440" y="3997440"/>
            <a:ext cx="4908600" cy="17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梁蓓丽，</a:t>
            </a:r>
            <a:r>
              <a:rPr b="0" lang="en-US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21</a:t>
            </a: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岁，贵州人，一个聪慧、漂亮的女孩，染上毒瘾后，靠吸毒维持生活，因注射毒品过量死于南宁市街头。 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21" name="图片 138248" descr="梁蓓丽，21岁，贵州人，一个聪慧、漂亮的女孩，染上毒瘾后，靠卖淫维持吸毒，因注射毒品过量死于南宁市街头。"/>
          <p:cNvPicPr/>
          <p:nvPr/>
        </p:nvPicPr>
        <p:blipFill>
          <a:blip r:embed="rId2"/>
          <a:stretch/>
        </p:blipFill>
        <p:spPr>
          <a:xfrm>
            <a:off x="1440" y="1135080"/>
            <a:ext cx="4659480" cy="2992320"/>
          </a:xfrm>
          <a:prstGeom prst="rect">
            <a:avLst/>
          </a:prstGeom>
          <a:ln w="0">
            <a:noFill/>
          </a:ln>
        </p:spPr>
      </p:pic>
      <p:sp>
        <p:nvSpPr>
          <p:cNvPr id="1022" name="矩形 138250"/>
          <p:cNvSpPr/>
          <p:nvPr/>
        </p:nvSpPr>
        <p:spPr>
          <a:xfrm>
            <a:off x="5638680" y="4728960"/>
            <a:ext cx="318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中央戏剧学院毕业的电影演员朱洁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997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年因吸毒过量死亡，年仅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岁。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23" name="图片 138251" descr="中央戏剧学院毕业的电影演员朱洁1997年因吸毒过量死亡，年仅28岁。"/>
          <p:cNvPicPr/>
          <p:nvPr/>
        </p:nvPicPr>
        <p:blipFill>
          <a:blip r:embed="rId3"/>
          <a:stretch/>
        </p:blipFill>
        <p:spPr>
          <a:xfrm>
            <a:off x="5248440" y="1066680"/>
            <a:ext cx="387792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2" dur="1000"/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055160" y="228600"/>
            <a:ext cx="552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三、毒品的危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文本框 142338"/>
          <p:cNvSpPr/>
          <p:nvPr/>
        </p:nvSpPr>
        <p:spPr>
          <a:xfrm>
            <a:off x="533520" y="990720"/>
            <a:ext cx="800100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案例三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  <a:p>
            <a:pPr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来自国家禁毒委员会办公室的数字表明，我国最近几年青少年吸毒的比例始终在吸毒人口中占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％左右。截至去年底，我国公安机关登记在册的吸毒人数为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90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万，其中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5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岁以下的青少年占了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77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％，据不完全统计，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6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岁以下的少年吸毒人数比去年又有所增加，初次吸毒者中甚至已经出现了六七岁的儿童。此外，许多青少年对冰毒、“摇头丸”等苯丙胺类毒品的成瘾性和严重后果缺乏了解，导致吸食冰毒、“摇头丸”等苯丙胺类毒品人员数量明显上升。在盗窃、抢劫、抢夺等多发性刑事治安案件中，由吸毒引起的已经占到</a:t>
            </a:r>
            <a:r>
              <a:rPr b="0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％左右，地区，毫无疑问，青少年已成为最易受到毒品侵害的“高危人群”，我国青少年禁毒的形势十分严峻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文本框 143363"/>
          <p:cNvSpPr/>
          <p:nvPr/>
        </p:nvSpPr>
        <p:spPr>
          <a:xfrm>
            <a:off x="1181160" y="106668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吸毒对人体的危害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27" name="内容占位符 143366" descr="大脑病变"/>
          <p:cNvPicPr/>
          <p:nvPr/>
        </p:nvPicPr>
        <p:blipFill>
          <a:blip r:embed="rId2"/>
          <a:stretch/>
        </p:blipFill>
        <p:spPr>
          <a:xfrm>
            <a:off x="900000" y="2519280"/>
            <a:ext cx="1433520" cy="1913040"/>
          </a:xfrm>
          <a:prstGeom prst="rect">
            <a:avLst/>
          </a:prstGeom>
          <a:ln w="0">
            <a:noFill/>
          </a:ln>
        </p:spPr>
      </p:pic>
      <p:sp>
        <p:nvSpPr>
          <p:cNvPr id="1028" name="矩形 143367"/>
          <p:cNvSpPr/>
          <p:nvPr/>
        </p:nvSpPr>
        <p:spPr>
          <a:xfrm>
            <a:off x="-97488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29" name="图片 143368" descr="心脏病变"/>
          <p:cNvPicPr/>
          <p:nvPr/>
        </p:nvPicPr>
        <p:blipFill>
          <a:blip r:embed="rId3"/>
          <a:stretch/>
        </p:blipFill>
        <p:spPr>
          <a:xfrm>
            <a:off x="6324480" y="990720"/>
            <a:ext cx="2448000" cy="1884240"/>
          </a:xfrm>
          <a:prstGeom prst="rect">
            <a:avLst/>
          </a:prstGeom>
          <a:ln w="0">
            <a:noFill/>
          </a:ln>
        </p:spPr>
      </p:pic>
      <p:sp>
        <p:nvSpPr>
          <p:cNvPr id="1030" name="矩形 143369"/>
          <p:cNvSpPr/>
          <p:nvPr/>
        </p:nvSpPr>
        <p:spPr>
          <a:xfrm>
            <a:off x="5334120" y="1370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心脏病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1" name="矩形 143371"/>
          <p:cNvSpPr/>
          <p:nvPr/>
        </p:nvSpPr>
        <p:spPr>
          <a:xfrm>
            <a:off x="30492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三、毒品的危害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2" name="文本框 143365"/>
          <p:cNvSpPr/>
          <p:nvPr/>
        </p:nvSpPr>
        <p:spPr>
          <a:xfrm>
            <a:off x="442800" y="182880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大脑病变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33" name="内容占位符 143375" descr="瘦弱不堪"/>
          <p:cNvPicPr/>
          <p:nvPr/>
        </p:nvPicPr>
        <p:blipFill>
          <a:blip r:embed="rId4"/>
          <a:stretch/>
        </p:blipFill>
        <p:spPr>
          <a:xfrm>
            <a:off x="3471840" y="2165400"/>
            <a:ext cx="2151000" cy="1560600"/>
          </a:xfrm>
          <a:prstGeom prst="rect">
            <a:avLst/>
          </a:prstGeom>
          <a:ln w="0">
            <a:noFill/>
          </a:ln>
        </p:spPr>
      </p:pic>
      <p:sp>
        <p:nvSpPr>
          <p:cNvPr id="1034" name="矩形 143372"/>
          <p:cNvSpPr/>
          <p:nvPr/>
        </p:nvSpPr>
        <p:spPr>
          <a:xfrm>
            <a:off x="2781360" y="2437200"/>
            <a:ext cx="20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瘦弱不堪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35" name="图片 143376" descr="传染疾病"/>
          <p:cNvPicPr/>
          <p:nvPr/>
        </p:nvPicPr>
        <p:blipFill>
          <a:blip r:embed="rId5"/>
          <a:stretch/>
        </p:blipFill>
        <p:spPr>
          <a:xfrm>
            <a:off x="2438280" y="4800600"/>
            <a:ext cx="2316240" cy="1496880"/>
          </a:xfrm>
          <a:prstGeom prst="rect">
            <a:avLst/>
          </a:prstGeom>
          <a:ln w="0">
            <a:noFill/>
          </a:ln>
        </p:spPr>
      </p:pic>
      <p:sp>
        <p:nvSpPr>
          <p:cNvPr id="1036" name="文本框 143373"/>
          <p:cNvSpPr/>
          <p:nvPr/>
        </p:nvSpPr>
        <p:spPr>
          <a:xfrm>
            <a:off x="914400" y="5029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传染疾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37" name="图片 143377" descr="传播艾滋病"/>
          <p:cNvPicPr/>
          <p:nvPr/>
        </p:nvPicPr>
        <p:blipFill>
          <a:blip r:embed="rId6"/>
          <a:stretch/>
        </p:blipFill>
        <p:spPr>
          <a:xfrm>
            <a:off x="6934320" y="3429000"/>
            <a:ext cx="1614240" cy="2735280"/>
          </a:xfrm>
          <a:prstGeom prst="rect">
            <a:avLst/>
          </a:prstGeom>
          <a:ln w="0">
            <a:noFill/>
          </a:ln>
        </p:spPr>
      </p:pic>
      <p:sp>
        <p:nvSpPr>
          <p:cNvPr id="1038" name="文本框 143374"/>
          <p:cNvSpPr/>
          <p:nvPr/>
        </p:nvSpPr>
        <p:spPr>
          <a:xfrm>
            <a:off x="5334120" y="4419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传播艾滋病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矩形 145412"/>
          <p:cNvSpPr/>
          <p:nvPr/>
        </p:nvSpPr>
        <p:spPr>
          <a:xfrm>
            <a:off x="133200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0" name="矩形 145413"/>
          <p:cNvSpPr/>
          <p:nvPr/>
        </p:nvSpPr>
        <p:spPr>
          <a:xfrm>
            <a:off x="228600" y="8380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吸毒毁灭家庭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1" name="矩形 145415"/>
          <p:cNvSpPr/>
          <p:nvPr/>
        </p:nvSpPr>
        <p:spPr>
          <a:xfrm>
            <a:off x="228600" y="5510880"/>
            <a:ext cx="37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西宁市吸毒人员马某某夫妇二人因吸毒先后死亡，家中财产全被吸光，留下两个不满十岁的小孩和年迈的母亲，生活苦不堪言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42" name="内容占位符 145416" descr="倾家荡产"/>
          <p:cNvPicPr/>
          <p:nvPr/>
        </p:nvPicPr>
        <p:blipFill>
          <a:blip r:embed="rId2"/>
          <a:stretch/>
        </p:blipFill>
        <p:spPr>
          <a:xfrm>
            <a:off x="754200" y="2673360"/>
            <a:ext cx="2789280" cy="2205000"/>
          </a:xfrm>
          <a:prstGeom prst="rect">
            <a:avLst/>
          </a:prstGeom>
          <a:ln w="0">
            <a:noFill/>
          </a:ln>
        </p:spPr>
      </p:pic>
      <p:sp>
        <p:nvSpPr>
          <p:cNvPr id="1043" name="矩形 145417"/>
          <p:cNvSpPr/>
          <p:nvPr/>
        </p:nvSpPr>
        <p:spPr>
          <a:xfrm>
            <a:off x="914400" y="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三、毒品的危害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44" name="图片 145420" descr="吸毒对家庭的危害画"/>
          <p:cNvPicPr/>
          <p:nvPr/>
        </p:nvPicPr>
        <p:blipFill>
          <a:blip r:embed="rId3"/>
          <a:stretch/>
        </p:blipFill>
        <p:spPr>
          <a:xfrm>
            <a:off x="4191120" y="2209680"/>
            <a:ext cx="4965480" cy="4308480"/>
          </a:xfrm>
          <a:prstGeom prst="rect">
            <a:avLst/>
          </a:prstGeom>
          <a:ln w="0">
            <a:noFill/>
          </a:ln>
        </p:spPr>
      </p:pic>
      <p:sp>
        <p:nvSpPr>
          <p:cNvPr id="1045" name="圆角矩形标注 145423"/>
          <p:cNvSpPr/>
          <p:nvPr/>
        </p:nvSpPr>
        <p:spPr>
          <a:xfrm>
            <a:off x="6629400" y="838080"/>
            <a:ext cx="2209680" cy="1219320"/>
          </a:xfrm>
          <a:prstGeom prst="wedgeRoundRectCallout">
            <a:avLst>
              <a:gd name="adj1" fmla="val -99856"/>
              <a:gd name="adj2" fmla="val 59245"/>
              <a:gd name="adj3" fmla="val 16667"/>
            </a:avLst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妻离子散、家破人亡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6" name="圆角矩形标注 145424"/>
          <p:cNvSpPr/>
          <p:nvPr/>
        </p:nvSpPr>
        <p:spPr>
          <a:xfrm>
            <a:off x="152280" y="1523880"/>
            <a:ext cx="2210040" cy="533520"/>
          </a:xfrm>
          <a:prstGeom prst="wedgeRoundRectCallout">
            <a:avLst>
              <a:gd name="adj1" fmla="val 50430"/>
              <a:gd name="adj2" fmla="val 145236"/>
              <a:gd name="adj3" fmla="val 16667"/>
            </a:avLst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倾家荡产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矩形 146434"/>
          <p:cNvSpPr/>
          <p:nvPr/>
        </p:nvSpPr>
        <p:spPr>
          <a:xfrm>
            <a:off x="1332000" y="2492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48" name="矩形 146438"/>
          <p:cNvSpPr/>
          <p:nvPr/>
        </p:nvSpPr>
        <p:spPr>
          <a:xfrm>
            <a:off x="914400" y="0"/>
            <a:ext cx="6870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三、毒品的危害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49" name="图片 146444" descr="吸毒社会危害画2"/>
          <p:cNvPicPr/>
          <p:nvPr/>
        </p:nvPicPr>
        <p:blipFill>
          <a:blip r:embed="rId2"/>
          <a:stretch/>
        </p:blipFill>
        <p:spPr>
          <a:xfrm>
            <a:off x="3886200" y="1066680"/>
            <a:ext cx="5257800" cy="4335480"/>
          </a:xfrm>
          <a:prstGeom prst="rect">
            <a:avLst/>
          </a:prstGeom>
          <a:ln w="0">
            <a:noFill/>
          </a:ln>
        </p:spPr>
      </p:pic>
      <p:sp>
        <p:nvSpPr>
          <p:cNvPr id="1050" name="矩形 146435"/>
          <p:cNvSpPr/>
          <p:nvPr/>
        </p:nvSpPr>
        <p:spPr>
          <a:xfrm>
            <a:off x="228600" y="8380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吸毒危害社会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1" name="矩形 146446"/>
          <p:cNvSpPr/>
          <p:nvPr/>
        </p:nvSpPr>
        <p:spPr>
          <a:xfrm>
            <a:off x="3886200" y="18284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</a:rPr>
              <a:t>诱发刑事犯罪：</a:t>
            </a: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吸毒者在耗尽个人和家庭钱财后就会铤而走险，走上违法犯罪的道路，进行以贩并吸、贪污、诈骗、盗窃、抢劫、凶杀等犯罪活动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52" name="图片 146445" descr="吸毒对社会的危害画"/>
          <p:cNvPicPr/>
          <p:nvPr/>
        </p:nvPicPr>
        <p:blipFill>
          <a:blip r:embed="rId3"/>
          <a:stretch/>
        </p:blipFill>
        <p:spPr>
          <a:xfrm>
            <a:off x="-46080" y="1368360"/>
            <a:ext cx="3600360" cy="5437080"/>
          </a:xfrm>
          <a:prstGeom prst="rect">
            <a:avLst/>
          </a:prstGeom>
          <a:ln w="0">
            <a:noFill/>
          </a:ln>
        </p:spPr>
      </p:pic>
      <p:sp>
        <p:nvSpPr>
          <p:cNvPr id="1053" name="矩形 146447"/>
          <p:cNvSpPr/>
          <p:nvPr/>
        </p:nvSpPr>
        <p:spPr>
          <a:xfrm>
            <a:off x="2158920" y="563760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</a:rPr>
              <a:t>败坏社会风气：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吸毒败坏社会风气，腐蚀人的灵魂，摧毁民族精神，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这已成为全世界普遍的问题。</a:t>
            </a:r>
            <a:endParaRPr b="1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566360" y="339480"/>
            <a:ext cx="39243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  <a:ea typeface="华文新魏"/>
              </a:rPr>
              <a:t>三、毒品的危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533520" y="1673280"/>
            <a:ext cx="822312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 毒品毁人毁健康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毒品令人倾家荡产、家破人亡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吸毒走上犯罪道路，危害社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矩形 159746"/>
          <p:cNvSpPr/>
          <p:nvPr/>
        </p:nvSpPr>
        <p:spPr>
          <a:xfrm>
            <a:off x="1060560" y="838080"/>
            <a:ext cx="544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、导致青少年吸毒的原因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7" name="矩形 159752"/>
          <p:cNvSpPr/>
          <p:nvPr/>
        </p:nvSpPr>
        <p:spPr>
          <a:xfrm>
            <a:off x="990720" y="152280"/>
            <a:ext cx="6870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四、珍爱生命，预防毒品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58" name="图片 159753" descr="第一次吸毒画"/>
          <p:cNvPicPr/>
          <p:nvPr/>
        </p:nvPicPr>
        <p:blipFill>
          <a:blip r:embed="rId2"/>
          <a:stretch/>
        </p:blipFill>
        <p:spPr>
          <a:xfrm>
            <a:off x="2133720" y="1600200"/>
            <a:ext cx="1925640" cy="22860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159754" descr="青少年如何防止吸毒1"/>
          <p:cNvPicPr/>
          <p:nvPr/>
        </p:nvPicPr>
        <p:blipFill>
          <a:blip r:embed="rId3"/>
          <a:stretch/>
        </p:blipFill>
        <p:spPr>
          <a:xfrm>
            <a:off x="5334120" y="1236600"/>
            <a:ext cx="3429000" cy="2540160"/>
          </a:xfrm>
          <a:prstGeom prst="rect">
            <a:avLst/>
          </a:prstGeom>
          <a:ln w="0">
            <a:noFill/>
          </a:ln>
        </p:spPr>
      </p:pic>
      <p:sp>
        <p:nvSpPr>
          <p:cNvPr id="1060" name="矩形 159749"/>
          <p:cNvSpPr/>
          <p:nvPr/>
        </p:nvSpPr>
        <p:spPr>
          <a:xfrm>
            <a:off x="6400800" y="10656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寻找刺激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061" name="图片 159755" descr="毒贩子"/>
          <p:cNvPicPr/>
          <p:nvPr/>
        </p:nvPicPr>
        <p:blipFill>
          <a:blip r:embed="rId4"/>
          <a:srcRect l="8605" t="14611" r="6901" b="9720"/>
          <a:stretch/>
        </p:blipFill>
        <p:spPr>
          <a:xfrm>
            <a:off x="4648320" y="4229280"/>
            <a:ext cx="3504960" cy="262872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159756" descr="挫折和困难"/>
          <p:cNvPicPr/>
          <p:nvPr/>
        </p:nvPicPr>
        <p:blipFill>
          <a:blip r:embed="rId5"/>
          <a:srcRect l="15353" t="16209" r="3543" b="0"/>
          <a:stretch/>
        </p:blipFill>
        <p:spPr>
          <a:xfrm>
            <a:off x="914400" y="403848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1063" name="矩形 159747"/>
          <p:cNvSpPr/>
          <p:nvPr/>
        </p:nvSpPr>
        <p:spPr>
          <a:xfrm>
            <a:off x="152280" y="1751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好奇心驱使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4" name="矩形 159750"/>
          <p:cNvSpPr/>
          <p:nvPr/>
        </p:nvSpPr>
        <p:spPr>
          <a:xfrm>
            <a:off x="0" y="4037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逆反心理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5" name="矩形 159751"/>
          <p:cNvSpPr/>
          <p:nvPr/>
        </p:nvSpPr>
        <p:spPr>
          <a:xfrm>
            <a:off x="6019920" y="3885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）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被欺骗、引诱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2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3000" fill="hold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3000" fill="hold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18680" y="383760"/>
            <a:ext cx="601524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一、回顾历史  引入新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中国近代史上的耻辱教训，人民饱受磨难，鸦片使军队、百姓不能自拔，迷失自我，个个吸毒后精神萎靡，打仗失去战斗力，就像海浪后泛起的泡沫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矩形 160775"/>
          <p:cNvSpPr/>
          <p:nvPr/>
        </p:nvSpPr>
        <p:spPr>
          <a:xfrm>
            <a:off x="1192320" y="152280"/>
            <a:ext cx="6537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四、珍爱生命，预防毒品</a:t>
            </a:r>
            <a:endParaRPr b="1" lang="en-US" sz="4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7" name="矩形 160776"/>
          <p:cNvSpPr/>
          <p:nvPr/>
        </p:nvSpPr>
        <p:spPr>
          <a:xfrm>
            <a:off x="1622520" y="1187280"/>
            <a:ext cx="49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青少年如何防止吸毒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8" name="文本框 160777"/>
          <p:cNvSpPr/>
          <p:nvPr/>
        </p:nvSpPr>
        <p:spPr>
          <a:xfrm>
            <a:off x="685800" y="1752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树立正确的人生观，正确把握好奇心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9" name="文本框 160778"/>
          <p:cNvSpPr/>
          <p:nvPr/>
        </p:nvSpPr>
        <p:spPr>
          <a:xfrm>
            <a:off x="99072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0" name="文本框 160780"/>
          <p:cNvSpPr/>
          <p:nvPr/>
        </p:nvSpPr>
        <p:spPr>
          <a:xfrm>
            <a:off x="685800" y="236232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慎重交友，不结交有吸毒、贩毒行为的人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1" name="文本框 160781"/>
          <p:cNvSpPr/>
          <p:nvPr/>
        </p:nvSpPr>
        <p:spPr>
          <a:xfrm>
            <a:off x="685800" y="30481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青少年要养成良好的行为习惯，远离毒品场所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2" name="文本框 160782"/>
          <p:cNvSpPr/>
          <p:nvPr/>
        </p:nvSpPr>
        <p:spPr>
          <a:xfrm>
            <a:off x="785880" y="3740040"/>
            <a:ext cx="767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正确对待困难和挫折，形成正确的人生观和价值观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3" name="文本框 160783"/>
          <p:cNvSpPr/>
          <p:nvPr/>
        </p:nvSpPr>
        <p:spPr>
          <a:xfrm>
            <a:off x="736560" y="43592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不结交有吸毒、贩毒行为的人。如发现亲朋好友中有吸、贩毒行为的人，一定要劝阻，二要远离，三要报告公安机关。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10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1000" fill="hold"/>
                                        <p:tgtEl>
                                          <p:spTgt spid="1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10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10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0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10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973160" y="579600"/>
            <a:ext cx="45388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五、课后作业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5" name="文本框 161798"/>
          <p:cNvSpPr/>
          <p:nvPr/>
        </p:nvSpPr>
        <p:spPr>
          <a:xfrm>
            <a:off x="1066680" y="2209680"/>
            <a:ext cx="686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请为禁毒教育写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-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条广告词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76" name="文本框 161799"/>
          <p:cNvSpPr/>
          <p:nvPr/>
        </p:nvSpPr>
        <p:spPr>
          <a:xfrm>
            <a:off x="1143000" y="3429000"/>
            <a:ext cx="72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设计制作一份以“珍爱生命、远离毒品”为主题的手抄报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3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3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30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3000" fill="hold"/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011120" y="644040"/>
            <a:ext cx="3272040" cy="1032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160640" y="1831680"/>
            <a:ext cx="723096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同学们，今天我们了解了有关毒品的知识及防范措施，也知道了毒品对社会，身心，人体的危害。希望我们每个人都能做到：一发现有人吸毒，以现有毒品犯罪时，立即举报；为了自己的健康，这了家人的幸福，为了社会的安定，请你远离毒品，珍爱生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0" fill="hold"/>
                                        <p:tgtEl>
                                          <p:spTgt spid="10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  <a:ea typeface="华文新魏"/>
              </a:rPr>
              <a:t>二、认知毒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57200" y="1523520"/>
            <a:ext cx="76960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、毒品的定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、毒品的种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36520" indent="-236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2" name="图片 12291" descr="乐清市禁毒形象"/>
          <p:cNvPicPr/>
          <p:nvPr/>
        </p:nvPicPr>
        <p:blipFill>
          <a:blip r:embed="rId2"/>
          <a:stretch/>
        </p:blipFill>
        <p:spPr>
          <a:xfrm>
            <a:off x="4952880" y="3048120"/>
            <a:ext cx="29656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752480" y="163440"/>
            <a:ext cx="58039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二、认知毒品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85800" y="1187280"/>
            <a:ext cx="7696080" cy="42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什么是毒品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5" name="图片 3" descr="什么是毒品"/>
          <p:cNvPicPr/>
          <p:nvPr/>
        </p:nvPicPr>
        <p:blipFill>
          <a:blip r:embed="rId2"/>
          <a:stretch/>
        </p:blipFill>
        <p:spPr>
          <a:xfrm>
            <a:off x="1000080" y="2031840"/>
            <a:ext cx="7515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533240" y="228600"/>
            <a:ext cx="4822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Comic Sans MS"/>
              </a:rPr>
              <a:t>、毒品的种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动作按钮: 自定义 98307"/>
          <p:cNvSpPr/>
          <p:nvPr/>
        </p:nvSpPr>
        <p:spPr>
          <a:xfrm>
            <a:off x="7885080" y="6021360"/>
            <a:ext cx="574560" cy="503280"/>
          </a:xfrm>
          <a:custGeom>
            <a:avLst/>
            <a:gdLst>
              <a:gd name="textAreaLeft" fmla="*/ 32400 w 574560"/>
              <a:gd name="textAreaRight" fmla="*/ 542160 w 574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657" h="21600">
                <a:moveTo>
                  <a:pt x="0" y="0"/>
                </a:moveTo>
                <a:lnTo>
                  <a:pt x="24657" y="0"/>
                </a:lnTo>
                <a:lnTo>
                  <a:pt x="24657" y="21600"/>
                </a:lnTo>
                <a:lnTo>
                  <a:pt x="0" y="21600"/>
                </a:lnTo>
                <a:close/>
              </a:path>
              <a:path fill="lightenLess" w="24657" h="21600">
                <a:moveTo>
                  <a:pt x="0" y="0"/>
                </a:moveTo>
                <a:lnTo>
                  <a:pt x="24657" y="0"/>
                </a:lnTo>
                <a:lnTo>
                  <a:pt x="23257" y="1400"/>
                </a:lnTo>
                <a:lnTo>
                  <a:pt x="1400" y="1400"/>
                </a:lnTo>
                <a:close/>
              </a:path>
              <a:path fill="darken" w="24657" h="21600">
                <a:moveTo>
                  <a:pt x="24657" y="0"/>
                </a:moveTo>
                <a:lnTo>
                  <a:pt x="24657" y="21600"/>
                </a:lnTo>
                <a:lnTo>
                  <a:pt x="23257" y="20200"/>
                </a:lnTo>
                <a:lnTo>
                  <a:pt x="23257" y="1400"/>
                </a:lnTo>
                <a:close/>
              </a:path>
              <a:path fill="darkenLess" w="24657" h="21600">
                <a:moveTo>
                  <a:pt x="246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7" y="20200"/>
                </a:lnTo>
                <a:close/>
              </a:path>
              <a:path fill="lighten" w="246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88" name="矩形 98308"/>
          <p:cNvSpPr/>
          <p:nvPr/>
        </p:nvSpPr>
        <p:spPr>
          <a:xfrm>
            <a:off x="762120" y="1066680"/>
            <a:ext cx="7238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宋体"/>
              </a:rPr>
              <a:t>毒品种类很多，范围很广，分类方法也不尽相同。 　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989" name="图片 98310" descr="imagesCompact_20040625_203055_7730"/>
          <p:cNvPicPr/>
          <p:nvPr/>
        </p:nvPicPr>
        <p:blipFill>
          <a:blip r:embed="rId2"/>
          <a:stretch/>
        </p:blipFill>
        <p:spPr>
          <a:xfrm>
            <a:off x="1066680" y="2057400"/>
            <a:ext cx="723924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文本框 4100"/>
          <p:cNvSpPr/>
          <p:nvPr/>
        </p:nvSpPr>
        <p:spPr>
          <a:xfrm>
            <a:off x="168120" y="5145120"/>
            <a:ext cx="86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叶大而光滑，花大而艳丽，有红、黄、白、粉红、紫等色。在美丽的花朵下却蕴藏了给人类带来巨大灾难的阿片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原是一味中药，但不宜多服、久服，否则容易成瘾。</a:t>
            </a:r>
            <a:endParaRPr b="1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991" name="图片 7" descr="1"/>
          <p:cNvPicPr/>
          <p:nvPr/>
        </p:nvPicPr>
        <p:blipFill>
          <a:blip r:embed="rId2"/>
          <a:stretch/>
        </p:blipFill>
        <p:spPr>
          <a:xfrm>
            <a:off x="0" y="-14400"/>
            <a:ext cx="4606920" cy="5159520"/>
          </a:xfrm>
          <a:prstGeom prst="rect">
            <a:avLst/>
          </a:prstGeom>
          <a:ln w="0">
            <a:noFill/>
          </a:ln>
        </p:spPr>
      </p:pic>
      <p:sp>
        <p:nvSpPr>
          <p:cNvPr id="992" name="文本框 9"/>
          <p:cNvSpPr/>
          <p:nvPr/>
        </p:nvSpPr>
        <p:spPr>
          <a:xfrm>
            <a:off x="577800" y="47304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黑体"/>
              </a:rPr>
              <a:t>罂粟花</a:t>
            </a:r>
            <a:endParaRPr b="1" lang="en-US" sz="36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993" name="图片 5124" descr="罂粟花蕾"/>
          <p:cNvPicPr/>
          <p:nvPr/>
        </p:nvPicPr>
        <p:blipFill>
          <a:blip r:embed="rId3"/>
          <a:stretch/>
        </p:blipFill>
        <p:spPr>
          <a:xfrm>
            <a:off x="4861080" y="-14400"/>
            <a:ext cx="4281480" cy="5145120"/>
          </a:xfrm>
          <a:prstGeom prst="rect">
            <a:avLst/>
          </a:prstGeom>
          <a:ln w="0">
            <a:noFill/>
          </a:ln>
        </p:spPr>
      </p:pic>
      <p:sp>
        <p:nvSpPr>
          <p:cNvPr id="994" name="文本框 10"/>
          <p:cNvSpPr/>
          <p:nvPr/>
        </p:nvSpPr>
        <p:spPr>
          <a:xfrm>
            <a:off x="5240160" y="185760"/>
            <a:ext cx="221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罂粟壳</a:t>
            </a:r>
            <a:endParaRPr b="1" lang="en-US" sz="3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9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23623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鸦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901440" y="1066680"/>
            <a:ext cx="4127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俗称大烟，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从罂粟未成熟的罂粟果中流出的浆汁，风干后成深棕色的膏状物。因产地不同而呈黑色或褐色，味苦。生鸦片经过烧煮和发酵，可制成精制鸦片，吸食时有一种强烈的香甜气味。吸食者初吸时会感到头晕目眩、恶心或头痛，多次吸食就会上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图片 100357" descr="200483171927797"/>
          <p:cNvPicPr/>
          <p:nvPr/>
        </p:nvPicPr>
        <p:blipFill>
          <a:blip r:embed="rId2"/>
          <a:stretch/>
        </p:blipFill>
        <p:spPr>
          <a:xfrm>
            <a:off x="5486400" y="380880"/>
            <a:ext cx="2800440" cy="3505320"/>
          </a:xfrm>
          <a:prstGeom prst="rect">
            <a:avLst/>
          </a:prstGeom>
          <a:ln w="0">
            <a:noFill/>
          </a:ln>
        </p:spPr>
      </p:pic>
      <p:pic>
        <p:nvPicPr>
          <p:cNvPr id="998" name="图片 100358" descr="2004831725301"/>
          <p:cNvPicPr/>
          <p:nvPr/>
        </p:nvPicPr>
        <p:blipFill>
          <a:blip r:embed="rId3"/>
          <a:stretch/>
        </p:blipFill>
        <p:spPr>
          <a:xfrm>
            <a:off x="5029200" y="4114800"/>
            <a:ext cx="3886200" cy="2608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730080" y="274320"/>
            <a:ext cx="1689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吗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吗啡：是由鸦片制成的，其麻醉药力是鸦片的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10-20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倍，能对大脑皮层其抑制作用导致毒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99333" descr="201112201006493064"/>
          <p:cNvPicPr/>
          <p:nvPr/>
        </p:nvPicPr>
        <p:blipFill>
          <a:blip r:embed="rId2"/>
          <a:stretch/>
        </p:blipFill>
        <p:spPr>
          <a:xfrm>
            <a:off x="6705720" y="3200400"/>
            <a:ext cx="2298600" cy="2895480"/>
          </a:xfrm>
          <a:prstGeom prst="rect">
            <a:avLst/>
          </a:prstGeom>
          <a:ln w="0">
            <a:noFill/>
          </a:ln>
        </p:spPr>
      </p:pic>
      <p:pic>
        <p:nvPicPr>
          <p:cNvPr id="1002" name="图片 99334" descr="0021974129fd0f6e42220f"/>
          <p:cNvPicPr/>
          <p:nvPr/>
        </p:nvPicPr>
        <p:blipFill>
          <a:blip r:embed="rId3"/>
          <a:stretch/>
        </p:blipFill>
        <p:spPr>
          <a:xfrm>
            <a:off x="3200400" y="3200400"/>
            <a:ext cx="3200400" cy="2895480"/>
          </a:xfrm>
          <a:prstGeom prst="rect">
            <a:avLst/>
          </a:prstGeom>
          <a:ln w="0">
            <a:noFill/>
          </a:ln>
        </p:spPr>
      </p:pic>
      <p:pic>
        <p:nvPicPr>
          <p:cNvPr id="1003" name="图片 99335" descr="01300000820304127296733024021"/>
          <p:cNvPicPr/>
          <p:nvPr/>
        </p:nvPicPr>
        <p:blipFill>
          <a:blip r:embed="rId4"/>
          <a:stretch/>
        </p:blipFill>
        <p:spPr>
          <a:xfrm>
            <a:off x="184320" y="3200400"/>
            <a:ext cx="27795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004400" y="274320"/>
            <a:ext cx="23670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海洛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海洛因：俗称白粉，是在吗啡中加入化学品制成。海洛因的成瘾性和毒性都比吗啡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-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倍。长期吸食、注射海洛因，将导致多种严重疾病，甚至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6" name="图片 133126" descr="01300000181322121358583572573"/>
          <p:cNvPicPr/>
          <p:nvPr/>
        </p:nvPicPr>
        <p:blipFill>
          <a:blip r:embed="rId2"/>
          <a:stretch/>
        </p:blipFill>
        <p:spPr>
          <a:xfrm>
            <a:off x="533520" y="2895480"/>
            <a:ext cx="4876560" cy="3241800"/>
          </a:xfrm>
          <a:prstGeom prst="rect">
            <a:avLst/>
          </a:prstGeom>
          <a:ln w="0">
            <a:noFill/>
          </a:ln>
        </p:spPr>
      </p:pic>
      <p:pic>
        <p:nvPicPr>
          <p:cNvPr id="1007" name="图片 133127" descr="01300000181322121358579816753"/>
          <p:cNvPicPr/>
          <p:nvPr/>
        </p:nvPicPr>
        <p:blipFill>
          <a:blip r:embed="rId3"/>
          <a:stretch/>
        </p:blipFill>
        <p:spPr>
          <a:xfrm>
            <a:off x="5638680" y="380988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6T03:38:46Z</dcterms:created>
  <dc:creator/>
  <dc:description/>
  <dc:language>en-US</dc:language>
  <cp:lastModifiedBy>Administrator</cp:lastModifiedBy>
  <dcterms:modified xsi:type="dcterms:W3CDTF">2019-10-17T02:50:48Z</dcterms:modified>
  <cp:revision>18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  <property fmtid="{D5CDD505-2E9C-101B-9397-08002B2CF9AE}" pid="3" name="Version">
    <vt:r8>1</vt:r8>
  </property>
</Properties>
</file>