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37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68B5-BE32-4F77-823A-D110A7CD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92A2-E432-4351-A7D6-CE31504A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BFBB-19D7-4D73-BF93-07993886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0AA0-9C74-417D-AF20-E252327C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E643-5FC0-454E-94F2-B49C516A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092B-67B4-4ADB-9EF6-F4CE3C7E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1963-A7E7-44D5-99E1-3E03B61D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D8C8-8F46-4252-9C6C-B41C21F3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3E1E-3104-4C94-A557-0F602D34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22A4-D988-4A9A-8358-1F67D9D0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375D-ED9C-4898-AB37-C22D89C9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9E7F-30AB-4910-9484-BDEB98D1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E2B4-798C-4187-8BEB-B83A78491A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标题 1" descr=""/>
          <p:cNvPicPr/>
          <p:nvPr/>
        </p:nvPicPr>
        <p:blipFill>
          <a:blip r:embed="rId2"/>
          <a:stretch/>
        </p:blipFill>
        <p:spPr>
          <a:xfrm>
            <a:off x="-231840" y="792000"/>
            <a:ext cx="11728440" cy="3829320"/>
          </a:xfrm>
          <a:prstGeom prst="rect">
            <a:avLst/>
          </a:prstGeom>
          <a:ln w="0">
            <a:noFill/>
          </a:ln>
        </p:spPr>
      </p:pic>
      <p:pic>
        <p:nvPicPr>
          <p:cNvPr id="42" name="标题 1" descr=""/>
          <p:cNvPicPr/>
          <p:nvPr/>
        </p:nvPicPr>
        <p:blipFill>
          <a:blip r:embed="rId3"/>
          <a:stretch/>
        </p:blipFill>
        <p:spPr>
          <a:xfrm>
            <a:off x="396720" y="4322880"/>
            <a:ext cx="1139832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c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21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杜冷丁：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即盐酸哌替啶，是一种临床应用的合成镇痛药，为白色结晶性粉末，味微苦，无臭，其作用和机理与吗啡相似，但镇静、麻醉作用较小，仅相当于吗啡的</a:t>
            </a:r>
            <a:r>
              <a:rPr b="1" lang="zh-CN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1/10—1/8</a:t>
            </a:r>
            <a:r>
              <a:rPr b="1" lang="zh-CN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长期使用会产生依赖性，被列为严格管制的麻醉药品。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内容占位符 3" descr="20160829093257726"/>
          <p:cNvPicPr/>
          <p:nvPr/>
        </p:nvPicPr>
        <p:blipFill>
          <a:blip r:embed="rId1"/>
          <a:stretch/>
        </p:blipFill>
        <p:spPr>
          <a:xfrm>
            <a:off x="272880" y="2925720"/>
            <a:ext cx="4079880" cy="3189240"/>
          </a:xfrm>
          <a:prstGeom prst="rect">
            <a:avLst/>
          </a:prstGeom>
          <a:ln w="0">
            <a:noFill/>
          </a:ln>
        </p:spPr>
      </p:pic>
      <p:pic>
        <p:nvPicPr>
          <p:cNvPr id="68" name="图片 4" descr="1435370988542"/>
          <p:cNvPicPr/>
          <p:nvPr/>
        </p:nvPicPr>
        <p:blipFill>
          <a:blip r:embed="rId2"/>
          <a:stretch/>
        </p:blipFill>
        <p:spPr>
          <a:xfrm>
            <a:off x="4352760" y="2925720"/>
            <a:ext cx="4048200" cy="3189240"/>
          </a:xfrm>
          <a:prstGeom prst="rect">
            <a:avLst/>
          </a:prstGeom>
          <a:ln w="0">
            <a:noFill/>
          </a:ln>
        </p:spPr>
      </p:pic>
      <p:pic>
        <p:nvPicPr>
          <p:cNvPr id="69" name="图片 5" descr="C:\Users\Administrator\Desktop\IMG_3442.JPGIMG_3442"/>
          <p:cNvPicPr/>
          <p:nvPr/>
        </p:nvPicPr>
        <p:blipFill>
          <a:blip r:embed="rId3"/>
          <a:stretch/>
        </p:blipFill>
        <p:spPr>
          <a:xfrm>
            <a:off x="8400960" y="2925720"/>
            <a:ext cx="333216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c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50"/>
                </a:solidFill>
                <a:latin typeface="微软雅黑"/>
                <a:ea typeface="微软雅黑"/>
              </a:rPr>
              <a:t>◎</a:t>
            </a:r>
            <a:r>
              <a:rPr b="1" lang="zh-CN" sz="4400" spc="-1" strike="noStrike">
                <a:solidFill>
                  <a:srgbClr val="00b050"/>
                </a:solidFill>
                <a:latin typeface="微软雅黑"/>
                <a:ea typeface="微软雅黑"/>
              </a:rPr>
              <a:t>新型毒品：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冰毒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图片 3" descr="C:\Users\Administrator\Desktop\IMG_3441.JPGIMG_3441"/>
          <p:cNvPicPr/>
          <p:nvPr/>
        </p:nvPicPr>
        <p:blipFill>
          <a:blip r:embed="rId1"/>
          <a:stretch/>
        </p:blipFill>
        <p:spPr>
          <a:xfrm>
            <a:off x="563400" y="2606760"/>
            <a:ext cx="4762800" cy="35701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4" descr="20160414150427399"/>
          <p:cNvPicPr/>
          <p:nvPr/>
        </p:nvPicPr>
        <p:blipFill>
          <a:blip r:embed="rId2"/>
          <a:stretch/>
        </p:blipFill>
        <p:spPr>
          <a:xfrm>
            <a:off x="5823000" y="2606760"/>
            <a:ext cx="464652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K</a:t>
            </a: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粉：                             摇头丸：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5" name="内容占位符 3" descr="timg"/>
          <p:cNvPicPr/>
          <p:nvPr/>
        </p:nvPicPr>
        <p:blipFill>
          <a:blip r:embed="rId1"/>
          <a:stretch/>
        </p:blipFill>
        <p:spPr>
          <a:xfrm>
            <a:off x="351000" y="2465280"/>
            <a:ext cx="4279680" cy="3213360"/>
          </a:xfrm>
          <a:prstGeom prst="rect">
            <a:avLst/>
          </a:prstGeom>
          <a:ln w="0">
            <a:noFill/>
          </a:ln>
        </p:spPr>
      </p:pic>
      <p:pic>
        <p:nvPicPr>
          <p:cNvPr id="76" name="图片 4" descr="W020130625600828161839"/>
          <p:cNvPicPr/>
          <p:nvPr/>
        </p:nvPicPr>
        <p:blipFill>
          <a:blip r:embed="rId2"/>
          <a:stretch/>
        </p:blipFill>
        <p:spPr>
          <a:xfrm>
            <a:off x="9110520" y="3870360"/>
            <a:ext cx="2795760" cy="2235240"/>
          </a:xfrm>
          <a:prstGeom prst="rect">
            <a:avLst/>
          </a:prstGeom>
          <a:ln w="0">
            <a:noFill/>
          </a:ln>
        </p:spPr>
      </p:pic>
      <p:pic>
        <p:nvPicPr>
          <p:cNvPr id="77" name="图片 5" descr="timg (1)"/>
          <p:cNvPicPr/>
          <p:nvPr/>
        </p:nvPicPr>
        <p:blipFill>
          <a:blip r:embed="rId3"/>
          <a:stretch/>
        </p:blipFill>
        <p:spPr>
          <a:xfrm>
            <a:off x="5286240" y="2147760"/>
            <a:ext cx="393696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微软雅黑"/>
                <a:ea typeface="微软雅黑"/>
              </a:rPr>
              <a:t>◎</a:t>
            </a:r>
            <a:r>
              <a:rPr b="1" lang="zh-CN" sz="3600" spc="-1" strike="noStrike">
                <a:solidFill>
                  <a:srgbClr val="00b050"/>
                </a:solidFill>
                <a:latin typeface="微软雅黑"/>
                <a:ea typeface="微软雅黑"/>
              </a:rPr>
              <a:t>合成毒品：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9" name="内容占位符 3" descr="e4562a1a-68e2-4e9f-821b-546f66190b36"/>
          <p:cNvPicPr/>
          <p:nvPr/>
        </p:nvPicPr>
        <p:blipFill>
          <a:blip r:embed="rId1"/>
          <a:stretch/>
        </p:blipFill>
        <p:spPr>
          <a:xfrm>
            <a:off x="217440" y="1690560"/>
            <a:ext cx="3909960" cy="4457880"/>
          </a:xfrm>
          <a:prstGeom prst="rect">
            <a:avLst/>
          </a:prstGeom>
          <a:ln w="0">
            <a:noFill/>
          </a:ln>
        </p:spPr>
      </p:pic>
      <p:pic>
        <p:nvPicPr>
          <p:cNvPr id="80" name="图片 4" descr="25_140826102856_1"/>
          <p:cNvPicPr/>
          <p:nvPr/>
        </p:nvPicPr>
        <p:blipFill>
          <a:blip r:embed="rId2"/>
          <a:stretch/>
        </p:blipFill>
        <p:spPr>
          <a:xfrm>
            <a:off x="4340160" y="1662120"/>
            <a:ext cx="74962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1810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8f07"/>
                </a:solidFill>
                <a:latin typeface="微软雅黑"/>
                <a:ea typeface="微软雅黑"/>
              </a:rPr>
              <a:t>二、毒品的危害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14480" y="1158480"/>
            <a:ext cx="112392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楷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楷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楷体"/>
              </a:rPr>
              <a:t>） 对人体有直接毒害：长期吸毒对人体的毒害主要表现在中枢神经系统， 同时 伴有机体其他器官功能失调和组织病理变化。此时，人的主要症状有：精神萎靡、感觉迟钝、运动失调、幻觉、妄想、定向障碍和性功能障碍等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楷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楷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楷体"/>
              </a:rPr>
              <a:t>）对人体的免疫功能有严重损害。瘦弱不堪，传染疾病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图片 3" descr="13526357_880582"/>
          <p:cNvPicPr/>
          <p:nvPr/>
        </p:nvPicPr>
        <p:blipFill>
          <a:blip r:embed="rId1"/>
          <a:stretch/>
        </p:blipFill>
        <p:spPr>
          <a:xfrm>
            <a:off x="114480" y="3108240"/>
            <a:ext cx="3322440" cy="36370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6" descr="1231300089-20141125210958875"/>
          <p:cNvPicPr/>
          <p:nvPr/>
        </p:nvPicPr>
        <p:blipFill>
          <a:blip r:embed="rId2"/>
          <a:stretch/>
        </p:blipFill>
        <p:spPr>
          <a:xfrm>
            <a:off x="7716960" y="3108240"/>
            <a:ext cx="4403520" cy="3637080"/>
          </a:xfrm>
          <a:prstGeom prst="rect">
            <a:avLst/>
          </a:prstGeom>
          <a:ln w="0">
            <a:noFill/>
          </a:ln>
        </p:spPr>
      </p:pic>
      <p:pic>
        <p:nvPicPr>
          <p:cNvPr id="85" name="内容占位符 3" descr="2009626215478864"/>
          <p:cNvPicPr/>
          <p:nvPr/>
        </p:nvPicPr>
        <p:blipFill>
          <a:blip r:embed="rId3"/>
          <a:stretch/>
        </p:blipFill>
        <p:spPr>
          <a:xfrm>
            <a:off x="3436920" y="3108240"/>
            <a:ext cx="428004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7" name="内容占位符 4" descr="20100619144253267"/>
          <p:cNvPicPr/>
          <p:nvPr/>
        </p:nvPicPr>
        <p:blipFill>
          <a:blip r:embed="rId1"/>
          <a:stretch/>
        </p:blipFill>
        <p:spPr>
          <a:xfrm>
            <a:off x="117360" y="-3240"/>
            <a:ext cx="5615280" cy="6615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5" descr="21955048200213841"/>
          <p:cNvPicPr/>
          <p:nvPr/>
        </p:nvPicPr>
        <p:blipFill>
          <a:blip r:embed="rId2"/>
          <a:stretch/>
        </p:blipFill>
        <p:spPr>
          <a:xfrm>
            <a:off x="5732640" y="-3240"/>
            <a:ext cx="647532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同学们要警惕毒招！！！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0" name="内容占位符 3" descr="15216251_925132"/>
          <p:cNvPicPr/>
          <p:nvPr/>
        </p:nvPicPr>
        <p:blipFill>
          <a:blip r:embed="rId1"/>
          <a:stretch/>
        </p:blipFill>
        <p:spPr>
          <a:xfrm>
            <a:off x="66600" y="1492200"/>
            <a:ext cx="5235480" cy="43560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4" descr="1419035836669326"/>
          <p:cNvPicPr/>
          <p:nvPr/>
        </p:nvPicPr>
        <p:blipFill>
          <a:blip r:embed="rId2"/>
          <a:stretch/>
        </p:blipFill>
        <p:spPr>
          <a:xfrm>
            <a:off x="8223120" y="181080"/>
            <a:ext cx="3486240" cy="27144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5" descr="9ce000a2b334f90e315"/>
          <p:cNvPicPr/>
          <p:nvPr/>
        </p:nvPicPr>
        <p:blipFill>
          <a:blip r:embed="rId3"/>
          <a:stretch/>
        </p:blipFill>
        <p:spPr>
          <a:xfrm>
            <a:off x="5486400" y="2994120"/>
            <a:ext cx="60040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5040" y="152280"/>
            <a:ext cx="1062828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有人引诱你胁迫你吸毒怎么办？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38080" y="15840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、直截了当法！坚定直接的拒绝引诱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、金蝉脱壳法！然后溜之大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、主动出击法！立刻提出反意见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、秘密报案法！趁人不注意偷偷告诉你信赖的人或者拨打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110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、及时告知家长法！当毒贩毒友引诱逼迫你吸毒，并威胁你不许告诉家长老师否则就要对你或家人下手时，一定不要被他们恐吓住，一定要告诉师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8f07"/>
                </a:solidFill>
                <a:latin typeface="微软雅黑"/>
                <a:ea typeface="微软雅黑"/>
              </a:rPr>
              <a:t>三、青少年如何防止吸毒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树立正确的人生观，不盲目追求享受，不侥幸尝试，不受不良诱惑的影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不听信毒品能治病，能解脱烦恼和痛苦带来快乐等各种花言巧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不结交吸毒贩毒行为的人，如发现亲朋好友有吸贩毒行为的人，一劝阻、二远离、三报告公安机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养成良好的行为，无不良嗜好，不涉足青少年不宜进入的场所。绝不吸食摇头丸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K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粉等兴奋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即使自己在不知情的情况下，被引诱欺骗吸毒一次，也要珍惜自己生命，坚决不再吸第二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丽的花海你们认识是什么花吗？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7" descr="designrf1835879"/>
          <p:cNvPicPr/>
          <p:nvPr/>
        </p:nvPicPr>
        <p:blipFill>
          <a:blip r:embed="rId1"/>
          <a:stretch/>
        </p:blipFill>
        <p:spPr>
          <a:xfrm>
            <a:off x="5979960" y="-9360"/>
            <a:ext cx="6186600" cy="68767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4" descr="109"/>
          <p:cNvPicPr/>
          <p:nvPr/>
        </p:nvPicPr>
        <p:blipFill>
          <a:blip r:embed="rId2"/>
          <a:stretch/>
        </p:blipFill>
        <p:spPr>
          <a:xfrm>
            <a:off x="-50760" y="-17640"/>
            <a:ext cx="6030720" cy="6877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52560" y="1406160"/>
            <a:ext cx="100872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丽的罂粟花！！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82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3640" y="361440"/>
            <a:ext cx="453204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丽的毒果！！</a:t>
            </a: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图片 9" descr="W020100802557497044148 (1)"/>
          <p:cNvPicPr/>
          <p:nvPr/>
        </p:nvPicPr>
        <p:blipFill>
          <a:blip r:embed="rId1"/>
          <a:stretch/>
        </p:blipFill>
        <p:spPr>
          <a:xfrm>
            <a:off x="738360" y="1639800"/>
            <a:ext cx="4979880" cy="39052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0" descr="2042663905990138742"/>
          <p:cNvPicPr/>
          <p:nvPr/>
        </p:nvPicPr>
        <p:blipFill>
          <a:blip r:embed="rId2"/>
          <a:stretch/>
        </p:blipFill>
        <p:spPr>
          <a:xfrm>
            <a:off x="6176880" y="2274840"/>
            <a:ext cx="534672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内容占位符 3" descr="200811211064748_2"/>
          <p:cNvPicPr/>
          <p:nvPr/>
        </p:nvPicPr>
        <p:blipFill>
          <a:blip r:embed="rId1"/>
          <a:stretch/>
        </p:blipFill>
        <p:spPr>
          <a:xfrm>
            <a:off x="3819600" y="1327320"/>
            <a:ext cx="4552920" cy="5489280"/>
          </a:xfrm>
          <a:prstGeom prst="rect">
            <a:avLst/>
          </a:prstGeom>
          <a:ln w="0">
            <a:noFill/>
          </a:ln>
        </p:spPr>
      </p:pic>
      <p:pic>
        <p:nvPicPr>
          <p:cNvPr id="51" name="标题 1" descr=""/>
          <p:cNvPicPr/>
          <p:nvPr/>
        </p:nvPicPr>
        <p:blipFill>
          <a:blip r:embed="rId2"/>
          <a:stretch/>
        </p:blipFill>
        <p:spPr>
          <a:xfrm>
            <a:off x="590400" y="360360"/>
            <a:ext cx="1077300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c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5" descr="IMG_9394"/>
          <p:cNvPicPr/>
          <p:nvPr/>
        </p:nvPicPr>
        <p:blipFill>
          <a:blip r:embed="rId1"/>
          <a:stretch/>
        </p:blipFill>
        <p:spPr>
          <a:xfrm>
            <a:off x="15840" y="3879720"/>
            <a:ext cx="7280280" cy="2855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49200"/>
            <a:ext cx="10738080" cy="554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一：认识毒品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70ad47"/>
                </a:solidFill>
                <a:latin typeface="微软雅黑"/>
                <a:ea typeface="微软雅黑"/>
              </a:rPr>
              <a:t>◎  什么是毒品？</a:t>
            </a:r>
            <a:br>
              <a:rPr sz="2900"/>
            </a:br>
            <a:br>
              <a:rPr sz="2900"/>
            </a:br>
            <a:r>
              <a:rPr b="1" lang="zh-CN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是指鸦片、海洛因、可卡因等、人工化学合成的致幻剂、兴奋剂类毒品。此类毒品属国际禁毒公约和我国法律所规定管制的范围，它直接作用于人的中枢神经系统，使人兴奋、抑制或至幻，是连续使用能使人产生依赖性的精神药品（毒品）。 目前在我国流行的摇头丸等新型毒品多发生在娱乐场所，所以又被称为“俱乐部毒品”、“休闲毒品”、“假日毒品”。 毒品主要有海洛因、冰毒、摇头丸、</a:t>
            </a:r>
            <a:r>
              <a:rPr b="1" lang="zh-CN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r>
              <a:rPr b="1" lang="zh-CN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粉、三唑仑等。</a:t>
            </a:r>
            <a:br>
              <a:rPr sz="2500"/>
            </a:br>
            <a:br>
              <a:rPr sz="4000"/>
            </a:b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c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36600"/>
            <a:ext cx="11520360" cy="334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ad47"/>
                </a:solidFill>
                <a:latin typeface="微软雅黑"/>
                <a:ea typeface="微软雅黑"/>
              </a:rPr>
              <a:t>◎</a:t>
            </a:r>
            <a:r>
              <a:rPr b="1" lang="zh-CN" sz="4400" spc="-1" strike="noStrike">
                <a:solidFill>
                  <a:srgbClr val="70ad47"/>
                </a:solidFill>
                <a:latin typeface="微软雅黑"/>
                <a:ea typeface="微软雅黑"/>
              </a:rPr>
              <a:t>传统毒品：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鸦片</a:t>
            </a:r>
            <a:r>
              <a:rPr b="1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又叫阿片，俗称大烟，源于罂粟植物蒴果，其所含主要生物碱是吗啡。鸦片因产地不同，呈黑色或褐色；有氨味或陈旧尿味，味苦，气味强烈。生鸦片经烧煮和发酵，可制成精制鸦片，呈棕色或金黄色。吸食时散发香甜气味。鸦片最初是作为药用，目前在药物中仍有应用，如阿片粉、阿片片、复方桔梗散、托氏散、阿桔片等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要用于镇咳、止泻等。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13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，中国严禁贩食鸦片。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5" name="图片 4" descr="14UF5bT40-122J9"/>
          <p:cNvPicPr/>
          <p:nvPr/>
        </p:nvPicPr>
        <p:blipFill>
          <a:blip r:embed="rId1"/>
          <a:stretch/>
        </p:blipFill>
        <p:spPr>
          <a:xfrm>
            <a:off x="371520" y="3357720"/>
            <a:ext cx="3403440" cy="26431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5" descr="01300000329092124395826103685"/>
          <p:cNvPicPr/>
          <p:nvPr/>
        </p:nvPicPr>
        <p:blipFill>
          <a:blip r:embed="rId2"/>
          <a:stretch/>
        </p:blipFill>
        <p:spPr>
          <a:xfrm>
            <a:off x="3902040" y="3357720"/>
            <a:ext cx="3801960" cy="26431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6" descr="2042663905990138742"/>
          <p:cNvPicPr/>
          <p:nvPr/>
        </p:nvPicPr>
        <p:blipFill>
          <a:blip r:embed="rId3"/>
          <a:stretch/>
        </p:blipFill>
        <p:spPr>
          <a:xfrm>
            <a:off x="8048520" y="3211560"/>
            <a:ext cx="37004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c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36240"/>
            <a:ext cx="11380680" cy="26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海洛因：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系列吗啡类毒品总称，是以吗啡生物碱作为合成起点得到的半合成毒品，俗称几号、白粉、白面、红鸡、白戈珠，是阿片毒品系列中的精制品。海洛因对人类的身心健康危害极大，长期吸食、注射海洛因可使人格解体、心理变态和寿命缩减，尤其对神经系统伤害最为明显。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图片 4" descr="C:\Users\Administrator\Desktop\IMG_3443.JPGIMG_3443"/>
          <p:cNvPicPr/>
          <p:nvPr/>
        </p:nvPicPr>
        <p:blipFill>
          <a:blip r:embed="rId1"/>
          <a:stretch/>
        </p:blipFill>
        <p:spPr>
          <a:xfrm>
            <a:off x="50760" y="3228840"/>
            <a:ext cx="4430880" cy="31813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5" descr="1214387595153_1214387595153_r"/>
          <p:cNvPicPr/>
          <p:nvPr/>
        </p:nvPicPr>
        <p:blipFill>
          <a:blip r:embed="rId2"/>
          <a:stretch/>
        </p:blipFill>
        <p:spPr>
          <a:xfrm>
            <a:off x="4481640" y="3228840"/>
            <a:ext cx="3682800" cy="31813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6" descr="00002693"/>
          <p:cNvPicPr/>
          <p:nvPr/>
        </p:nvPicPr>
        <p:blipFill>
          <a:blip r:embed="rId3"/>
          <a:stretch/>
        </p:blipFill>
        <p:spPr>
          <a:xfrm>
            <a:off x="8340840" y="3228840"/>
            <a:ext cx="36003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c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0840" y="479520"/>
            <a:ext cx="112266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大麻：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类吸食大麻的历史长达千余年，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纪在毒品和宗教方面的使用有增加倾向。生长地区包括在亚洲的吉尔吉斯坦、阿富汗，中国部分地区、印度和尼泊尔，以及欧洲的匈牙利、波兰、保加利亚等地。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3" name="内容占位符 3" descr="C:\Users\Administrator\Desktop\IMG_3444.JPGIMG_3444"/>
          <p:cNvPicPr/>
          <p:nvPr/>
        </p:nvPicPr>
        <p:blipFill>
          <a:blip r:embed="rId1"/>
          <a:stretch/>
        </p:blipFill>
        <p:spPr>
          <a:xfrm>
            <a:off x="77760" y="3373560"/>
            <a:ext cx="4272120" cy="3030480"/>
          </a:xfrm>
          <a:prstGeom prst="rect">
            <a:avLst/>
          </a:prstGeom>
          <a:ln w="0">
            <a:noFill/>
          </a:ln>
        </p:spPr>
      </p:pic>
      <p:pic>
        <p:nvPicPr>
          <p:cNvPr id="64" name="图片 4" descr="d57-498611"/>
          <p:cNvPicPr/>
          <p:nvPr/>
        </p:nvPicPr>
        <p:blipFill>
          <a:blip r:embed="rId2"/>
          <a:stretch/>
        </p:blipFill>
        <p:spPr>
          <a:xfrm>
            <a:off x="4349880" y="3324240"/>
            <a:ext cx="3841560" cy="30798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5" descr="m01_23363559"/>
          <p:cNvPicPr/>
          <p:nvPr/>
        </p:nvPicPr>
        <p:blipFill>
          <a:blip r:embed="rId3"/>
          <a:stretch/>
        </p:blipFill>
        <p:spPr>
          <a:xfrm>
            <a:off x="8191440" y="3371760"/>
            <a:ext cx="379404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4T09:17:00Z</dcterms:created>
  <dc:creator>Administrator</dc:creator>
  <dc:description/>
  <dc:language>en-US</dc:language>
  <cp:lastModifiedBy>User</cp:lastModifiedBy>
  <dcterms:modified xsi:type="dcterms:W3CDTF">2019-11-18T08:18:44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145</vt:lpwstr>
  </property>
</Properties>
</file>