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6.jpeg" ContentType="image/jpeg"/>
  <Override PartName="/ppt/media/type.wav" ContentType="audio/x-wav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6EBC-7E93-4040-A485-08D5AE64F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8F4B-9915-4E96-8D8F-F1E7FEAB5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077B-56B2-4F95-BF49-FE7205E92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B1D6-563B-47B6-9E0E-4A9F8CF61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15F7-2F3F-43C7-BFA2-2F2FB6849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B259-F54E-48A5-8E38-05ACA2D9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E90A-D5D9-4F03-9417-68AC6C5AA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8223-CB23-4C60-A09C-F7194B78B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4FF7-626D-444B-90DD-99C3D9BC7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39C1-5D14-4358-A948-44E100F1B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1CF4-E6FA-4BC8-981C-E80131980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0C0D-621E-478C-939C-940DCFBD6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  <a:ea typeface="宋体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FCB3-F2A7-4646-A417-EB375CC526B2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63560" indent="-30636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81160" indent="-26676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90560" indent="-318960">
              <a:spcBef>
                <a:spcPts val="601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184480" indent="-355680">
              <a:spcBef>
                <a:spcPts val="601"/>
              </a:spcBef>
              <a:buClr>
                <a:srgbClr val="ff99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184480" indent="-3556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184480" indent="-3556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hyperlink" Target="file:///&#31105;&#27602;&#25945;&#32946;&#36164;&#26009;/&#22825;&#25991;&#20844;&#24320;&#35838;&#25351;&#25968;&#20989;&#25968;&#26368;&#32456;/&#25351;&#25968;&#20989;&#25968;&#30340;&#22270;&#35937;2.gsp" TargetMode="External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900000" y="1079640"/>
            <a:ext cx="7543800" cy="233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拒绝毒品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48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55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3" descr="rose3[1]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4" descr="rose3[1]"/>
            <p:cNvPicPr/>
            <p:nvPr/>
          </p:nvPicPr>
          <p:blipFill>
            <a:blip r:embed="rId18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5" descr="rose3[1]"/>
            <p:cNvPicPr/>
            <p:nvPr/>
          </p:nvPicPr>
          <p:blipFill>
            <a:blip r:embed="rId19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文本框 1"/>
          <p:cNvSpPr/>
          <p:nvPr/>
        </p:nvSpPr>
        <p:spPr>
          <a:xfrm>
            <a:off x="1373040" y="3102120"/>
            <a:ext cx="63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孝昌县经济开发区关王小学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4513320" y="3957480"/>
            <a:ext cx="31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宋体"/>
              </a:rPr>
              <a:t>郑康宁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6_GG88"/>
          <p:cNvPicPr/>
          <p:nvPr/>
        </p:nvPicPr>
        <p:blipFill>
          <a:blip r:embed="rId1"/>
          <a:stretch/>
        </p:blipFill>
        <p:spPr>
          <a:xfrm>
            <a:off x="324000" y="304920"/>
            <a:ext cx="8569080" cy="6219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372360" y="522936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罂粟花</a:t>
            </a:r>
            <a:r>
              <a:rPr b="1" lang="zh-CN" sz="48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宋体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0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810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96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99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01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010400" y="558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08" descr="lhh_2"/>
          <p:cNvPicPr/>
          <p:nvPr/>
        </p:nvPicPr>
        <p:blipFill>
          <a:blip r:embed="rId1"/>
          <a:stretch/>
        </p:blipFill>
        <p:spPr>
          <a:xfrm>
            <a:off x="838080" y="7452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7409"/>
          <p:cNvSpPr/>
          <p:nvPr/>
        </p:nvSpPr>
        <p:spPr>
          <a:xfrm>
            <a:off x="250920" y="1872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常见的吸毒行为有：烟吸、烫吸、鼻嗅、口服、注射五种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8432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矩形 18433"/>
          <p:cNvSpPr/>
          <p:nvPr/>
        </p:nvSpPr>
        <p:spPr>
          <a:xfrm>
            <a:off x="831204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D24-B2E6-415F-A2B7-3473A0D3CE86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图片 18434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3" name="矩形 18435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945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图片 19457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矩形 19458"/>
          <p:cNvSpPr/>
          <p:nvPr/>
        </p:nvSpPr>
        <p:spPr>
          <a:xfrm>
            <a:off x="4500720" y="1916280"/>
            <a:ext cx="337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摧毁健康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心理变态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神经失常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备受歧视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走上绝路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矩形 19459"/>
          <p:cNvSpPr/>
          <p:nvPr/>
        </p:nvSpPr>
        <p:spPr>
          <a:xfrm>
            <a:off x="3780000" y="977040"/>
            <a:ext cx="5027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吸毒对个人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048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9" name="图片 20481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20482"/>
          <p:cNvSpPr/>
          <p:nvPr/>
        </p:nvSpPr>
        <p:spPr>
          <a:xfrm>
            <a:off x="4859280" y="2205000"/>
            <a:ext cx="30243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倾家荡产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妻离子散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家破人亡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危及后代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矩形 20483"/>
          <p:cNvSpPr/>
          <p:nvPr/>
        </p:nvSpPr>
        <p:spPr>
          <a:xfrm>
            <a:off x="4211640" y="1053360"/>
            <a:ext cx="439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对家庭造成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072" descr="I:\no.jpg"/>
          <p:cNvPicPr/>
          <p:nvPr/>
        </p:nvPicPr>
        <p:blipFill>
          <a:blip r:embed="rId1"/>
          <a:stretch/>
        </p:blipFill>
        <p:spPr>
          <a:xfrm rot="923400">
            <a:off x="3979440" y="1681200"/>
            <a:ext cx="491796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矩形 3073"/>
          <p:cNvSpPr/>
          <p:nvPr/>
        </p:nvSpPr>
        <p:spPr>
          <a:xfrm>
            <a:off x="971640" y="263700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10000"/>
                </a:solidFill>
                <a:latin typeface="楷体"/>
                <a:ea typeface="楷体"/>
              </a:rPr>
              <a:t>向毒品说</a:t>
            </a:r>
            <a:endParaRPr b="1" lang="en-US" sz="6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2150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图片 21505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1506"/>
          <p:cNvSpPr/>
          <p:nvPr/>
        </p:nvSpPr>
        <p:spPr>
          <a:xfrm>
            <a:off x="4966560" y="83664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社会造成的危害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矩形 21507"/>
          <p:cNvSpPr/>
          <p:nvPr/>
        </p:nvSpPr>
        <p:spPr>
          <a:xfrm>
            <a:off x="5021280" y="2205000"/>
            <a:ext cx="323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偷盗抢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杀人放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传播疾病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累及他人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28" name="图片 3" descr="97491acc3186bceb19e8bba2"/>
          <p:cNvPicPr/>
          <p:nvPr/>
        </p:nvPicPr>
        <p:blipFill>
          <a:blip r:embed="rId1"/>
          <a:stretch/>
        </p:blipFill>
        <p:spPr>
          <a:xfrm>
            <a:off x="28116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457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图片 24577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24578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667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3803"/>
                </a:solidFill>
                <a:latin typeface="宋体"/>
                <a:ea typeface="宋体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15280" cy="3743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出入网吧、</a:t>
            </a: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ktv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6" name="图片 27650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474480"/>
            <a:ext cx="60962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9" name="图片 28674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969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683560" cy="5545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结交有吸毒、贩毒行为的人。如发现亲朋好友有吸、贩毒行为的人，一要劝阻，二要远离，三要报告公安机关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矩形 29698"/>
          <p:cNvSpPr/>
          <p:nvPr/>
        </p:nvSpPr>
        <p:spPr>
          <a:xfrm>
            <a:off x="324000" y="6237360"/>
            <a:ext cx="12222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07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402840"/>
            <a:ext cx="609588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46" name="图片 30723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317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养成良好的行为，杜绝吸烟饮酒等不良嗜好，不涉足青少年不宜进入的场所，决不吸食摇头丸、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粉等兴奋剂。</a:t>
            </a:r>
            <a:br>
              <a:rPr sz="3600"/>
            </a:b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即使自己在不知情的情况下，被引诱、欺骗吸毒一次，也要珍惜自己的生命，坚决不再吸第二次。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395280" y="6237360"/>
            <a:ext cx="1079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327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18840"/>
            <a:ext cx="7235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全国人大关于禁毒的决定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的，由公安机关处十五日以下拘留，可以单处或者并处二千元以下罚款，并没收毒品和吸食、注射器具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成瘾的，除依照规定处罚外，予以强制戒除，进行治疗、教育。强制戒除后又吸食、注射毒品的，可以实行劳动教养，并在劳动教养中强制戒除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3" name="矩形 32771"/>
          <p:cNvSpPr/>
          <p:nvPr/>
        </p:nvSpPr>
        <p:spPr>
          <a:xfrm>
            <a:off x="250920" y="6237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4009-C8AB-4D99-B388-05AA74D7036C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7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123"/>
          <p:cNvSpPr/>
          <p:nvPr/>
        </p:nvSpPr>
        <p:spPr>
          <a:xfrm>
            <a:off x="539640" y="33336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  <a:ea typeface="黑体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珍爱生命，拒绝毒品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莫沾毒品，莫交毒友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防毒反毒，人人有责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扫除毒害，利国利民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865240" y="1845720"/>
            <a:ext cx="366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是人类社会的公害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吸毒是犯罪的祸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一日不绝，禁毒一刻不止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有毒必肃，贩毒必惩，种毒必究，吸毒必戒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  <a:ea typeface="宋体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60" name="图片 3" descr="97491acc3186bceb19e8bba2 (2)"/>
          <p:cNvPicPr/>
          <p:nvPr/>
        </p:nvPicPr>
        <p:blipFill>
          <a:blip r:embed="rId1"/>
          <a:stretch/>
        </p:blipFill>
        <p:spPr>
          <a:xfrm>
            <a:off x="396720" y="155520"/>
            <a:ext cx="823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华文中宋"/>
              </a:rPr>
              <a:t>为爱你和你爱的人！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拒绝毒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829864_183629997000_2"/>
          <p:cNvPicPr/>
          <p:nvPr/>
        </p:nvPicPr>
        <p:blipFill>
          <a:blip r:embed="rId1"/>
          <a:srcRect l="66407" t="66424" r="781" b="57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340000" y="2492280"/>
            <a:ext cx="50734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　谢　！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33DE-3D52-49D1-9069-1F0118D9014F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1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74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0D74-5DF8-4A47-A5C6-C11BCFC9CA95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7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192"/>
          <p:cNvSpPr/>
          <p:nvPr/>
        </p:nvSpPr>
        <p:spPr>
          <a:xfrm>
            <a:off x="3492360" y="189000"/>
            <a:ext cx="2248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a603ab"/>
                </a:solidFill>
                <a:latin typeface="宋体"/>
                <a:ea typeface="宋体"/>
              </a:rPr>
              <a:t>认清毒品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9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80" name="矩形 8194"/>
          <p:cNvSpPr/>
          <p:nvPr/>
        </p:nvSpPr>
        <p:spPr>
          <a:xfrm>
            <a:off x="1619280" y="50832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矩形 8195"/>
          <p:cNvSpPr/>
          <p:nvPr/>
        </p:nvSpPr>
        <p:spPr>
          <a:xfrm>
            <a:off x="6657840" y="27068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2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4679640" cy="792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zh-CN" sz="3900" spc="-1" strike="noStrike">
                <a:solidFill>
                  <a:srgbClr val="ff0066"/>
                </a:solidFill>
                <a:latin typeface="Arial Narrow"/>
                <a:ea typeface="宋体"/>
              </a:rPr>
              <a:t>区分毒品和毒药</a:t>
            </a:r>
            <a:endParaRPr b="0" lang="en-US" sz="3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例如海洛因和砒霜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共同点：对人有毒害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不同点：毒品有依赖性，毒物没有依赖性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罂粟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二、大麻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冰毒（包括麻古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五、氯胺酮（又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粉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六、摇头丸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罂粟、大麻、海洛因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般称传统毒品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冰毒、氯胺酮、摇头丸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等称新型毒品（合成毒品）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/>
  <dc:description/>
  <dc:language>en-US</dc:language>
  <cp:lastModifiedBy>User</cp:lastModifiedBy>
  <dcterms:modified xsi:type="dcterms:W3CDTF">2019-10-17T06:46:41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</Properties>
</file>