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29.jpeg" ContentType="image/jpeg"/>
  <Override PartName="/ppt/media/image8.jpeg" ContentType="image/jpeg"/>
  <Override PartName="/ppt/media/image28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11.png" ContentType="image/png"/>
  <Override PartName="/ppt/media/image36.jpeg" ContentType="image/jpeg"/>
  <Override PartName="/ppt/media/image13.png" ContentType="image/png"/>
  <Override PartName="/ppt/media/image1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A8DD-603B-4F3A-B9AD-8F8DDDF6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783E-533F-4075-BE2D-B49F596F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9BB9-B39A-48DB-9ADF-5EC30B84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6191-EE0E-4F18-841F-8147E0A7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28A8-E3B0-4A9A-AFAD-CB357439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4589-4E84-41CC-80C1-A2167646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875E-6637-467A-92C3-2C259328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8E4F-8CF4-4001-8702-15050BA2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346C-0668-49CE-9AD2-B3601784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799C-2252-4B4E-BD58-50811B8C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5424-3E48-4842-B250-3DC04954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6BB0-184E-4375-957A-8DADF59B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A632-3761-4B4A-9DAC-81609162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D903-87A1-4DC7-8D1F-C2D57DC8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EC3F-022C-4A1B-8A15-ED47096F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62DE-A3EE-4141-BEE7-C0F50EAA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609C-6351-4F33-9A4F-106A311A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4757-E1C8-46BC-B1FC-6C187524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ECA1-C51B-47B6-B174-6A5773C8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B319-45C6-4FC1-BD67-CE948122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5EE9-920F-4800-A961-DF3738FF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706-0CCB-4BD3-A9F4-CB368BA0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0785-AF2C-4298-BCBF-26C836ED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9943-CB72-4910-BBEA-69E1A7E5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2-4-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党职校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1CNC1my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BE82-CC94-4E52-AE00-BB97D3FEAA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012-4-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党职校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11CNC1my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E5E5-CFD3-448C-A67B-7F008697BEA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baike.baidu.com/view/31082.htm" TargetMode="External"/><Relationship Id="rId3" Type="http://schemas.openxmlformats.org/officeDocument/2006/relationships/hyperlink" Target="http://baike.baidu.com/view/61891.htm" TargetMode="External"/><Relationship Id="rId4" Type="http://schemas.openxmlformats.org/officeDocument/2006/relationships/hyperlink" Target="http://baike.baidu.com/view/5405.htm" TargetMode="External"/><Relationship Id="rId5" Type="http://schemas.openxmlformats.org/officeDocument/2006/relationships/hyperlink" Target="http://baike.baidu.com/view/7340.htm" TargetMode="External"/><Relationship Id="rId6" Type="http://schemas.openxmlformats.org/officeDocument/2006/relationships/hyperlink" Target="http://baike.baidu.com/view/9902.htm" TargetMode="External"/><Relationship Id="rId7" Type="http://schemas.openxmlformats.org/officeDocument/2006/relationships/hyperlink" Target="http://baike.baidu.com/view/48254.htm" TargetMode="External"/><Relationship Id="rId8" Type="http://schemas.openxmlformats.org/officeDocument/2006/relationships/hyperlink" Target="http://baike.baidu.com/view/660261.htm" TargetMode="External"/><Relationship Id="rId9" Type="http://schemas.openxmlformats.org/officeDocument/2006/relationships/hyperlink" Target="http://baike.baidu.com/view/7659.htm" TargetMode="External"/><Relationship Id="rId10" Type="http://schemas.openxmlformats.org/officeDocument/2006/relationships/hyperlink" Target="http://baike.baidu.com/view/31082.htm" TargetMode="External"/><Relationship Id="rId11" Type="http://schemas.openxmlformats.org/officeDocument/2006/relationships/hyperlink" Target="http://baike.baidu.com/view/9902.htm" TargetMode="External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baike.baidu.com/view/2677.htm" TargetMode="External"/><Relationship Id="rId3" Type="http://schemas.openxmlformats.org/officeDocument/2006/relationships/hyperlink" Target="http://baike.baidu.com/view/660261.htm" TargetMode="External"/><Relationship Id="rId4" Type="http://schemas.openxmlformats.org/officeDocument/2006/relationships/hyperlink" Target="http://baike.baidu.com/view/4813.htm" TargetMode="External"/><Relationship Id="rId5" Type="http://schemas.openxmlformats.org/officeDocument/2006/relationships/hyperlink" Target="http://baike.baidu.com/view/4933317.htm" TargetMode="External"/><Relationship Id="rId6" Type="http://schemas.openxmlformats.org/officeDocument/2006/relationships/hyperlink" Target="http://baike.baidu.com/view/5405.htm" TargetMode="External"/><Relationship Id="rId7" Type="http://schemas.openxmlformats.org/officeDocument/2006/relationships/hyperlink" Target="http://baike.baidu.com/view/134768.htm" TargetMode="External"/><Relationship Id="rId8" Type="http://schemas.openxmlformats.org/officeDocument/2006/relationships/hyperlink" Target="http://baike.baidu.com/view/209839.htm" TargetMode="External"/><Relationship Id="rId9" Type="http://schemas.openxmlformats.org/officeDocument/2006/relationships/hyperlink" Target="http://baike.baidu.com/view/209844.htm" TargetMode="External"/><Relationship Id="rId10" Type="http://schemas.openxmlformats.org/officeDocument/2006/relationships/hyperlink" Target="http://baike.baidu.com/view/814044.htm" TargetMode="External"/><Relationship Id="rId11" Type="http://schemas.openxmlformats.org/officeDocument/2006/relationships/hyperlink" Target="http://baike.baidu.com/view/814030.htm" TargetMode="External"/><Relationship Id="rId12" Type="http://schemas.openxmlformats.org/officeDocument/2006/relationships/hyperlink" Target="http://baike.baidu.com/view/811299.htm" TargetMode="External"/><Relationship Id="rId13" Type="http://schemas.openxmlformats.org/officeDocument/2006/relationships/image" Target="../media/image34.jpeg"/><Relationship Id="rId1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标注 2080"/>
          <p:cNvSpPr/>
          <p:nvPr/>
        </p:nvSpPr>
        <p:spPr>
          <a:xfrm>
            <a:off x="900000" y="2133720"/>
            <a:ext cx="914400" cy="609480"/>
          </a:xfrm>
          <a:prstGeom prst="wedgeRect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C023-8D32-4E97-8B66-7A0AB608A8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" descr="timg (1)"/>
          <p:cNvPicPr/>
          <p:nvPr/>
        </p:nvPicPr>
        <p:blipFill>
          <a:blip r:embed="rId1"/>
          <a:stretch/>
        </p:blipFill>
        <p:spPr>
          <a:xfrm>
            <a:off x="33480" y="39600"/>
            <a:ext cx="9077040" cy="6681960"/>
          </a:xfrm>
          <a:prstGeom prst="rect">
            <a:avLst/>
          </a:prstGeom>
          <a:ln w="0">
            <a:noFill/>
          </a:ln>
        </p:spPr>
      </p:pic>
      <p:pic>
        <p:nvPicPr>
          <p:cNvPr id="85" name="文本框 2" descr=""/>
          <p:cNvPicPr/>
          <p:nvPr/>
        </p:nvPicPr>
        <p:blipFill>
          <a:blip r:embed="rId2"/>
          <a:stretch/>
        </p:blipFill>
        <p:spPr>
          <a:xfrm>
            <a:off x="3319560" y="5511960"/>
            <a:ext cx="5789520" cy="644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文本占位符 3789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9654-DF98-4F7D-859D-926D3C97BE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文本占位符 3993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5DBA-9EE7-498C-8AE6-058B748DBA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文本占位符 389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BBFB-2C5F-4EB6-8A02-77E5E7DE09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文本占位符 4096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E8E0-3041-4095-A811-212E476D39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文本占位符 4198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DA73-F4B0-4619-AE15-7CC9AAC04B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文本占位符 430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CBCB-B00C-4BF5-8D57-4385F800D6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3081"/>
          <p:cNvSpPr txBox="1"/>
          <p:nvPr/>
        </p:nvSpPr>
        <p:spPr>
          <a:xfrm>
            <a:off x="468360" y="0"/>
            <a:ext cx="820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二、毒品的魔力</a:t>
            </a:r>
            <a:endParaRPr b="0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矩形 3082"/>
          <p:cNvSpPr/>
          <p:nvPr/>
        </p:nvSpPr>
        <p:spPr>
          <a:xfrm>
            <a:off x="468360" y="1481040"/>
            <a:ext cx="842472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、毒品的基本特征是什么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具有依赖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具有非法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具有危害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3A25-2E7F-4F82-8F98-D65FA485C2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4" descr="u=2978194222,1084511889&amp;fm=26&amp;gp=0"/>
          <p:cNvPicPr/>
          <p:nvPr/>
        </p:nvPicPr>
        <p:blipFill>
          <a:blip r:embed="rId1"/>
          <a:stretch/>
        </p:blipFill>
        <p:spPr>
          <a:xfrm>
            <a:off x="468360" y="3798720"/>
            <a:ext cx="7831080" cy="3133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8158-08B9-49EE-88F0-8DE4FC466D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6"/>
          <p:cNvSpPr/>
          <p:nvPr/>
        </p:nvSpPr>
        <p:spPr>
          <a:xfrm>
            <a:off x="882720" y="3849840"/>
            <a:ext cx="697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0e0e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9e0e0e"/>
                </a:solidFill>
                <a:latin typeface="Arial"/>
              </a:rPr>
              <a:t>一旦沾染毒品就会成瘾是每个吸毒者的必然结局。成瘾时间的快慢与使用毒品的种类、纯度、剂量、每日的次数，及滥用的方式而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7"/>
          <p:cNvSpPr/>
          <p:nvPr/>
        </p:nvSpPr>
        <p:spPr>
          <a:xfrm>
            <a:off x="1089000" y="244440"/>
            <a:ext cx="358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什么是吸毒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8"/>
          <p:cNvSpPr/>
          <p:nvPr/>
        </p:nvSpPr>
        <p:spPr>
          <a:xfrm>
            <a:off x="689040" y="1162080"/>
            <a:ext cx="754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e0e0e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9e0e0e"/>
                </a:solidFill>
                <a:latin typeface="Arial"/>
              </a:rPr>
              <a:t>吸毒也称为药物滥用，是指非医疗用途的、长期、反复并以不断增加用药剂量为特征的强迫性自行药物摄入行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文本框 9" descr=""/>
          <p:cNvPicPr/>
          <p:nvPr/>
        </p:nvPicPr>
        <p:blipFill>
          <a:blip r:embed="rId1"/>
          <a:stretch/>
        </p:blipFill>
        <p:spPr>
          <a:xfrm>
            <a:off x="882720" y="2936880"/>
            <a:ext cx="5799240" cy="706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227A-061A-436D-91F4-EF1AEC6121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文本框 6" descr=""/>
          <p:cNvPicPr/>
          <p:nvPr/>
        </p:nvPicPr>
        <p:blipFill>
          <a:blip r:embed="rId1"/>
          <a:stretch/>
        </p:blipFill>
        <p:spPr>
          <a:xfrm>
            <a:off x="291960" y="206280"/>
            <a:ext cx="7635960" cy="1295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291600" y="2065320"/>
            <a:ext cx="879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吸毒</a:t>
            </a: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毁灭自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自杀、自伤、自残，加速死亡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吸毒</a:t>
            </a: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毁灭家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倾家荡产、妻离子散、家破人亡、贻害后代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吸毒</a:t>
            </a: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危害社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诱发刑事犯罪，败坏社会风气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8" descr="timg"/>
          <p:cNvPicPr/>
          <p:nvPr/>
        </p:nvPicPr>
        <p:blipFill>
          <a:blip r:embed="rId2"/>
          <a:stretch/>
        </p:blipFill>
        <p:spPr>
          <a:xfrm>
            <a:off x="5965920" y="206280"/>
            <a:ext cx="31226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BB77-9D0B-4686-A3EF-4B059ED4ED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6" descr="timg (8)"/>
          <p:cNvPicPr/>
          <p:nvPr/>
        </p:nvPicPr>
        <p:blipFill>
          <a:blip r:embed="rId1"/>
          <a:stretch/>
        </p:blipFill>
        <p:spPr>
          <a:xfrm>
            <a:off x="344520" y="358920"/>
            <a:ext cx="8129520" cy="5440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21507" descr="禁毒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1B24-21DA-47FA-8EC1-324E204D83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F614-6AA1-4E8D-9FE7-FE87CDBAFF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59398"/>
          <p:cNvSpPr txBox="1"/>
          <p:nvPr/>
        </p:nvSpPr>
        <p:spPr>
          <a:xfrm>
            <a:off x="1403280" y="304920"/>
            <a:ext cx="451476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三、青少年吸毒</a:t>
            </a:r>
            <a:endParaRPr b="1" lang="en-US" sz="32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0" name="文本框 6"/>
          <p:cNvSpPr/>
          <p:nvPr/>
        </p:nvSpPr>
        <p:spPr>
          <a:xfrm>
            <a:off x="863640" y="1909800"/>
            <a:ext cx="733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青少年已成为毒品的主要受害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7"/>
          <p:cNvSpPr/>
          <p:nvPr/>
        </p:nvSpPr>
        <p:spPr>
          <a:xfrm>
            <a:off x="946080" y="3035160"/>
            <a:ext cx="725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据国家禁毒委员会统计，目前我国的吸毒者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岁以下的青少年占全部吸毒者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5.6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A4BE-F697-43F9-9865-D4ADAA286F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6" descr="timg (1)"/>
          <p:cNvPicPr/>
          <p:nvPr/>
        </p:nvPicPr>
        <p:blipFill>
          <a:blip r:embed="rId1"/>
          <a:stretch/>
        </p:blipFill>
        <p:spPr>
          <a:xfrm>
            <a:off x="4067280" y="357120"/>
            <a:ext cx="3660840" cy="27291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7" descr="timg (2)"/>
          <p:cNvPicPr/>
          <p:nvPr/>
        </p:nvPicPr>
        <p:blipFill>
          <a:blip r:embed="rId2"/>
          <a:stretch/>
        </p:blipFill>
        <p:spPr>
          <a:xfrm>
            <a:off x="5313240" y="3379680"/>
            <a:ext cx="2895840" cy="34448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8" descr="timg (4)"/>
          <p:cNvPicPr/>
          <p:nvPr/>
        </p:nvPicPr>
        <p:blipFill>
          <a:blip r:embed="rId3"/>
          <a:stretch/>
        </p:blipFill>
        <p:spPr>
          <a:xfrm>
            <a:off x="52560" y="128520"/>
            <a:ext cx="2793960" cy="352260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9" descr="timg (7)"/>
          <p:cNvPicPr/>
          <p:nvPr/>
        </p:nvPicPr>
        <p:blipFill>
          <a:blip r:embed="rId4"/>
          <a:stretch/>
        </p:blipFill>
        <p:spPr>
          <a:xfrm>
            <a:off x="1060560" y="3762360"/>
            <a:ext cx="3924360" cy="29592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D7B2-E559-45EE-90CD-9814CBB31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4"/>
          <p:cNvSpPr/>
          <p:nvPr/>
        </p:nvSpPr>
        <p:spPr>
          <a:xfrm>
            <a:off x="285840" y="285840"/>
            <a:ext cx="53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青少年为什么会沾染上毒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5" descr=""/>
          <p:cNvPicPr/>
          <p:nvPr/>
        </p:nvPicPr>
        <p:blipFill>
          <a:blip r:embed="rId1"/>
          <a:stretch/>
        </p:blipFill>
        <p:spPr>
          <a:xfrm>
            <a:off x="0" y="857160"/>
            <a:ext cx="9167760" cy="6213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E44D-D340-4CA3-85FE-8698B91A3C6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54160" y="1542960"/>
            <a:ext cx="82296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别人吸毒，真的不关我们的事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发现有人吸毒贩毒，我们应该怎么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在交友、选择活动场所时应注意什么？为什么青少年容易成为吸毒、贩毒者的目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有人向你提供毒品时，你该怎么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矩形 8" descr=""/>
          <p:cNvPicPr/>
          <p:nvPr/>
        </p:nvPicPr>
        <p:blipFill>
          <a:blip r:embed="rId1"/>
          <a:stretch/>
        </p:blipFill>
        <p:spPr>
          <a:xfrm>
            <a:off x="1914480" y="149400"/>
            <a:ext cx="4908600" cy="1199880"/>
          </a:xfrm>
          <a:prstGeom prst="rect">
            <a:avLst/>
          </a:prstGeom>
          <a:ln w="0">
            <a:noFill/>
          </a:ln>
        </p:spPr>
      </p:pic>
      <p:pic>
        <p:nvPicPr>
          <p:cNvPr id="163" name="矩形 9" descr=""/>
          <p:cNvPicPr/>
          <p:nvPr/>
        </p:nvPicPr>
        <p:blipFill>
          <a:blip r:embed="rId2"/>
          <a:stretch/>
        </p:blipFill>
        <p:spPr>
          <a:xfrm>
            <a:off x="6149880" y="-371520"/>
            <a:ext cx="3100320" cy="1762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内容占位符 6" descr="timg (5)"/>
          <p:cNvPicPr/>
          <p:nvPr/>
        </p:nvPicPr>
        <p:blipFill>
          <a:blip r:embed="rId1"/>
          <a:stretch/>
        </p:blipFill>
        <p:spPr>
          <a:xfrm>
            <a:off x="130320" y="93600"/>
            <a:ext cx="3317760" cy="3333960"/>
          </a:xfrm>
          <a:prstGeom prst="rect">
            <a:avLst/>
          </a:prstGeom>
          <a:ln w="0">
            <a:noFill/>
          </a:ln>
        </p:spPr>
      </p:pic>
      <p:sp>
        <p:nvSpPr>
          <p:cNvPr id="16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5520-6601-4B66-8ACC-E9ADA6226E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7" descr="timg (6)"/>
          <p:cNvPicPr/>
          <p:nvPr/>
        </p:nvPicPr>
        <p:blipFill>
          <a:blip r:embed="rId2"/>
          <a:stretch/>
        </p:blipFill>
        <p:spPr>
          <a:xfrm>
            <a:off x="5086440" y="-57240"/>
            <a:ext cx="3941640" cy="363564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8" descr="timg (3)"/>
          <p:cNvPicPr/>
          <p:nvPr/>
        </p:nvPicPr>
        <p:blipFill>
          <a:blip r:embed="rId3"/>
          <a:stretch/>
        </p:blipFill>
        <p:spPr>
          <a:xfrm>
            <a:off x="1954080" y="3862440"/>
            <a:ext cx="5234040" cy="3014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68AC-E32D-4F9D-A90C-7FB25B8472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51205"/>
          <p:cNvSpPr txBox="1"/>
          <p:nvPr/>
        </p:nvSpPr>
        <p:spPr>
          <a:xfrm>
            <a:off x="1812960" y="120600"/>
            <a:ext cx="489420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59"/>
              </a:avLst>
            </a:prstTxWarp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四、青少年该如何做？</a:t>
            </a:r>
            <a:endParaRPr b="1" lang="en-US" sz="32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70" name="文本框 7"/>
          <p:cNvSpPr/>
          <p:nvPr/>
        </p:nvSpPr>
        <p:spPr>
          <a:xfrm>
            <a:off x="104760" y="1530360"/>
            <a:ext cx="85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树立正确的人生观，不盲目追求享受，不以好奇心为由侥幸去尝试，不受不良诱惑的影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8"/>
          <p:cNvSpPr/>
          <p:nvPr/>
        </p:nvSpPr>
        <p:spPr>
          <a:xfrm>
            <a:off x="128520" y="2806560"/>
            <a:ext cx="82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不听信能治病，能解脱烦恼和痛苦，能给人带来快乐等各种花言巧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9"/>
          <p:cNvSpPr/>
          <p:nvPr/>
        </p:nvSpPr>
        <p:spPr>
          <a:xfrm>
            <a:off x="128520" y="3865680"/>
            <a:ext cx="79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不结交有吸毒、贩毒行为的人。如发现亲朋好友有吸、贩毒行为的人，一要劝阻，二要远离，三要报告公安机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1"/>
          <p:cNvSpPr/>
          <p:nvPr/>
        </p:nvSpPr>
        <p:spPr>
          <a:xfrm>
            <a:off x="187200" y="5248440"/>
            <a:ext cx="87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养成良好的行为，杜绝吸烟饮酒等不良嗜好，不涉足青少年不宜进入的场所，决不吸食毒品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67588" descr="dAme7UlbAAAA&amp;bo=4AGAAgAAAAABAEQ!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矩形 67589"/>
          <p:cNvSpPr txBox="1"/>
          <p:nvPr/>
        </p:nvSpPr>
        <p:spPr>
          <a:xfrm>
            <a:off x="1112760" y="141120"/>
            <a:ext cx="4264200" cy="12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75"/>
              </a:avLst>
            </a:prstTxWarp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五、历史上的禁毒</a:t>
            </a:r>
            <a:endParaRPr b="1" lang="en-US" sz="32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5F8B-F3DB-45FB-A1B9-01385B574F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占位符 46082"/>
          <p:cNvSpPr/>
          <p:nvPr/>
        </p:nvSpPr>
        <p:spPr>
          <a:xfrm>
            <a:off x="352440" y="171936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虎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销烟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3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）是指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中国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清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政府委任钦差大臣林则徐在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广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虎门集中销毁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鸦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历史事件。此事后来成为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第一次鸦片战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导火线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南京条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也是那次战争时清政府签订的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3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（即清宣宗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道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十九年岁次己亥四月廿二），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林则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令在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虎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海滩当众销毁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鸦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结束，共历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天，销毁鸦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,18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箱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袋，总重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376,25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斤。虎门销烟成为打击毒品的历史事件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47121" descr="dBLfvUj8JwAA&amp;bo=sQGKAgAAAAABAB8!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虎门销烟的英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02200" cy="48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林则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8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（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乾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五十年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18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（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道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三十年），汉族，福建侯官人（今福建省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福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字元抚，又字少穆、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石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是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清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期政治家、思想家和诗人，是中华民族抵御外辱过程中伟大的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民族英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其主要功绩是虎门销烟。官至一品，曾任江苏巡抚、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两广总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湖广总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陕甘总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云贵总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两次受命为钦差大臣；因其主张严禁鸦片、抵抗西方的侵略、坚持维护中国主权和民族利益深受全世界中国人的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敬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Host Control  47107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Host Control  47122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47124" descr="林则徐像"/>
          <p:cNvPicPr/>
          <p:nvPr/>
        </p:nvPicPr>
        <p:blipFill>
          <a:blip r:embed="rId13"/>
          <a:stretch/>
        </p:blipFill>
        <p:spPr>
          <a:xfrm>
            <a:off x="4643280" y="1413000"/>
            <a:ext cx="4032360" cy="5113080"/>
          </a:xfrm>
          <a:prstGeom prst="rect">
            <a:avLst/>
          </a:prstGeom>
          <a:ln w="0">
            <a:noFill/>
          </a:ln>
        </p:spPr>
      </p:pic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4258-70C9-4FD5-9303-76846D06EF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B6FD-0FDB-40DB-862F-E2C0DBC581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8"/>
          <p:cNvSpPr/>
          <p:nvPr/>
        </p:nvSpPr>
        <p:spPr>
          <a:xfrm>
            <a:off x="1060560" y="1225440"/>
            <a:ext cx="70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eb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d1ebf"/>
                </a:solidFill>
                <a:latin typeface="Arial"/>
              </a:rPr>
              <a:t>同学们，今天我们巩固了有关毒品的知识，同时了解了一系列针对毒品侵害的防范措施，也进一步明确了毒品对家庭、社会的危害。希望我们每个人都能做到：一旦发现有人吸毒，以现有毒品犯罪时，立即举报；为了自己的健康，为了家人的幸福，为了社会的安定，请你远离毒品，珍惜生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矩形 9" descr=""/>
          <p:cNvPicPr/>
          <p:nvPr/>
        </p:nvPicPr>
        <p:blipFill>
          <a:blip r:embed="rId1"/>
          <a:stretch/>
        </p:blipFill>
        <p:spPr>
          <a:xfrm>
            <a:off x="1682640" y="27000"/>
            <a:ext cx="3098880" cy="1198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294E-A1E4-4F4D-A9E5-E2899F8D032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3449520" y="2435400"/>
            <a:ext cx="514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60606"/>
                </a:solidFill>
                <a:latin typeface="Arial"/>
                <a:ea typeface="宋体"/>
              </a:rPr>
              <a:t>谢谢！！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23555" descr="禁毒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36E5-30FC-4683-834B-F800FF59C6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22531" descr="禁毒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D1F4-E5A0-4157-86C6-F1D1AA9E7A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3152-5129-4DB9-8281-7DB5D47775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018880" y="855720"/>
            <a:ext cx="51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你们知道“国际禁毒日”是每年的几月几日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527040" y="1886040"/>
            <a:ext cx="771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在维也纳召开了关于麻醉品滥用和非法贩运问题的部长级会议。会议提出了“关爱生命、远离毒品”的口号，与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国家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名代表一致同意将每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定为“国际禁毒日”。我国将每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定为青少年禁毒宣传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33795" descr="()26`{]WKJXJ3_2VD14G78V"/>
          <p:cNvPicPr/>
          <p:nvPr/>
        </p:nvPicPr>
        <p:blipFill>
          <a:blip r:embed="rId1"/>
          <a:stretch/>
        </p:blipFill>
        <p:spPr>
          <a:xfrm>
            <a:off x="-27000" y="903240"/>
            <a:ext cx="9028080" cy="5919840"/>
          </a:xfrm>
          <a:prstGeom prst="rect">
            <a:avLst/>
          </a:prstGeom>
          <a:ln w="0">
            <a:noFill/>
          </a:ln>
        </p:spPr>
      </p:pic>
      <p:sp>
        <p:nvSpPr>
          <p:cNvPr id="10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CF2D-09D8-4CB7-B819-86A225FE2D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文本框 4" descr=""/>
          <p:cNvPicPr/>
          <p:nvPr/>
        </p:nvPicPr>
        <p:blipFill>
          <a:blip r:embed="rId2"/>
          <a:stretch/>
        </p:blipFill>
        <p:spPr>
          <a:xfrm>
            <a:off x="1990800" y="135000"/>
            <a:ext cx="4581360" cy="768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34819" descr="A6Z7)~X`~7%_NG4TGA]4E@X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0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F6E5-B6F8-412A-9639-DF647FE4BA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文本占位符 3584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6711-E62C-4A52-A5C7-F267EB0065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文本占位符 3686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7CAD-7368-41D9-AF18-9AAB53AE3A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3:41:05Z</dcterms:created>
  <dc:creator>USER</dc:creator>
  <dc:description/>
  <dc:language>en-US</dc:language>
  <cp:lastModifiedBy>Administrator</cp:lastModifiedBy>
  <dcterms:modified xsi:type="dcterms:W3CDTF">2019-10-27T01:26:11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</Properties>
</file>