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glass.wav" ContentType="audio/x-wav"/>
  <Override PartName="/ppt/media/image6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projctor.wav" ContentType="audio/x-wav"/>
  <Override PartName="/ppt/media/image13.jpeg" ContentType="image/jpeg"/>
  <Override PartName="/ppt/media/image23.png" ContentType="image/png"/>
  <Override PartName="/ppt/media/ricochet.wav" ContentType="audio/x-wav"/>
  <Override PartName="/ppt/media/image16.jpeg" ContentType="image/jpeg"/>
  <Override PartName="/ppt/media/image14.jpeg" ContentType="image/jpeg"/>
  <Override PartName="/ppt/media/image17.jpeg" ContentType="image/jpeg"/>
  <Override PartName="/ppt/media/carbrake.wav" ContentType="audio/x-wav"/>
  <Override PartName="/ppt/media/gunshot.wav" ContentType="audio/x-wav"/>
  <Override PartName="/ppt/media/image15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83F-1D7B-4466-9FC7-91032FC8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6DD-C6E3-4036-BEE5-20C2EDFF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4E5D4-12AE-4DDA-B648-568EC624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0BBED-3F3B-4244-BAEE-2260D9D7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F9B0B-2813-4243-AE1A-EC24151D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B7630-17CB-4F29-BFBE-87D1B82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B5757-CAD5-4A1D-B020-6012A5F4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319A3-907F-427E-8996-EDB2B3F8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1AC04-D673-4124-84D2-A4908E6C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53756-AAD3-481E-92D0-5521B36A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E4E31-F334-4AB8-9D76-D87B336F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4DB39-52D5-46D0-957C-2698E7CF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24C-0C38-431B-B945-95400968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9139E-E685-4957-88F8-0AAE3A02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E7934-14BC-4F79-9913-0785FB0C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F0B82-4FBE-4100-BCB0-4EC9AA59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E4E14-EB5B-482F-9E94-FFC1882E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C8996-66CF-4FE6-BAEB-04F2CD9D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915EC-6A4C-4093-A386-BEAE7B37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FC4D0-C229-460B-B7B5-6089B31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75A67-71B5-41A0-8A66-671EC524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D89BB-BF0B-4F13-92DB-54D3D146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F3686-069C-4386-A779-75D4AADC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1B7-AD7B-40D2-8189-6A24836C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C3CCD-F957-4B4D-8581-B52CF3BE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07749-65EE-4C3D-AC55-D5F22411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4C56C-7261-4702-A032-EE56C98C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1B32E-B285-4582-B2CA-07A1C544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65B72-21E8-47B0-8F4E-277AC799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0CBB9-84FE-4212-B73C-05D660E9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8BC15-F9E1-42BC-A982-0018956D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4F5FE-80DA-413D-9E01-AD569DCA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875D2-2459-4FBC-B5BB-C2ECC150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58E5E-3879-4FD9-B8CB-8CFB3D1B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6FD5-1091-4704-8D11-6ECD9C83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504EC-290A-42AD-B7E8-2593EF9E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FC033-2CB8-4D03-BCF7-6467AB68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BF733-F523-4D92-AD45-BB5487F9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08CE4-47AD-46F4-A3F4-8C2B7153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667AB-7961-401A-B3E3-356B9893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B7E21-583F-4E63-A6B9-BB321DD7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EE910-3D00-4A6A-BC5C-C8DD1206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9F64D-7992-43D7-A6B4-A1690CE8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A3688-E08B-4D4F-AD55-2DB069A4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EE945-8C6A-4D6D-8334-7395A53E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73EC-3C86-4F1C-839D-47DD5F5F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BB269-BAA1-4BBE-8585-D0469757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D4C06-1A74-4657-B438-3B105483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710FF-C093-44B3-B2CE-58BA2101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5D1B2-4083-4FFC-B839-0A1936B2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2EA32-BF61-4087-AEFF-3335C7EA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7812-89F3-4C8E-A71C-EC790D3E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BA8A-B09F-46C2-8D2D-543097CA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F653-5C93-47B0-BA0D-350F67D6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BC05-C5D3-4C1E-8B4F-D722D839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6C59-52F1-4D3F-85AD-9BFC6F60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5C2-0F18-4F65-BDB7-31223A23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123C-6355-4156-AB64-55247311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4639-7E9E-4694-8152-38FF642F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E85C-5C1B-4E9C-BF37-7E12C2AE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4289-2FC9-45B8-97F0-464DACE3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85BC-CCB4-4933-AF52-4F07D0F0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1CBBE-A3B5-4EE1-8AF3-8B356B8A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1D15-1BAB-4A65-8C36-1D4414D6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A61C-C19B-4370-A2D4-76594510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3094-6872-4336-8FBE-F1EB6FE4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FF73-AF2D-4570-B812-BEE4D884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1FD-A204-4C8C-BC71-7EAC7F43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4312-3381-4A3C-82EB-031D11A4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31BC-5492-4EDF-BEC8-A5BB3BB4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18764-6690-4782-AF2C-AFB9160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B73C7-7EEE-4BA6-93FB-038B01C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49B8-42CA-4388-A810-01EE5CE0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F159-44BF-4063-AE8D-801A3477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D9F2-2516-4424-AE2B-81DAD909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2B37-2412-4923-A216-B9E67B93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4B4A-49EC-4CCC-8D23-61294FEF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BE00-D428-4760-B242-FE9CE8B8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F1C-7B7B-4C92-985F-03A66AF6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2383C-916E-47FA-BD48-FAF5013D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2F5F-3F59-4216-97AE-1EF95800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D799-EEA9-44E8-9453-4E167E6F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D177-31A1-4BEC-9FF0-3FE7E629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2ED87-AB2D-448B-AE85-E9AD3428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A5829-EDBD-4FF7-8BA3-D8003E7A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56DD-A6B6-441E-AE67-FAF76A1A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42B91-4D05-49BE-AC52-95918691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3849-5659-441F-BC15-4406DFA2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D7538-4C55-4C75-8AFB-22EF3304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197-A782-4B36-94FA-2C7F6922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16E5D-0C28-460B-AC44-4AF73D86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DEC88-0FA3-4687-8D46-93E2B58F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8BAD7-6B53-493B-BB5B-AC7B19B4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FB1C2-F7FE-4922-A023-98FE2134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B8F54-5B62-49BA-80E7-2A88F394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9EFC5-062E-470D-986D-2FB67BC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FAD64-8978-4BFD-8954-90F14699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20D36-E271-4A0B-B595-92B734E6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BD160-F570-4E09-9BE8-6D02D20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4F18F-ED5E-450B-8BF6-78B1A8D8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C39-D917-4633-9AEF-9F184BE2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C1DC-9ABE-49AB-96AA-D8DA598F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08B4B-4B2C-4B1E-9FBE-6A0D20A1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A5EB0-0F1C-47F4-BDEE-5EE96E17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CBF3F-1448-4777-8D67-3C0C2AC0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11AEE-30B6-4BA0-873E-867E4503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B1691-99AD-4586-B1F0-969DD8DA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63EBA-0D4D-425D-89CE-C2DA8DC7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BC063-605E-4542-91E1-1EC49424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9DEDD-9F24-4EF4-8D9D-0783187C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D84A5-F9AC-44B6-B40F-F2439D98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0E5-41FB-4B19-8724-7119851E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3671E-C031-4F93-827A-82BEF22C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16094-E309-40D1-B441-C149B945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A1D7F-6E15-4229-96B3-FED1E96F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6ACD8-67BE-4025-92A9-54B0347A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C555A-057B-4EF6-ACDE-299E384E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7E54A-FD49-490D-B3AD-AC5B32B5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8A469-AAC6-4AE6-8DD4-95277130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CE8CA-D909-4449-B026-BD87A283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2701-F34A-4C02-9F71-49468C50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E75FD-3226-4D4E-AECF-CFB5921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B53-E12D-4EAB-9FCA-C88E055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BBFC-2CAA-4916-B813-CC9932E6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7A683-B3E3-42A3-BD10-7240E84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F48FE-BC71-4E9A-AA52-DB667563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96258-FA79-4B41-829C-C0503151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84E04-0850-45F3-A663-9AD65DD5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4CDFB-DCF0-44A5-93EA-4090A87B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A7F91-9295-4FC3-87DD-EE512522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75DCA-F932-4884-A2A9-D5326D3E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FC7B7-BF59-41C9-9532-16A48476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0BF6F-FBFD-4B9D-9D71-CBAAD4B5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1A1-BDF9-4C5C-990A-A6A9C773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C3B97-806C-4024-8F00-239BA27E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D0D9D-5682-4D15-878C-C92B62A1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3E434-EF13-4018-AD0B-EDBD3F5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86F7F-42CC-46B5-872C-F481F320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62C8D-18AA-4881-9188-C9C00C3F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EACD9-B951-4602-A055-68B5A4CB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0EB37-CFA3-497C-9F56-186FF23F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C2C1C-78E1-4DAF-B775-4697ACA2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C2310-3F94-4708-AB6C-C4B257D2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40502-41D8-46F7-9777-92E26984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8FE8-8BF3-4314-86EF-6271DDAFE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99C7-93DC-4EB2-9016-1924D1CCDD6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B35B-3DAE-41FB-9E6F-58EAA7325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C99-1129-4E6C-BAB1-B54E201C4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等腰三角形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D665-2372-453F-82A1-B3E722E20F2C}" type="slidenum">
              <a:rPr b="0" sz="14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32E1-2E6F-44F2-B617-314AA0F0A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直角三角形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等腰三角形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直接连接符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直接连接符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9455-57DB-403A-A6B4-CF20657489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038D-D055-43BF-9D17-98DF0E084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FACB-BCD0-4F49-B977-A7CD6E465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8F1F-2351-4656-9065-387D2A996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B39A-3F8C-4E80-A63A-E5D686452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FD8C-6331-422A-AD35-EB0AB688329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rojctor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hyperlink" Target="http://www.511511.com/AZ/200406/AZ00000312820040618055443859.aspx" TargetMode="External"/><Relationship Id="rId4" Type="http://schemas.openxmlformats.org/officeDocument/2006/relationships/hyperlink" Target="http://www.511511.com/AZ/200406/AZ00000312820040618055443859.aspx" TargetMode="External"/><Relationship Id="rId5" Type="http://schemas.openxmlformats.org/officeDocument/2006/relationships/image" Target="../media/image25.jpeg"/><Relationship Id="rId6" Type="http://schemas.openxmlformats.org/officeDocument/2006/relationships/audio" Target="../media/projctor.wav"/><Relationship Id="rId7" Type="http://schemas.openxmlformats.org/officeDocument/2006/relationships/audio" Target="../media/gunshot.wav"/><Relationship Id="rId8" Type="http://schemas.openxmlformats.org/officeDocument/2006/relationships/audio" Target="../media/ricochet.wav"/><Relationship Id="rId9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文本框 1"/>
          <p:cNvSpPr/>
          <p:nvPr/>
        </p:nvSpPr>
        <p:spPr>
          <a:xfrm>
            <a:off x="838080" y="468648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矩形 2"/>
          <p:cNvSpPr txBox="1"/>
          <p:nvPr/>
        </p:nvSpPr>
        <p:spPr>
          <a:xfrm>
            <a:off x="1187280" y="1125360"/>
            <a:ext cx="6264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远离毒品、珍爱生命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5" name="文本框 3"/>
          <p:cNvSpPr/>
          <p:nvPr/>
        </p:nvSpPr>
        <p:spPr>
          <a:xfrm>
            <a:off x="4510800" y="3635280"/>
            <a:ext cx="353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——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禁 毒 教 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担山中学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孙剑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0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图片 1" descr="5-062057124"/>
          <p:cNvPicPr/>
          <p:nvPr/>
        </p:nvPicPr>
        <p:blipFill>
          <a:blip r:embed="rId1"/>
          <a:stretch/>
        </p:blipFill>
        <p:spPr>
          <a:xfrm>
            <a:off x="1835280" y="0"/>
            <a:ext cx="52974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文本框 2"/>
          <p:cNvSpPr/>
          <p:nvPr/>
        </p:nvSpPr>
        <p:spPr>
          <a:xfrm>
            <a:off x="7384320" y="-286920"/>
            <a:ext cx="789840" cy="71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吸毒引发大脑组织病变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图片 1" descr="5-062051605"/>
          <p:cNvPicPr/>
          <p:nvPr/>
        </p:nvPicPr>
        <p:blipFill>
          <a:blip r:embed="rId1"/>
          <a:stretch/>
        </p:blipFill>
        <p:spPr>
          <a:xfrm>
            <a:off x="2124000" y="0"/>
            <a:ext cx="4545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文本框 2"/>
          <p:cNvSpPr/>
          <p:nvPr/>
        </p:nvSpPr>
        <p:spPr>
          <a:xfrm>
            <a:off x="6497640" y="333360"/>
            <a:ext cx="1521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吸毒容易传染疾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图片 1" descr="5-062048388"/>
          <p:cNvPicPr/>
          <p:nvPr/>
        </p:nvPicPr>
        <p:blipFill>
          <a:blip r:embed="rId1"/>
          <a:stretch/>
        </p:blipFill>
        <p:spPr>
          <a:xfrm>
            <a:off x="971640" y="0"/>
            <a:ext cx="7056360" cy="4967280"/>
          </a:xfrm>
          <a:prstGeom prst="rect">
            <a:avLst/>
          </a:prstGeom>
          <a:ln w="0">
            <a:noFill/>
          </a:ln>
        </p:spPr>
      </p:pic>
      <p:sp>
        <p:nvSpPr>
          <p:cNvPr id="639" name="矩形 2"/>
          <p:cNvSpPr/>
          <p:nvPr/>
        </p:nvSpPr>
        <p:spPr>
          <a:xfrm>
            <a:off x="250920" y="524088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郭某某　男，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，先后将家中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余万元存款吸光，毒瘾发作后剖腹自杀未成，腹部被缝合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针。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文本框 3"/>
          <p:cNvSpPr/>
          <p:nvPr/>
        </p:nvSpPr>
        <p:spPr>
          <a:xfrm>
            <a:off x="8104320" y="196920"/>
            <a:ext cx="85068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吸毒引发自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内容占位符 1" descr="5-062037814"/>
          <p:cNvPicPr/>
          <p:nvPr/>
        </p:nvPicPr>
        <p:blipFill>
          <a:blip r:embed="rId1"/>
          <a:stretch/>
        </p:blipFill>
        <p:spPr>
          <a:xfrm>
            <a:off x="2050920" y="0"/>
            <a:ext cx="49896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文本框 2"/>
          <p:cNvSpPr/>
          <p:nvPr/>
        </p:nvSpPr>
        <p:spPr>
          <a:xfrm>
            <a:off x="7239240" y="-57600"/>
            <a:ext cx="85068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母亲吸毒生下残疾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1"/>
          <p:cNvSpPr/>
          <p:nvPr/>
        </p:nvSpPr>
        <p:spPr>
          <a:xfrm>
            <a:off x="250920" y="480960"/>
            <a:ext cx="86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bbfd"/>
                </a:solidFill>
                <a:latin typeface="宋体"/>
              </a:rPr>
              <a:t>毒品的共同特征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可抗力，强制性地使吸食者连续使用该药，并且不择手段地去获得它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续使用有不断加大剂量的趋势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该药产生精神依赖性及躯体依赖性，断药后产生戒断症状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脱瘾症状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个人、家庭和社会都会产生危害后果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1" descr="lhh_2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6783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2"/>
          <p:cNvSpPr/>
          <p:nvPr/>
        </p:nvSpPr>
        <p:spPr>
          <a:xfrm>
            <a:off x="990720" y="380880"/>
            <a:ext cx="635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文本框 3"/>
          <p:cNvSpPr/>
          <p:nvPr/>
        </p:nvSpPr>
        <p:spPr>
          <a:xfrm>
            <a:off x="611280" y="26028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4747"/>
                </a:solidFill>
                <a:latin typeface="宋体"/>
              </a:rPr>
              <a:t>哪些行为是吸毒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4747"/>
                </a:solidFill>
                <a:latin typeface="宋体"/>
              </a:rPr>
              <a:t>常见的吸毒行为有：烟吸、烫吸、鼻嗅、口服、注射五种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图片 1" descr="lhh_4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标题 1" descr=""/>
          <p:cNvPicPr/>
          <p:nvPr/>
        </p:nvPicPr>
        <p:blipFill>
          <a:blip r:embed="rId1"/>
          <a:stretch/>
        </p:blipFill>
        <p:spPr>
          <a:xfrm>
            <a:off x="-115920" y="225360"/>
            <a:ext cx="5956200" cy="13352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 txBox="1"/>
          <p:nvPr/>
        </p:nvSpPr>
        <p:spPr>
          <a:xfrm>
            <a:off x="684360" y="1492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entury Gothic"/>
                <a:ea typeface="楷体_GB2312"/>
              </a:rPr>
              <a:t>总的来说，吸毒会成瘾是毒品与人体相互作用的结果。一方面毒品有个共同的特性，就是进入人体后作用于人的脑内与学习记忆有关的神经系统，逐渐产生精神依赖（心瘾），进而形成追求使用该药物的行为；另一方面，毒品进入人体后，破坏人体正常的平衡，产生在毒品作用下新的平衡状态（身体依赖）。一旦停止吸毒，就会感到不适。只有连续不断地吸入更大剂量的毒品，才能保持人体新的平衡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13320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毁灭自己，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祸及家庭，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危害社会。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51" name="内容占位符 2" descr="5-062025448"/>
          <p:cNvPicPr/>
          <p:nvPr/>
        </p:nvPicPr>
        <p:blipFill>
          <a:blip r:embed="rId1"/>
          <a:stretch/>
        </p:blipFill>
        <p:spPr>
          <a:xfrm>
            <a:off x="5021280" y="0"/>
            <a:ext cx="4122720" cy="4968720"/>
          </a:xfrm>
          <a:prstGeom prst="rect">
            <a:avLst/>
          </a:prstGeom>
          <a:ln w="0">
            <a:noFill/>
          </a:ln>
        </p:spPr>
      </p:pic>
      <p:sp>
        <p:nvSpPr>
          <p:cNvPr id="652" name="矩形 3"/>
          <p:cNvSpPr/>
          <p:nvPr/>
        </p:nvSpPr>
        <p:spPr>
          <a:xfrm>
            <a:off x="4356000" y="552168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梁蓓丽，</a:t>
            </a:r>
            <a:r>
              <a:rPr b="1" lang="en-US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岁，贵州人，一个聪慧、漂亮的女孩，染上毒瘾后，靠卖淫维持吸毒。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矩形 4"/>
          <p:cNvSpPr txBox="1"/>
          <p:nvPr/>
        </p:nvSpPr>
        <p:spPr>
          <a:xfrm>
            <a:off x="468360" y="620640"/>
            <a:ext cx="216072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危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1" descr="lhh_5"/>
          <p:cNvPicPr/>
          <p:nvPr/>
        </p:nvPicPr>
        <p:blipFill>
          <a:blip r:embed="rId1"/>
          <a:stretch/>
        </p:blipFill>
        <p:spPr>
          <a:xfrm>
            <a:off x="2987640" y="189000"/>
            <a:ext cx="2998800" cy="6248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标题 1" descr=""/>
          <p:cNvPicPr/>
          <p:nvPr/>
        </p:nvPicPr>
        <p:blipFill>
          <a:blip r:embed="rId1"/>
          <a:stretch/>
        </p:blipFill>
        <p:spPr>
          <a:xfrm>
            <a:off x="1468440" y="371520"/>
            <a:ext cx="6108840" cy="12556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826560" y="1700280"/>
            <a:ext cx="741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9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宋体"/>
                <a:ea typeface="黑体"/>
              </a:rPr>
              <a:t>毒品是指出于非医疗目的而反复连续使用能够产生依赖性（即成瘾性）的药品。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Arial tv"/>
                <a:ea typeface="黑体"/>
              </a:rPr>
              <a:t>目前世界上作为毒品而滥用的主要物质有阿片类、古柯类、大麻类、兴奋剂、致幻剂、镇静催眠药和挥发性有机溶剂等。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组合 1"/>
          <p:cNvGrpSpPr/>
          <p:nvPr/>
        </p:nvGrpSpPr>
        <p:grpSpPr>
          <a:xfrm>
            <a:off x="122400" y="533520"/>
            <a:ext cx="8899200" cy="4712760"/>
            <a:chOff x="122400" y="533520"/>
            <a:chExt cx="8899200" cy="4712760"/>
          </a:xfrm>
        </p:grpSpPr>
        <p:sp>
          <p:nvSpPr>
            <p:cNvPr id="656" name="矩形 2"/>
            <p:cNvSpPr/>
            <p:nvPr/>
          </p:nvSpPr>
          <p:spPr>
            <a:xfrm>
              <a:off x="122400" y="533520"/>
              <a:ext cx="5268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7" name="组合 3"/>
            <p:cNvGrpSpPr/>
            <p:nvPr/>
          </p:nvGrpSpPr>
          <p:grpSpPr>
            <a:xfrm>
              <a:off x="122400" y="533520"/>
              <a:ext cx="8899200" cy="4712760"/>
              <a:chOff x="122400" y="533520"/>
              <a:chExt cx="8899200" cy="4712760"/>
            </a:xfrm>
          </p:grpSpPr>
          <p:sp>
            <p:nvSpPr>
              <p:cNvPr id="658" name="矩形 4"/>
              <p:cNvSpPr/>
              <p:nvPr/>
            </p:nvSpPr>
            <p:spPr>
              <a:xfrm>
                <a:off x="122400" y="533520"/>
                <a:ext cx="88992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　　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吸毒会导致生理功能发生紊乱，生理和心理会对毒品产生强烈的依赖，毒瘾发作时会出现一系列使人感到非常痛苦的反应，失去理智和自控力，甚至自伤、自残和自杀。 </a:t>
                </a:r>
                <a:br>
                  <a:rPr sz="2400"/>
                </a:b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矩形 5"/>
              <p:cNvSpPr/>
              <p:nvPr/>
            </p:nvSpPr>
            <p:spPr>
              <a:xfrm>
                <a:off x="122400" y="1616760"/>
                <a:ext cx="4355640" cy="362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0" lang="en-US" sz="18700" spc="-1" strike="noStrike">
                    <a:solidFill>
                      <a:srgbClr val="ff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ff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0" name="图片 6" descr="5-062056345"/>
          <p:cNvPicPr/>
          <p:nvPr/>
        </p:nvPicPr>
        <p:blipFill>
          <a:blip r:embed="rId1"/>
          <a:stretch/>
        </p:blipFill>
        <p:spPr>
          <a:xfrm>
            <a:off x="2133720" y="2227320"/>
            <a:ext cx="5333760" cy="3851280"/>
          </a:xfrm>
          <a:prstGeom prst="rect">
            <a:avLst/>
          </a:prstGeom>
          <a:ln w="0">
            <a:noFill/>
          </a:ln>
        </p:spPr>
      </p:pic>
      <p:sp>
        <p:nvSpPr>
          <p:cNvPr id="661" name="文本框 7"/>
          <p:cNvSpPr/>
          <p:nvPr/>
        </p:nvSpPr>
        <p:spPr>
          <a:xfrm>
            <a:off x="179280" y="61657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广西一吸毒女青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岁，在毒瘾发作时难受之极，跳楼自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文本框 1"/>
          <p:cNvSpPr/>
          <p:nvPr/>
        </p:nvSpPr>
        <p:spPr>
          <a:xfrm>
            <a:off x="1508040" y="14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文本框 2"/>
          <p:cNvSpPr/>
          <p:nvPr/>
        </p:nvSpPr>
        <p:spPr>
          <a:xfrm>
            <a:off x="1187280" y="333360"/>
            <a:ext cx="610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吸毒扭曲人格，自毁前程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吸毒者发作时，大都会不顾廉耻，丧失自尊，无法进行正常的生活、学习和工作，他们普遍丧失正常的人生观、价值观、人格扭曲，难以自拔。即使是很有才华的人，一旦吸毒，就等于掉进了死神和魔鬼的陷阱，都不可避免走向堕落的深渊，从而毁掉自己的生活和前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组合 1"/>
          <p:cNvGrpSpPr/>
          <p:nvPr/>
        </p:nvGrpSpPr>
        <p:grpSpPr>
          <a:xfrm>
            <a:off x="0" y="168120"/>
            <a:ext cx="9144000" cy="4624920"/>
            <a:chOff x="0" y="168120"/>
            <a:chExt cx="9144000" cy="4624920"/>
          </a:xfrm>
        </p:grpSpPr>
        <p:sp>
          <p:nvSpPr>
            <p:cNvPr id="665" name="矩形 2"/>
            <p:cNvSpPr/>
            <p:nvPr/>
          </p:nvSpPr>
          <p:spPr>
            <a:xfrm>
              <a:off x="0" y="168120"/>
              <a:ext cx="5268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6" name="组合 3"/>
            <p:cNvGrpSpPr/>
            <p:nvPr/>
          </p:nvGrpSpPr>
          <p:grpSpPr>
            <a:xfrm>
              <a:off x="0" y="168120"/>
              <a:ext cx="9144000" cy="4624920"/>
              <a:chOff x="0" y="168120"/>
              <a:chExt cx="9144000" cy="4624920"/>
            </a:xfrm>
          </p:grpSpPr>
          <p:sp>
            <p:nvSpPr>
              <p:cNvPr id="667" name="矩形 4"/>
              <p:cNvSpPr/>
              <p:nvPr/>
            </p:nvSpPr>
            <p:spPr>
              <a:xfrm>
                <a:off x="0" y="168120"/>
                <a:ext cx="9144000" cy="332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0000"/>
                    </a:solidFill>
                    <a:latin typeface="Times New Roman"/>
                  </a:rPr>
                  <a:t>　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吸毒严重摧残人的身体 </a:t>
                </a:r>
                <a:br>
                  <a:rPr sz="2800"/>
                </a:b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　　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       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吸毒破坏人体的正常生理机能和新陈代谢并导致多种疾病，如果吸毒者吸毒过量还会造成突然死亡。 </a:t>
                </a:r>
                <a:br>
                  <a:rPr sz="3200"/>
                </a:br>
                <a:br>
                  <a:rPr sz="3200"/>
                </a:b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　　滥用鸦片类毒品会对人体的神经系统、呼吸系统、消化系统、免疫系统等产生危害。例如，滥用海洛因会造成中枢神经麻痹，使脑、心脏、肝脐、肾脏发生病变，身体抵抗能力下降，感染各种疾病，甚至导致死亡。 </a:t>
                </a:r>
                <a:br>
                  <a:rPr sz="3200"/>
                </a:b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矩形 5"/>
              <p:cNvSpPr/>
              <p:nvPr/>
            </p:nvSpPr>
            <p:spPr>
              <a:xfrm>
                <a:off x="0" y="2215080"/>
                <a:ext cx="2984400" cy="257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136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</a:t>
                </a:r>
                <a:br>
                  <a:rPr sz="900"/>
                </a:b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标题 1" descr=""/>
          <p:cNvPicPr/>
          <p:nvPr/>
        </p:nvPicPr>
        <p:blipFill>
          <a:blip r:embed="rId1"/>
          <a:stretch/>
        </p:blipFill>
        <p:spPr>
          <a:xfrm>
            <a:off x="1109520" y="457200"/>
            <a:ext cx="7480440" cy="117000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2" descr=""/>
          <p:cNvPicPr/>
          <p:nvPr/>
        </p:nvPicPr>
        <p:blipFill>
          <a:blip r:embed="rId2"/>
          <a:stretch/>
        </p:blipFill>
        <p:spPr>
          <a:xfrm>
            <a:off x="0" y="1533600"/>
            <a:ext cx="4680000" cy="5324400"/>
          </a:xfrm>
          <a:prstGeom prst="rect">
            <a:avLst/>
          </a:prstGeom>
          <a:ln w="0">
            <a:noFill/>
          </a:ln>
        </p:spPr>
      </p:pic>
      <p:sp>
        <p:nvSpPr>
          <p:cNvPr id="671" name="矩形 3">
            <a:hlinkClick r:id="rId3"/>
          </p:cNvPr>
          <p:cNvSpPr/>
          <p:nvPr/>
        </p:nvSpPr>
        <p:spPr>
          <a:xfrm>
            <a:off x="376236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图片 4" descr="C:/Users/asus/Desktop/http:/www.511511.com/AZ/200406/AZ0000031282004061805523531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1523880"/>
            <a:ext cx="4343400" cy="53341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projctor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文本框 1"/>
          <p:cNvSpPr/>
          <p:nvPr/>
        </p:nvSpPr>
        <p:spPr>
          <a:xfrm>
            <a:off x="0" y="0"/>
            <a:ext cx="915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珍爱生命，远离毒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文本框 3"/>
          <p:cNvSpPr/>
          <p:nvPr/>
        </p:nvSpPr>
        <p:spPr>
          <a:xfrm>
            <a:off x="6716520" y="3571920"/>
            <a:ext cx="10335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最后祝大家身体健康，谢谢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标题 1" descr=""/>
          <p:cNvPicPr/>
          <p:nvPr/>
        </p:nvPicPr>
        <p:blipFill>
          <a:blip r:embed="rId1"/>
          <a:stretch/>
        </p:blipFill>
        <p:spPr>
          <a:xfrm>
            <a:off x="1689120" y="244440"/>
            <a:ext cx="5418000" cy="11635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 txBox="1"/>
          <p:nvPr/>
        </p:nvSpPr>
        <p:spPr>
          <a:xfrm>
            <a:off x="1042560" y="1557360"/>
            <a:ext cx="744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传统毒品：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鸦片 吗啡 海洛因 大麻 可卡因 杜冷丁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新型毒品：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冰毒  摇头丸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K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粉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80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标题 1" descr=""/>
          <p:cNvPicPr/>
          <p:nvPr/>
        </p:nvPicPr>
        <p:blipFill>
          <a:blip r:embed="rId1"/>
          <a:stretch/>
        </p:blipFill>
        <p:spPr>
          <a:xfrm>
            <a:off x="317520" y="469800"/>
            <a:ext cx="2901960" cy="595008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2" descr="200282240953"/>
          <p:cNvPicPr/>
          <p:nvPr/>
        </p:nvPicPr>
        <p:blipFill>
          <a:blip r:embed="rId2"/>
          <a:stretch/>
        </p:blipFill>
        <p:spPr>
          <a:xfrm>
            <a:off x="3059280" y="981000"/>
            <a:ext cx="6084720" cy="5400720"/>
          </a:xfrm>
          <a:prstGeom prst="rect">
            <a:avLst/>
          </a:prstGeom>
          <a:ln w="0">
            <a:noFill/>
          </a:ln>
        </p:spPr>
      </p:pic>
      <p:sp>
        <p:nvSpPr>
          <p:cNvPr id="612" name="矩形 3"/>
          <p:cNvSpPr/>
          <p:nvPr/>
        </p:nvSpPr>
        <p:spPr>
          <a:xfrm>
            <a:off x="3419640" y="0"/>
            <a:ext cx="331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鸦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178920" y="333000"/>
            <a:ext cx="3575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吗啡是鸦片中最主要的生物碱（含量约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-15%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法国化学家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·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泽尔蒂纳首次从鸦片中分离出来。他用分离得到的白色粉末在狗和自己身上进行实验，结果狗吃下去后很快昏昏睡去，用强刺激法也无法使其兴奋苏醒；他本人吞下这些粉末后也长眠不醒。据此他用希腊神话中的睡眠之神吗啡斯的名字将这些物质命名为“吗啡”。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14" name="图片 2" descr="200282242128"/>
          <p:cNvPicPr/>
          <p:nvPr/>
        </p:nvPicPr>
        <p:blipFill>
          <a:blip r:embed="rId1"/>
          <a:stretch/>
        </p:blipFill>
        <p:spPr>
          <a:xfrm>
            <a:off x="3851280" y="836640"/>
            <a:ext cx="5137200" cy="4905360"/>
          </a:xfrm>
          <a:prstGeom prst="rect">
            <a:avLst/>
          </a:prstGeom>
          <a:ln w="0">
            <a:noFill/>
          </a:ln>
        </p:spPr>
      </p:pic>
      <p:sp>
        <p:nvSpPr>
          <p:cNvPr id="615" name="矩形 3"/>
          <p:cNvSpPr/>
          <p:nvPr/>
        </p:nvSpPr>
        <p:spPr>
          <a:xfrm>
            <a:off x="3419640" y="0"/>
            <a:ext cx="331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吗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内容占位符 1" descr="200282241309"/>
          <p:cNvPicPr/>
          <p:nvPr/>
        </p:nvPicPr>
        <p:blipFill>
          <a:blip r:embed="rId1"/>
          <a:stretch/>
        </p:blipFill>
        <p:spPr>
          <a:xfrm>
            <a:off x="34920" y="1125360"/>
            <a:ext cx="6095880" cy="4449960"/>
          </a:xfrm>
          <a:prstGeom prst="rect">
            <a:avLst/>
          </a:prstGeom>
          <a:ln w="0">
            <a:noFill/>
          </a:ln>
        </p:spPr>
      </p:pic>
      <p:sp>
        <p:nvSpPr>
          <p:cNvPr id="617" name="矩形 2"/>
          <p:cNvSpPr/>
          <p:nvPr/>
        </p:nvSpPr>
        <p:spPr>
          <a:xfrm>
            <a:off x="6372360" y="2953080"/>
            <a:ext cx="25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冰毒即甲基苯丙胺，又称甲基安非他明、去氧麻黄素，为纯白色晶体，晶莹剔透，外观似冰，俗称“冰毒”，吸、贩毒者也称之为“冰”。该药小剂量时有短暂的兴奋抗疲劳作用，故其丸剂又有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"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力丸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"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称。 冰毒最早由日本人发明。二次大战时，日本侵略者给士兵服用冰毒以提高战斗力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矩形 3"/>
          <p:cNvSpPr/>
          <p:nvPr/>
        </p:nvSpPr>
        <p:spPr>
          <a:xfrm>
            <a:off x="3419640" y="0"/>
            <a:ext cx="331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冰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麻在我国俗称“火麻”，为一年生草本植物，雌雄异株，原产于亚洲中部，现遍及全球，有野生、有栽培。大麻的变种很多，是人类最早种植的植物之一。大麻的茎、竿可制成纤维，籽可榨油。作为毒品的大麻主要是指矮小、多分枝的印度大麻。大麻类毒品的主要活性成分是四氢大麻酚。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20" name="内容占位符 2" descr="200282234912"/>
          <p:cNvPicPr/>
          <p:nvPr/>
        </p:nvPicPr>
        <p:blipFill>
          <a:blip r:embed="rId1"/>
          <a:stretch/>
        </p:blipFill>
        <p:spPr>
          <a:xfrm>
            <a:off x="6588000" y="0"/>
            <a:ext cx="2063880" cy="3844800"/>
          </a:xfrm>
          <a:prstGeom prst="rect">
            <a:avLst/>
          </a:prstGeom>
          <a:ln w="0">
            <a:noFill/>
          </a:ln>
        </p:spPr>
      </p:pic>
      <p:pic>
        <p:nvPicPr>
          <p:cNvPr id="621" name="内容占位符 3" descr="200282235121"/>
          <p:cNvPicPr/>
          <p:nvPr/>
        </p:nvPicPr>
        <p:blipFill>
          <a:blip r:embed="rId2"/>
          <a:stretch/>
        </p:blipFill>
        <p:spPr>
          <a:xfrm>
            <a:off x="3780000" y="4221000"/>
            <a:ext cx="3240000" cy="2441880"/>
          </a:xfrm>
          <a:prstGeom prst="rect">
            <a:avLst/>
          </a:prstGeom>
          <a:ln w="0">
            <a:noFill/>
          </a:ln>
        </p:spPr>
      </p:pic>
      <p:sp>
        <p:nvSpPr>
          <p:cNvPr id="622" name="文本框 4"/>
          <p:cNvSpPr/>
          <p:nvPr/>
        </p:nvSpPr>
        <p:spPr>
          <a:xfrm>
            <a:off x="5272920" y="1006560"/>
            <a:ext cx="91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大麻植物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矩形 5"/>
          <p:cNvSpPr/>
          <p:nvPr/>
        </p:nvSpPr>
        <p:spPr>
          <a:xfrm>
            <a:off x="7308720" y="5877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大麻成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矩形 6"/>
          <p:cNvSpPr/>
          <p:nvPr/>
        </p:nvSpPr>
        <p:spPr>
          <a:xfrm>
            <a:off x="324000" y="4581360"/>
            <a:ext cx="331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大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图片 1" descr="200282762529"/>
          <p:cNvPicPr/>
          <p:nvPr/>
        </p:nvPicPr>
        <p:blipFill>
          <a:blip r:embed="rId1"/>
          <a:stretch/>
        </p:blipFill>
        <p:spPr>
          <a:xfrm>
            <a:off x="539640" y="0"/>
            <a:ext cx="3384720" cy="2925720"/>
          </a:xfrm>
          <a:prstGeom prst="rect">
            <a:avLst/>
          </a:prstGeom>
          <a:ln w="0">
            <a:noFill/>
          </a:ln>
        </p:spPr>
      </p:pic>
      <p:pic>
        <p:nvPicPr>
          <p:cNvPr id="626" name="内容占位符 2" descr="200282235741"/>
          <p:cNvPicPr/>
          <p:nvPr/>
        </p:nvPicPr>
        <p:blipFill>
          <a:blip r:embed="rId2"/>
          <a:stretch/>
        </p:blipFill>
        <p:spPr>
          <a:xfrm>
            <a:off x="457200" y="2670120"/>
            <a:ext cx="4038480" cy="2630520"/>
          </a:xfrm>
          <a:prstGeom prst="rect">
            <a:avLst/>
          </a:prstGeom>
          <a:ln w="0">
            <a:noFill/>
          </a:ln>
        </p:spPr>
      </p:pic>
      <p:pic>
        <p:nvPicPr>
          <p:cNvPr id="627" name="内容占位符 5" descr="200282240643"/>
          <p:cNvPicPr/>
          <p:nvPr/>
        </p:nvPicPr>
        <p:blipFill>
          <a:blip r:embed="rId3"/>
          <a:stretch/>
        </p:blipFill>
        <p:spPr>
          <a:xfrm>
            <a:off x="5003640" y="0"/>
            <a:ext cx="3581640" cy="2900520"/>
          </a:xfrm>
          <a:prstGeom prst="rect">
            <a:avLst/>
          </a:prstGeom>
          <a:ln w="0">
            <a:noFill/>
          </a:ln>
        </p:spPr>
      </p:pic>
      <p:sp>
        <p:nvSpPr>
          <p:cNvPr id="628" name="文本框 3"/>
          <p:cNvSpPr/>
          <p:nvPr/>
        </p:nvSpPr>
        <p:spPr>
          <a:xfrm>
            <a:off x="1123200" y="4869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摇头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文本框 4"/>
          <p:cNvSpPr/>
          <p:nvPr/>
        </p:nvSpPr>
        <p:spPr>
          <a:xfrm>
            <a:off x="1338840" y="2695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海洛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文本框 6"/>
          <p:cNvSpPr/>
          <p:nvPr/>
        </p:nvSpPr>
        <p:spPr>
          <a:xfrm>
            <a:off x="6472800" y="26971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可卡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图片 1" descr="5-062036291"/>
          <p:cNvPicPr/>
          <p:nvPr/>
        </p:nvPicPr>
        <p:blipFill>
          <a:blip r:embed="rId1"/>
          <a:stretch/>
        </p:blipFill>
        <p:spPr>
          <a:xfrm>
            <a:off x="1116000" y="0"/>
            <a:ext cx="6792840" cy="4470480"/>
          </a:xfrm>
          <a:prstGeom prst="rect">
            <a:avLst/>
          </a:prstGeom>
          <a:ln w="0">
            <a:noFill/>
          </a:ln>
        </p:spPr>
      </p:pic>
      <p:sp>
        <p:nvSpPr>
          <p:cNvPr id="632" name="文本框 2"/>
          <p:cNvSpPr/>
          <p:nvPr/>
        </p:nvSpPr>
        <p:spPr>
          <a:xfrm>
            <a:off x="971640" y="443700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电影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《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长大成人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女主角朱洁未等到影片在全国公演，就因吸毒过量死亡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文本框 3"/>
          <p:cNvSpPr/>
          <p:nvPr/>
        </p:nvSpPr>
        <p:spPr>
          <a:xfrm>
            <a:off x="8062200" y="474840"/>
            <a:ext cx="78984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吸毒自毁前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02:35:00Z</dcterms:created>
  <dc:creator>王静雯</dc:creator>
  <dc:description/>
  <dc:language>en-US</dc:language>
  <cp:lastModifiedBy>User</cp:lastModifiedBy>
  <dcterms:modified xsi:type="dcterms:W3CDTF">2019-11-18T07:53:45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