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type.wav" ContentType="audio/x-wav"/>
  <Override PartName="/ppt/media/image17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25.jpeg" ContentType="image/jpeg"/>
  <Override PartName="/ppt/media/image32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D5CF-5896-4895-A74E-27B926727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08FB-CB58-4124-AA82-736CFF94F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E2EC-AD3F-4151-BE47-49A9B6138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96B2-4016-4045-89E3-D601EB7C3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C120-4282-4443-8CF7-D0A0D93108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697A-9379-47A4-BF59-252A5C383B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36C63-6902-4B8D-9CBB-B788A2FE97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F48D-79DE-4149-ABF6-CF2D1D81ED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DBF9-5E8F-4288-BED4-C8C7F66CD2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3106-F280-42BB-9812-4D7AE94B9B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DCAA-360C-4BC3-BCED-546952219A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95F5-89AB-4718-90A3-EE93F55B4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2C0A-21BD-4AC0-9FAC-697E23DCD0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3502-D712-47B2-9348-A9B1E3DC49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EB31A-DC77-4496-8014-4E1B23D20F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135A-406B-46DA-86FB-0E9C62DAA8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D1BA-A32E-4AB7-88F4-CF1BB648F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74B1-0849-42A9-8B11-CD752B162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AFCB-CF53-43DE-A80B-8FD854F4F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0F84-126C-44B3-9A02-8EF1281E6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1EB6-3862-44F7-AADE-510211713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E35C-9E59-43A6-B8D1-44036392E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0E7D-8BE5-447B-A9D7-757BCA694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3887-08C9-4326-A360-3B52FAD59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4"/>
          <p:cNvSpPr/>
          <p:nvPr/>
        </p:nvSpPr>
        <p:spPr>
          <a:xfrm>
            <a:off x="0" y="843120"/>
            <a:ext cx="2895480" cy="601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12280" y="6330600"/>
            <a:ext cx="301680" cy="290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 anchorCtr="1">
            <a:noAutofit/>
          </a:bodyPr>
          <a:lstStyle>
            <a:lvl1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54C7-EC9D-4403-944B-1AA75DE8C651}" type="slidenum">
              <a:rPr b="0" lang="zh-CN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任意多边形 1024"/>
          <p:cNvSpPr/>
          <p:nvPr/>
        </p:nvSpPr>
        <p:spPr>
          <a:xfrm>
            <a:off x="0" y="843120"/>
            <a:ext cx="2895480" cy="601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8612280" y="6330600"/>
            <a:ext cx="301680" cy="290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 anchorCtr="1">
            <a:noAutofit/>
          </a:bodyPr>
          <a:lstStyle>
            <a:lvl1pPr algn="r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9999"/>
                </a:solidFill>
                <a:latin typeface="Arial"/>
                <a:ea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98A2-95D9-41DD-A901-398E7F8BD316}" type="slidenum">
              <a:rPr b="0" lang="zh-CN" sz="1400" spc="-1" strike="noStrike">
                <a:solidFill>
                  <a:srgbClr val="009999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hyperlink" Target="&#31105;&#27602;&#25945;&#32946;&#36164;&#26009;/&#22825;&#25991;&#20844;&#24320;&#35838;&#25351;&#25968;&#20989;&#25968;&#26368;&#32456;/&#25351;&#25968;&#20989;&#25968;&#30340;&#22270;&#35937;2.gsp" TargetMode="External"/><Relationship Id="rId17" Type="http://schemas.openxmlformats.org/officeDocument/2006/relationships/image" Target="../media/image1.gif"/><Relationship Id="rId18" Type="http://schemas.openxmlformats.org/officeDocument/2006/relationships/hyperlink" Target="&#31105;&#27602;&#25945;&#32946;&#36164;&#26009;/&#22825;&#25991;&#20844;&#24320;&#35838;&#25351;&#25968;&#20989;&#25968;&#26368;&#32456;/&#25351;&#25968;&#20989;&#25968;&#30340;&#22270;&#35937;2.gsp" TargetMode="External"/><Relationship Id="rId19" Type="http://schemas.openxmlformats.org/officeDocument/2006/relationships/image" Target="../media/image1.gif"/><Relationship Id="rId20" Type="http://schemas.openxmlformats.org/officeDocument/2006/relationships/hyperlink" Target="&#31105;&#27602;&#25945;&#32946;&#36164;&#26009;/&#22825;&#25991;&#20844;&#24320;&#35838;&#25351;&#25968;&#20989;&#25968;&#26368;&#32456;/&#25351;&#25968;&#20989;&#25968;&#30340;&#22270;&#35937;2.gsp" TargetMode="External"/><Relationship Id="rId21" Type="http://schemas.openxmlformats.org/officeDocument/2006/relationships/image" Target="../media/image1.gif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900000" y="2852640"/>
            <a:ext cx="754380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ffffcc">
                      <a:alpha val="50000"/>
                    </a:srgbClr>
                  </a:outerShdw>
                </a:effectLst>
                <a:latin typeface="黑体"/>
              </a:rPr>
              <a:t>珍爱生命，拒绝毒品</a:t>
            </a:r>
            <a:endParaRPr b="1" lang="en-US" sz="6600" spc="1" strike="noStrike">
              <a:ln w="936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07932" dir="13500000" blurRad="0" rotWithShape="0">
                  <a:srgbClr val="ffffcc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1" name="Picture 4" descr="rose3[1]"/>
          <p:cNvPicPr/>
          <p:nvPr/>
        </p:nvPicPr>
        <p:blipFill>
          <a:blip r:embed="rId1"/>
          <a:stretch/>
        </p:blipFill>
        <p:spPr>
          <a:xfrm>
            <a:off x="1187280" y="5638680"/>
            <a:ext cx="86364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G00142_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9280" y="5373720"/>
            <a:ext cx="714600" cy="893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G00142_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39640" y="5229360"/>
            <a:ext cx="771480" cy="965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G00142_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1116000" y="5373720"/>
            <a:ext cx="655560" cy="820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rose3[1]"/>
          <p:cNvPicPr/>
          <p:nvPr/>
        </p:nvPicPr>
        <p:blipFill>
          <a:blip r:embed="rId5"/>
          <a:stretch/>
        </p:blipFill>
        <p:spPr>
          <a:xfrm>
            <a:off x="468360" y="5734080"/>
            <a:ext cx="1054080" cy="112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rose3[1]"/>
          <p:cNvPicPr/>
          <p:nvPr/>
        </p:nvPicPr>
        <p:blipFill>
          <a:blip r:embed="rId6"/>
          <a:stretch/>
        </p:blipFill>
        <p:spPr>
          <a:xfrm>
            <a:off x="0" y="563868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332000" y="90972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Times New Roman"/>
                <a:ea typeface="黑体"/>
              </a:rPr>
              <a:t>禁毒知识教育</a:t>
            </a:r>
            <a:endParaRPr b="1" lang="en-US" sz="5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7164360" y="5300640"/>
            <a:ext cx="2123640" cy="1557000"/>
            <a:chOff x="7164360" y="5300640"/>
            <a:chExt cx="2123640" cy="1557000"/>
          </a:xfrm>
        </p:grpSpPr>
        <p:pic>
          <p:nvPicPr>
            <p:cNvPr id="89" name="Picture 12" descr="AG00142_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7164360" y="549108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3" descr="AG00142_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7654320" y="530064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4" descr="AG00142_"/>
            <p:cNvPicPr/>
            <p:nvPr/>
          </p:nvPicPr>
          <p:blipFill>
            <a:blip r:embed="rId9">
              <a:lum contrast="6000"/>
            </a:blip>
            <a:stretch/>
          </p:blipFill>
          <p:spPr>
            <a:xfrm>
              <a:off x="8144640" y="536400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5" descr="rose3[1]"/>
            <p:cNvPicPr/>
            <p:nvPr/>
          </p:nvPicPr>
          <p:blipFill>
            <a:blip r:embed="rId10"/>
            <a:stretch/>
          </p:blipFill>
          <p:spPr>
            <a:xfrm>
              <a:off x="732744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6" descr="rose3[1]"/>
            <p:cNvPicPr/>
            <p:nvPr/>
          </p:nvPicPr>
          <p:blipFill>
            <a:blip r:embed="rId11"/>
            <a:stretch/>
          </p:blipFill>
          <p:spPr>
            <a:xfrm>
              <a:off x="765432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7" descr="rose3[1]"/>
            <p:cNvPicPr/>
            <p:nvPr/>
          </p:nvPicPr>
          <p:blipFill>
            <a:blip r:embed="rId12"/>
            <a:stretch/>
          </p:blipFill>
          <p:spPr>
            <a:xfrm>
              <a:off x="8062560" y="5808960"/>
              <a:ext cx="1225440" cy="10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Group 19"/>
          <p:cNvGrpSpPr/>
          <p:nvPr/>
        </p:nvGrpSpPr>
        <p:grpSpPr>
          <a:xfrm>
            <a:off x="4140360" y="6021360"/>
            <a:ext cx="1152360" cy="836640"/>
            <a:chOff x="4140360" y="6021360"/>
            <a:chExt cx="1152360" cy="836640"/>
          </a:xfrm>
        </p:grpSpPr>
        <p:pic>
          <p:nvPicPr>
            <p:cNvPr id="96" name="Picture 20" descr="AG00142_"/>
            <p:cNvPicPr/>
            <p:nvPr/>
          </p:nvPicPr>
          <p:blipFill>
            <a:blip r:embed="rId13">
              <a:lum contrast="6000"/>
            </a:blip>
            <a:stretch/>
          </p:blipFill>
          <p:spPr>
            <a:xfrm>
              <a:off x="4140360" y="61236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21" descr="AG00142_"/>
            <p:cNvPicPr/>
            <p:nvPr/>
          </p:nvPicPr>
          <p:blipFill>
            <a:blip r:embed="rId14">
              <a:lum contrast="6000"/>
            </a:blip>
            <a:stretch/>
          </p:blipFill>
          <p:spPr>
            <a:xfrm>
              <a:off x="4406040" y="602136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2" descr="AG00142_"/>
            <p:cNvPicPr/>
            <p:nvPr/>
          </p:nvPicPr>
          <p:blipFill>
            <a:blip r:embed="rId15">
              <a:lum contrast="6000"/>
            </a:blip>
            <a:stretch/>
          </p:blipFill>
          <p:spPr>
            <a:xfrm>
              <a:off x="4672080" y="60552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3" descr="rose3[1]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422892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4" descr="rose3[1]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440604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5" descr="rose3[1]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4627800" y="6294240"/>
              <a:ext cx="664920" cy="54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 Box 26"/>
          <p:cNvSpPr/>
          <p:nvPr/>
        </p:nvSpPr>
        <p:spPr>
          <a:xfrm>
            <a:off x="3083040" y="4292640"/>
            <a:ext cx="40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腾龙小学  四年级（三）班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19640" y="620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 Narrow"/>
              </a:rPr>
              <a:t>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 Narrow"/>
              </a:rPr>
              <a:t>罂粟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1" name="Picture 3" descr="ys"/>
          <p:cNvPicPr/>
          <p:nvPr/>
        </p:nvPicPr>
        <p:blipFill>
          <a:blip r:embed="rId1"/>
          <a:stretch/>
        </p:blipFill>
        <p:spPr>
          <a:xfrm>
            <a:off x="0" y="836640"/>
            <a:ext cx="4716360" cy="5653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4932360" y="28620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这些美丽的花朵就是邪恶毒品的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根源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汁液经自然风化变成深褐色，这就是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生鸦片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把生鸦片加工后可得到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吗啡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，在经过复杂的转化过程，就变成了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洛因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 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-18108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为桑科的一年生草本植物，雌雄分株。主要毒性成分为四氢大麻酚，具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致幻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作用。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4" name="Picture 5" descr="307-1"/>
          <p:cNvPicPr/>
          <p:nvPr/>
        </p:nvPicPr>
        <p:blipFill>
          <a:blip r:embed="rId1"/>
          <a:stretch/>
        </p:blipFill>
        <p:spPr>
          <a:xfrm>
            <a:off x="1187280" y="3068640"/>
            <a:ext cx="2332080" cy="302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307-2"/>
          <p:cNvPicPr/>
          <p:nvPr/>
        </p:nvPicPr>
        <p:blipFill>
          <a:blip r:embed="rId2"/>
          <a:stretch/>
        </p:blipFill>
        <p:spPr>
          <a:xfrm>
            <a:off x="4067280" y="3500280"/>
            <a:ext cx="2665440" cy="1724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92160" y="187200"/>
            <a:ext cx="2879640" cy="2938680"/>
            <a:chOff x="92160" y="187200"/>
            <a:chExt cx="2879640" cy="2938680"/>
          </a:xfrm>
        </p:grpSpPr>
        <p:pic>
          <p:nvPicPr>
            <p:cNvPr id="137" name="Picture 3" descr="32bb9c8b6f6c7b93fd1f1090[1]"/>
            <p:cNvPicPr/>
            <p:nvPr/>
          </p:nvPicPr>
          <p:blipFill>
            <a:blip r:embed="rId1"/>
            <a:srcRect l="0" t="0" r="0" b="13381"/>
            <a:stretch/>
          </p:blipFill>
          <p:spPr>
            <a:xfrm>
              <a:off x="92160" y="187200"/>
              <a:ext cx="28796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4"/>
            <p:cNvSpPr/>
            <p:nvPr/>
          </p:nvSpPr>
          <p:spPr>
            <a:xfrm>
              <a:off x="457200" y="2422440"/>
              <a:ext cx="175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海洛因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2556000" y="3716280"/>
            <a:ext cx="2879640" cy="2862360"/>
            <a:chOff x="2556000" y="3716280"/>
            <a:chExt cx="2879640" cy="2862360"/>
          </a:xfrm>
        </p:grpSpPr>
        <p:pic>
          <p:nvPicPr>
            <p:cNvPr id="140" name="Picture 12" descr="W020050707618514589323[1]"/>
            <p:cNvPicPr/>
            <p:nvPr/>
          </p:nvPicPr>
          <p:blipFill>
            <a:blip r:embed="rId2"/>
            <a:stretch/>
          </p:blipFill>
          <p:spPr>
            <a:xfrm>
              <a:off x="2556000" y="3716280"/>
              <a:ext cx="28796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/>
            <p:cNvSpPr/>
            <p:nvPr/>
          </p:nvSpPr>
          <p:spPr>
            <a:xfrm>
              <a:off x="3013200" y="587520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摇头丸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pic>
        <p:nvPicPr>
          <p:cNvPr id="142" name="Picture 17" descr="1295066367846840896"/>
          <p:cNvPicPr/>
          <p:nvPr/>
        </p:nvPicPr>
        <p:blipFill>
          <a:blip r:embed="rId3"/>
          <a:srcRect l="0" t="6228" r="0" b="7995"/>
          <a:stretch/>
        </p:blipFill>
        <p:spPr>
          <a:xfrm>
            <a:off x="4716360" y="260280"/>
            <a:ext cx="2895840" cy="2133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8"/>
          <p:cNvSpPr/>
          <p:nvPr/>
        </p:nvSpPr>
        <p:spPr>
          <a:xfrm>
            <a:off x="5508720" y="2565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冰毒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0000" y="5157720"/>
            <a:ext cx="360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Narrow"/>
              </a:rPr>
              <a:t>氯胺酮（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K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</a:rPr>
              <a:t>粉）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826920" y="1125360"/>
            <a:ext cx="762012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6" name="Picture 4" descr="7399-1"/>
          <p:cNvPicPr/>
          <p:nvPr/>
        </p:nvPicPr>
        <p:blipFill>
          <a:blip r:embed="rId1"/>
          <a:stretch/>
        </p:blipFill>
        <p:spPr>
          <a:xfrm>
            <a:off x="2843280" y="1413000"/>
            <a:ext cx="33130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E:\1\2006_04_13韩宏伟、王建萍毒品\IMG_0097.JPG"/>
          <p:cNvPicPr/>
          <p:nvPr/>
        </p:nvPicPr>
        <p:blipFill>
          <a:blip r:embed="rId1"/>
          <a:stretch/>
        </p:blipFill>
        <p:spPr>
          <a:xfrm>
            <a:off x="1763640" y="620640"/>
            <a:ext cx="6037200" cy="4525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4010400" y="558972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麻 古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7408" descr="lhh_2"/>
          <p:cNvPicPr/>
          <p:nvPr/>
        </p:nvPicPr>
        <p:blipFill>
          <a:blip r:embed="rId1"/>
          <a:stretch/>
        </p:blipFill>
        <p:spPr>
          <a:xfrm>
            <a:off x="838080" y="74520"/>
            <a:ext cx="8305920" cy="6783480"/>
          </a:xfrm>
          <a:prstGeom prst="rect">
            <a:avLst/>
          </a:prstGeom>
          <a:ln w="0">
            <a:noFill/>
          </a:ln>
        </p:spPr>
      </p:pic>
      <p:sp>
        <p:nvSpPr>
          <p:cNvPr id="150" name="矩形 17409"/>
          <p:cNvSpPr/>
          <p:nvPr/>
        </p:nvSpPr>
        <p:spPr>
          <a:xfrm>
            <a:off x="250920" y="187200"/>
            <a:ext cx="8713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哪些行为是吸毒？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常见的吸毒行为有：烟吸、烫吸、鼻嗅、口服、注射五种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18433"/>
          <p:cNvSpPr/>
          <p:nvPr/>
        </p:nvSpPr>
        <p:spPr>
          <a:xfrm>
            <a:off x="2124000" y="2349360"/>
            <a:ext cx="545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毒品的危害</a:t>
            </a:r>
            <a:endParaRPr b="1" lang="en-US" sz="8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2" name="图片 18434" descr="图片5"/>
          <p:cNvPicPr/>
          <p:nvPr/>
        </p:nvPicPr>
        <p:blipFill>
          <a:blip r:embed="rId1"/>
          <a:stretch/>
        </p:blipFill>
        <p:spPr>
          <a:xfrm>
            <a:off x="7453440" y="26028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9457" descr="图片5"/>
          <p:cNvPicPr/>
          <p:nvPr/>
        </p:nvPicPr>
        <p:blipFill>
          <a:blip r:embed="rId1"/>
          <a:stretch/>
        </p:blipFill>
        <p:spPr>
          <a:xfrm>
            <a:off x="7453440" y="260280"/>
            <a:ext cx="1371600" cy="13064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9458" descr="吸毒者变化2"/>
          <p:cNvPicPr/>
          <p:nvPr/>
        </p:nvPicPr>
        <p:blipFill>
          <a:blip r:embed="rId2"/>
          <a:srcRect l="0" t="0" r="0" b="7819"/>
          <a:stretch/>
        </p:blipFill>
        <p:spPr>
          <a:xfrm>
            <a:off x="1260360" y="1630440"/>
            <a:ext cx="7170840" cy="395928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9459"/>
          <p:cNvSpPr/>
          <p:nvPr/>
        </p:nvSpPr>
        <p:spPr>
          <a:xfrm>
            <a:off x="1044720" y="693720"/>
            <a:ext cx="63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当一个健康的人吸毒后……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99"/>
                </a:solidFill>
                <a:latin typeface="Arial Narrow"/>
              </a:rPr>
              <a:t>吸毒</a:t>
            </a: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6</a:t>
            </a:r>
            <a:r>
              <a:rPr b="0" lang="zh-CN" sz="4800" spc="-1" strike="noStrike">
                <a:solidFill>
                  <a:srgbClr val="336699"/>
                </a:solidFill>
                <a:latin typeface="Arial Narrow"/>
              </a:rPr>
              <a:t>个月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8" name="图片 71683" descr="0"/>
          <p:cNvPicPr/>
          <p:nvPr/>
        </p:nvPicPr>
        <p:blipFill>
          <a:blip r:embed="rId1"/>
          <a:stretch/>
        </p:blipFill>
        <p:spPr>
          <a:xfrm>
            <a:off x="1835280" y="1268280"/>
            <a:ext cx="5759280" cy="53215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1684" descr="图片5"/>
          <p:cNvPicPr/>
          <p:nvPr/>
        </p:nvPicPr>
        <p:blipFill>
          <a:blip r:embed="rId2"/>
          <a:stretch/>
        </p:blipFill>
        <p:spPr>
          <a:xfrm>
            <a:off x="7453440" y="26028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99"/>
                </a:solidFill>
                <a:latin typeface="Arial Narrow"/>
              </a:rPr>
              <a:t>吸毒十年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2" name="图片 73731" descr="10"/>
          <p:cNvPicPr/>
          <p:nvPr/>
        </p:nvPicPr>
        <p:blipFill>
          <a:blip r:embed="rId1"/>
          <a:stretch/>
        </p:blipFill>
        <p:spPr>
          <a:xfrm>
            <a:off x="1835280" y="1413000"/>
            <a:ext cx="5991120" cy="51670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3732" descr="图片5"/>
          <p:cNvPicPr/>
          <p:nvPr/>
        </p:nvPicPr>
        <p:blipFill>
          <a:blip r:embed="rId2"/>
          <a:stretch/>
        </p:blipFill>
        <p:spPr>
          <a:xfrm>
            <a:off x="7453440" y="26028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66561" descr="毒瘾发作用烟头烫伤手"/>
          <p:cNvPicPr/>
          <p:nvPr/>
        </p:nvPicPr>
        <p:blipFill>
          <a:blip r:embed="rId1"/>
          <a:stretch/>
        </p:blipFill>
        <p:spPr>
          <a:xfrm>
            <a:off x="549360" y="762120"/>
            <a:ext cx="4022640" cy="51051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66562" descr="吸毒神情恍惚烧伤手"/>
          <p:cNvPicPr/>
          <p:nvPr/>
        </p:nvPicPr>
        <p:blipFill>
          <a:blip r:embed="rId2"/>
          <a:stretch/>
        </p:blipFill>
        <p:spPr>
          <a:xfrm>
            <a:off x="4587840" y="762120"/>
            <a:ext cx="4556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138800" cy="1013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99"/>
                </a:solidFill>
                <a:latin typeface="Arial Narrow"/>
              </a:rPr>
              <a:t>成龙之子</a:t>
            </a:r>
            <a:r>
              <a:rPr b="0" lang="en-US" sz="4800" spc="-1" strike="noStrike">
                <a:solidFill>
                  <a:srgbClr val="336699"/>
                </a:solidFill>
                <a:latin typeface="Times New Roman"/>
              </a:rPr>
              <a:t>—</a:t>
            </a:r>
            <a:r>
              <a:rPr b="0" lang="zh-CN" sz="4800" spc="-1" strike="noStrike">
                <a:solidFill>
                  <a:srgbClr val="336699"/>
                </a:solidFill>
                <a:latin typeface="Arial Narrow"/>
              </a:rPr>
              <a:t>房祖名吸毒被抓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65" name="图片 39939" descr="W020140822242274005856"/>
          <p:cNvPicPr/>
          <p:nvPr/>
        </p:nvPicPr>
        <p:blipFill>
          <a:blip r:embed="rId1"/>
          <a:srcRect l="5991" t="0" r="5925" b="0"/>
          <a:stretch/>
        </p:blipFill>
        <p:spPr>
          <a:xfrm>
            <a:off x="684360" y="1341360"/>
            <a:ext cx="4681440" cy="38401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9940" descr="1408763086163"/>
          <p:cNvPicPr/>
          <p:nvPr/>
        </p:nvPicPr>
        <p:blipFill>
          <a:blip r:embed="rId2"/>
          <a:srcRect l="4082" t="0" r="6123" b="0"/>
          <a:stretch/>
        </p:blipFill>
        <p:spPr>
          <a:xfrm>
            <a:off x="4067280" y="3005280"/>
            <a:ext cx="4752720" cy="38527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9941" descr="图片5"/>
          <p:cNvPicPr/>
          <p:nvPr/>
        </p:nvPicPr>
        <p:blipFill>
          <a:blip r:embed="rId3"/>
          <a:stretch/>
        </p:blipFill>
        <p:spPr>
          <a:xfrm>
            <a:off x="7453440" y="26028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99"/>
                </a:solidFill>
                <a:latin typeface="Arial Narrow"/>
              </a:rPr>
              <a:t>台湾艺人柯震东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0" name="图片 75779" descr="可"/>
          <p:cNvPicPr/>
          <p:nvPr/>
        </p:nvPicPr>
        <p:blipFill>
          <a:blip r:embed="rId1"/>
          <a:stretch/>
        </p:blipFill>
        <p:spPr>
          <a:xfrm>
            <a:off x="900000" y="1484280"/>
            <a:ext cx="3581640" cy="50608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75780" descr="ke"/>
          <p:cNvPicPr/>
          <p:nvPr/>
        </p:nvPicPr>
        <p:blipFill>
          <a:blip r:embed="rId2"/>
          <a:stretch/>
        </p:blipFill>
        <p:spPr>
          <a:xfrm>
            <a:off x="4140360" y="3068640"/>
            <a:ext cx="4752720" cy="350208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5781" descr="图片5"/>
          <p:cNvPicPr/>
          <p:nvPr/>
        </p:nvPicPr>
        <p:blipFill>
          <a:blip r:embed="rId3"/>
          <a:stretch/>
        </p:blipFill>
        <p:spPr>
          <a:xfrm>
            <a:off x="7453440" y="26028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24577" descr="图片5"/>
          <p:cNvPicPr/>
          <p:nvPr/>
        </p:nvPicPr>
        <p:blipFill>
          <a:blip r:embed="rId1"/>
          <a:stretch/>
        </p:blipFill>
        <p:spPr>
          <a:xfrm>
            <a:off x="7453440" y="260280"/>
            <a:ext cx="1371600" cy="1306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4360" y="836280"/>
            <a:ext cx="5182920" cy="6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楷体_GB2312"/>
              </a:rPr>
              <a:t>彻夜“溜冰”，险酿惨剧</a:t>
            </a:r>
            <a:endParaRPr b="0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75" name="图片 24579" descr="11"/>
          <p:cNvPicPr/>
          <p:nvPr/>
        </p:nvPicPr>
        <p:blipFill>
          <a:blip r:embed="rId2"/>
          <a:stretch/>
        </p:blipFill>
        <p:spPr>
          <a:xfrm>
            <a:off x="1835280" y="1628640"/>
            <a:ext cx="5678280" cy="297504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24580"/>
          <p:cNvSpPr/>
          <p:nvPr/>
        </p:nvSpPr>
        <p:spPr>
          <a:xfrm>
            <a:off x="1260360" y="4654440"/>
            <a:ext cx="69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2009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年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7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月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7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日上午，成都市建设路某小区内，一位自称“很爱女儿”的父亲胡滨军将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岁半的女儿倒挂在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8</a:t>
            </a:r>
            <a:r>
              <a:rPr b="1" lang="zh-CN" sz="40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楼窗外，准备抱她一起跳楼。经警方证实，险些杀死女儿的胡滨军在作出疯狂举动前曾整夜“溜冰”（吸食冰毒）。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矩形 24582"/>
          <p:cNvSpPr/>
          <p:nvPr/>
        </p:nvSpPr>
        <p:spPr>
          <a:xfrm>
            <a:off x="1042920" y="333360"/>
            <a:ext cx="1871640" cy="57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文本框 24583"/>
          <p:cNvSpPr/>
          <p:nvPr/>
        </p:nvSpPr>
        <p:spPr>
          <a:xfrm>
            <a:off x="1116000" y="333360"/>
            <a:ext cx="18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新闻剪辑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"/>
                            </p:stCondLst>
                            <p:childTnLst>
                              <p:par>
                                <p:cTn id="1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25601" descr="图片5"/>
          <p:cNvPicPr/>
          <p:nvPr/>
        </p:nvPicPr>
        <p:blipFill>
          <a:blip r:embed="rId1"/>
          <a:stretch/>
        </p:blipFill>
        <p:spPr>
          <a:xfrm>
            <a:off x="7453440" y="260280"/>
            <a:ext cx="1371600" cy="130644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25602"/>
          <p:cNvSpPr/>
          <p:nvPr/>
        </p:nvSpPr>
        <p:spPr>
          <a:xfrm>
            <a:off x="1044720" y="909720"/>
            <a:ext cx="60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温州“瘾君子”朝自己影子开枪 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81" name="组合 25603"/>
          <p:cNvGrpSpPr/>
          <p:nvPr/>
        </p:nvGrpSpPr>
        <p:grpSpPr>
          <a:xfrm>
            <a:off x="612720" y="1628640"/>
            <a:ext cx="8135640" cy="2376720"/>
            <a:chOff x="612720" y="1628640"/>
            <a:chExt cx="8135640" cy="2376720"/>
          </a:xfrm>
        </p:grpSpPr>
        <p:pic>
          <p:nvPicPr>
            <p:cNvPr id="182" name="图片 25604" descr="05"/>
            <p:cNvPicPr/>
            <p:nvPr/>
          </p:nvPicPr>
          <p:blipFill>
            <a:blip r:embed="rId2"/>
            <a:stretch/>
          </p:blipFill>
          <p:spPr>
            <a:xfrm>
              <a:off x="612720" y="1628640"/>
              <a:ext cx="4009680" cy="23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图片 25605" descr="现场三：弹着点（开太百货柜厨玻璃"/>
            <p:cNvPicPr/>
            <p:nvPr/>
          </p:nvPicPr>
          <p:blipFill>
            <a:blip r:embed="rId3"/>
            <a:stretch/>
          </p:blipFill>
          <p:spPr>
            <a:xfrm>
              <a:off x="4571640" y="1628640"/>
              <a:ext cx="4176720" cy="23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文本框 25606"/>
          <p:cNvSpPr/>
          <p:nvPr/>
        </p:nvSpPr>
        <p:spPr>
          <a:xfrm>
            <a:off x="755640" y="407664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    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2005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年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9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月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10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日晚，</a:t>
            </a:r>
            <a:r>
              <a:rPr b="1" lang="en-US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陈某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携带一支手枪同另外两人在市区某饭店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8016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房间吸毒将近一晚。吸食了大量的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K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粉后，陈某异常兴奋，难以控制自己，竟持手枪跑出饭店，在人民路一路狂奔。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11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日早晨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5</a:t>
            </a:r>
            <a:r>
              <a:rPr b="1" lang="zh-CN" sz="2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时许，当他跑至某商厦陈列橱窗前时，发现橱窗玻璃里有自己持枪的身影，陈某持枪对准里面的影子，发现影子也持枪瞄着自己，于是，已产生幻觉的他认为有人要开枪杀他，便先下手为强对着里面的“歹徒”开了一枪，子弹将玻璃击穿一个孔。 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矩形 25608"/>
          <p:cNvSpPr/>
          <p:nvPr/>
        </p:nvSpPr>
        <p:spPr>
          <a:xfrm>
            <a:off x="1042920" y="333360"/>
            <a:ext cx="1871640" cy="647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文本框 25609"/>
          <p:cNvSpPr/>
          <p:nvPr/>
        </p:nvSpPr>
        <p:spPr>
          <a:xfrm>
            <a:off x="900000" y="333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新闻剪辑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"/>
                            </p:stCondLst>
                            <p:childTnLst>
                              <p:par>
                                <p:cTn id="1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1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1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00000" y="371592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9" name="图片 100356" descr="d621c731-9bf1-41f4-9045-b67a53579f1b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633744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00358" descr="1f384671-8b73-4e82-a8c6-f43b568daf5b"/>
          <p:cNvPicPr/>
          <p:nvPr/>
        </p:nvPicPr>
        <p:blipFill>
          <a:blip r:embed="rId2"/>
          <a:stretch/>
        </p:blipFill>
        <p:spPr>
          <a:xfrm>
            <a:off x="4500720" y="260280"/>
            <a:ext cx="41907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3" name="图片 98308" descr="22c147e1-1017-48a4-8a4c-6c0584312859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6" name="图片 99332" descr="379354eb-6fd5-4239-890a-fde8b668801b"/>
          <p:cNvPicPr/>
          <p:nvPr/>
        </p:nvPicPr>
        <p:blipFill>
          <a:blip r:embed="rId1"/>
          <a:stretch/>
        </p:blipFill>
        <p:spPr>
          <a:xfrm>
            <a:off x="76320" y="0"/>
            <a:ext cx="4279680" cy="694368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99334" descr="a80ba043-2d80-4472-8b47-0ea78bb67e4e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0" name="图片 92164" descr="u=3692337198,3571772141&amp;fm=27&amp;gp=0"/>
          <p:cNvPicPr/>
          <p:nvPr/>
        </p:nvPicPr>
        <p:blipFill>
          <a:blip r:embed="rId1"/>
          <a:stretch/>
        </p:blipFill>
        <p:spPr>
          <a:xfrm>
            <a:off x="112680" y="0"/>
            <a:ext cx="86360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 Narrow"/>
              </a:rPr>
              <a:t>如何拒绝毒品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00000" y="1599840"/>
            <a:ext cx="8064720" cy="4349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）不拿陌生人给的赠品，如：饮料、香烟等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）不随便帮不认识的人带行李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）不听鼓吹吸毒可以提神，有助提高成绩的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）不给面子，讲兄弟感情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）不对女孩子标榜吸毒可以减肥，诱其吸毒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）不被朋友利用，说带运毒品可以得好多金钱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）不追求享受，追求刺激，盲目尝试新潮的东西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3" name="图片 77827" descr="图片5"/>
          <p:cNvPicPr/>
          <p:nvPr/>
        </p:nvPicPr>
        <p:blipFill>
          <a:blip r:embed="rId1"/>
          <a:stretch/>
        </p:blipFill>
        <p:spPr>
          <a:xfrm>
            <a:off x="7453440" y="260280"/>
            <a:ext cx="13716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4337" descr="图片5"/>
          <p:cNvPicPr/>
          <p:nvPr/>
        </p:nvPicPr>
        <p:blipFill>
          <a:blip r:embed="rId1"/>
          <a:stretch/>
        </p:blipFill>
        <p:spPr>
          <a:xfrm>
            <a:off x="7453440" y="260280"/>
            <a:ext cx="1371600" cy="13064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4338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2976840" cy="39052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4339" descr=""/>
          <p:cNvPicPr/>
          <p:nvPr/>
        </p:nvPicPr>
        <p:blipFill>
          <a:blip r:embed="rId3"/>
          <a:stretch/>
        </p:blipFill>
        <p:spPr>
          <a:xfrm>
            <a:off x="3927600" y="260280"/>
            <a:ext cx="4957560" cy="25941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4340" descr="2004618153412331"/>
          <p:cNvPicPr/>
          <p:nvPr/>
        </p:nvPicPr>
        <p:blipFill>
          <a:blip r:embed="rId4"/>
          <a:stretch/>
        </p:blipFill>
        <p:spPr>
          <a:xfrm>
            <a:off x="4572000" y="2852640"/>
            <a:ext cx="4322880" cy="334188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4341"/>
          <p:cNvSpPr/>
          <p:nvPr/>
        </p:nvSpPr>
        <p:spPr>
          <a:xfrm>
            <a:off x="755640" y="4437000"/>
            <a:ext cx="41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看到这些人，你又有什么样的感受？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512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矩形 5121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2E0E-7F2D-4E74-B4E9-E90EFD05827F}" type="slidenum">
              <a:rPr b="0" lang="zh-CN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2" name="图片 5122" descr="0f59727bcc92f54c29388af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5123"/>
          <p:cNvSpPr/>
          <p:nvPr/>
        </p:nvSpPr>
        <p:spPr>
          <a:xfrm>
            <a:off x="539640" y="33336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宋体"/>
                <a:ea typeface="宋体"/>
              </a:rPr>
              <a:t>罂粟花也叫英雄花、虞美人，是制鸦片的原材料，也是世界上最美丽的花之一。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614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矩形 6145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59AC-23E6-4E2D-8035-C73D72F17365}" type="slidenum">
              <a:rPr b="0" lang="zh-CN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6" name="图片 6146" descr="89e4ec1b9e9507c2ac6e7517"/>
          <p:cNvPicPr/>
          <p:nvPr/>
        </p:nvPicPr>
        <p:blipFill>
          <a:blip r:embed="rId1"/>
          <a:stretch/>
        </p:blipFill>
        <p:spPr>
          <a:xfrm>
            <a:off x="0" y="-892080"/>
            <a:ext cx="8991720" cy="79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119" name="图片 3" descr="97491acc3186bceb19e8bba2 (1)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7168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矩形 7169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C03C-92AF-441A-B84F-7897FAFFBA03}" type="slidenum">
              <a:rPr b="0" lang="zh-CN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2" name="图片 7170" descr="lhh_1"/>
          <p:cNvPicPr/>
          <p:nvPr/>
        </p:nvPicPr>
        <p:blipFill>
          <a:blip r:embed="rId1"/>
          <a:stretch/>
        </p:blipFill>
        <p:spPr>
          <a:xfrm>
            <a:off x="0" y="0"/>
            <a:ext cx="9144000" cy="752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16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Narrow"/>
                <a:ea typeface="黑体"/>
              </a:rPr>
              <a:t>常见的毒品</a:t>
            </a:r>
            <a:endParaRPr b="0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9280" y="69228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一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罂粟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二、大麻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三、</a:t>
            </a:r>
            <a:r>
              <a:rPr b="1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海洛因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四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、冰毒（包括麻古）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五、氯胺酮（又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粉）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六、摇头丸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罂粟、大麻、海洛因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一般称传统毒品，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冰毒、氯胺酮、摇头丸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等称新型毒品（合成毒品）。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8192"/>
          <p:cNvSpPr/>
          <p:nvPr/>
        </p:nvSpPr>
        <p:spPr>
          <a:xfrm>
            <a:off x="3492360" y="189000"/>
            <a:ext cx="2248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603ab"/>
                </a:solidFill>
                <a:latin typeface="宋体"/>
                <a:ea typeface="宋体"/>
              </a:rPr>
              <a:t>认清毒品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6" name="图片 8193" descr="药品"/>
          <p:cNvPicPr/>
          <p:nvPr/>
        </p:nvPicPr>
        <p:blipFill>
          <a:blip r:embed="rId1"/>
          <a:stretch/>
        </p:blipFill>
        <p:spPr>
          <a:xfrm>
            <a:off x="5334120" y="3581280"/>
            <a:ext cx="3657600" cy="274320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  <p:sp>
        <p:nvSpPr>
          <p:cNvPr id="127" name="矩形 8194"/>
          <p:cNvSpPr/>
          <p:nvPr/>
        </p:nvSpPr>
        <p:spPr>
          <a:xfrm>
            <a:off x="1619280" y="5083200"/>
            <a:ext cx="255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毒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" name="矩形 8195"/>
          <p:cNvSpPr/>
          <p:nvPr/>
        </p:nvSpPr>
        <p:spPr>
          <a:xfrm>
            <a:off x="6657840" y="2706840"/>
            <a:ext cx="120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药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9" name="图片 8196" descr="毒品"/>
          <p:cNvPicPr/>
          <p:nvPr/>
        </p:nvPicPr>
        <p:blipFill>
          <a:blip r:embed="rId2"/>
          <a:stretch/>
        </p:blipFill>
        <p:spPr>
          <a:xfrm>
            <a:off x="0" y="907920"/>
            <a:ext cx="5292720" cy="390852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12:21:22Z</dcterms:created>
  <dc:creator/>
  <dc:description/>
  <dc:language>en-US</dc:language>
  <cp:lastModifiedBy>A0000丹丹【林文正姿笔】</cp:lastModifiedBy>
  <dcterms:modified xsi:type="dcterms:W3CDTF">2019-11-21T04:51:5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