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A1A-6DCC-4DCE-A482-4BAC0CB5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A8A-189D-42D4-AF86-5C068E6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894-D7A4-4B19-BC8F-156D7919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A7E-18B6-42CD-9D8A-43631ED6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DF5-3E42-4726-ABF6-833C3B2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899-A055-4F1D-88F9-23DF72D7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1A7-E4B2-4FBF-9EE9-D2089009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76F-18B8-4879-9215-77DFA61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8F7-804F-41B0-859B-1CB0FCC5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EB7-46C4-486B-A458-D941233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D48-9DD9-486B-A1A5-F6F0635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3D0-4D9C-4FA0-9008-1B2E100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652-DDB0-4DD9-B18D-025826DF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131400">
            <a:off x="1571760" y="1917720"/>
            <a:ext cx="5635440" cy="23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8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珍爱生命远离毒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8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Text Box 7" descr=""/>
          <p:cNvPicPr/>
          <p:nvPr/>
        </p:nvPicPr>
        <p:blipFill>
          <a:blip r:embed="rId1"/>
          <a:stretch/>
        </p:blipFill>
        <p:spPr>
          <a:xfrm>
            <a:off x="2066760" y="4668840"/>
            <a:ext cx="5724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573200" y="1557360"/>
            <a:ext cx="5946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老师讲述青少年案例小故事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25520" y="2595600"/>
            <a:ext cx="7067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全世界每年因吸食毒品而死亡的人数高达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，因此而丧失劳动能力的人每年约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，仅美国现在就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122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人吸毒。泰国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人吸毒，缅甸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人吸毒。我国全国登记在册的吸毒人员超过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，其中约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75%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岁以下的青少年。中国已不再是一片净土，中国又一次处于毒品的危害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2268360" y="549360"/>
            <a:ext cx="46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禁毒关乎民族存亡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5435640" y="2781360"/>
            <a:ext cx="3097080" cy="3313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2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684360" y="2852640"/>
            <a:ext cx="4392360" cy="3313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258920" y="3500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，阿拉伯商人将罂粟花带到中国，贵族争相种植，文人赋诗赞美。时光流逝，美丽的罂粟花逐渐蜕变成为吃人的恶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012000" y="321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林则徐前往广东禁烟，主持了著名的虎门销烟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英国向中国发动侵略战争，因为由英国强行走私鸦片引起，史称“鸦片战争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58f8c5494eef01fd7cd8a15e1fe9925bd317d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4140360" y="1052640"/>
            <a:ext cx="158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目录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204840" y="2435400"/>
            <a:ext cx="80629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什么是毒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毒品有哪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吸食毒品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毒品离我们并不遥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珍爱生命远离毒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 rot="21078600">
            <a:off x="1258920" y="177300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听说过毒品吗？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58920" y="35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你也许听说过毒品，但你，不一定意识到毒品就在你身边！不一定了解毒品的危害是多么深重！我们知道：你一定希望懂得如何抵御毒品！现在就让我们一起来认识和识别毒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3286080" y="1285920"/>
            <a:ext cx="250020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什么是毒品？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428840" y="2643120"/>
            <a:ext cx="623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毒品一般是指使人形成瘾癖的药物，这里的药物一词是个广义的概念，主要指吸毒者滥用的鸦片、海洛因、冰毒等，还包括具有依赖性的天然植物、烟、酒和溶剂等，与医疗用药物是不同的概念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0506434_828380"/>
          <p:cNvPicPr/>
          <p:nvPr/>
        </p:nvPicPr>
        <p:blipFill>
          <a:blip r:embed="rId1"/>
          <a:stretch/>
        </p:blipFill>
        <p:spPr>
          <a:xfrm>
            <a:off x="571680" y="2270160"/>
            <a:ext cx="1941480" cy="14986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916360" y="0"/>
            <a:ext cx="345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各式各样的毒品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Picture 6" descr="res07_attpic_brief"/>
          <p:cNvPicPr/>
          <p:nvPr/>
        </p:nvPicPr>
        <p:blipFill>
          <a:blip r:embed="rId2"/>
          <a:stretch/>
        </p:blipFill>
        <p:spPr>
          <a:xfrm>
            <a:off x="2641680" y="2286000"/>
            <a:ext cx="185904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8ac6f2be606115480441a"/>
          <p:cNvPicPr/>
          <p:nvPr/>
        </p:nvPicPr>
        <p:blipFill>
          <a:blip r:embed="rId3"/>
          <a:stretch/>
        </p:blipFill>
        <p:spPr>
          <a:xfrm>
            <a:off x="4572000" y="2271600"/>
            <a:ext cx="188136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0090109120000-102448"/>
          <p:cNvPicPr/>
          <p:nvPr/>
        </p:nvPicPr>
        <p:blipFill>
          <a:blip r:embed="rId4"/>
          <a:stretch/>
        </p:blipFill>
        <p:spPr>
          <a:xfrm>
            <a:off x="6572160" y="2268360"/>
            <a:ext cx="2048040" cy="152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0" y="522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鸦片     摇头丸    海洛因      吗啡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332000" y="3860640"/>
            <a:ext cx="4174920" cy="1513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3348000" y="3860640"/>
            <a:ext cx="0" cy="1440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8101080" y="3860640"/>
            <a:ext cx="0" cy="1440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971640" y="3933720"/>
            <a:ext cx="4537080" cy="1440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635280" y="260280"/>
            <a:ext cx="288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吸毒的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60" name="Picture 4" descr="00016c42b2230f85cb8e57"/>
          <p:cNvPicPr/>
          <p:nvPr/>
        </p:nvPicPr>
        <p:blipFill>
          <a:blip r:embed="rId1"/>
          <a:stretch/>
        </p:blipFill>
        <p:spPr>
          <a:xfrm>
            <a:off x="1258920" y="2060640"/>
            <a:ext cx="6600960" cy="409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21869-31"/>
          <p:cNvPicPr/>
          <p:nvPr/>
        </p:nvPicPr>
        <p:blipFill>
          <a:blip r:embed="rId2"/>
          <a:stretch/>
        </p:blipFill>
        <p:spPr>
          <a:xfrm>
            <a:off x="1571760" y="1679400"/>
            <a:ext cx="6600600" cy="481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121133478_11n"/>
          <p:cNvPicPr/>
          <p:nvPr/>
        </p:nvPicPr>
        <p:blipFill>
          <a:blip r:embed="rId3"/>
          <a:stretch/>
        </p:blipFill>
        <p:spPr>
          <a:xfrm>
            <a:off x="500040" y="1643040"/>
            <a:ext cx="818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 rot="20893800">
            <a:off x="428400" y="68112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毒品有哪些危害？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71720" y="271476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毒品损害人的身心健康，导致国民素质下降；毒品造成财富流失，引发家庭危机；毒品诱发违法犯罪，扰乱社会治安。毒品问题迅速蔓延，如瘟疫一样祸害着人类。下面让我们一起来看一下这则案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755640" y="206064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家住市区的李江蓉（化名）是位美女，在校是同学公认的校花。成家立业后，她有一个疼爱自己的丈夫和一个可爱乖巧的儿子，可谓万事无忧，家庭和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单调而平静的生活让李江蓉觉得有些无精打采，为了追求新鲜和刺激，渐渐地，李江蓉与社会上一些另类青年混迹一处，第一次沾上了影响她一生的恶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毒品。李江蓉幼稚地认为，初尝一两口没什么大不了的，只要有意志，自己随时都可以戒掉。可让李江蓉没想到的是，此刻潘多拉的魔盒已经打开，随着一次又一次的尝试、吸食，她最后走上了不归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染上毒瘾后，人性往往会变得狭隘自私，礼仪廉耻也会消失殆尽。李江蓉吸毒被丈夫发现，她对丈夫的劝说毫不理睬，最后双方走上了离婚路，一个和睦美满的家庭就这样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吸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垮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71680" y="2214720"/>
            <a:ext cx="7929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染上毒瘾后，人性往往会变得狭隘自私，礼仪廉耻也会消失殆尽。李江蓉吸毒被丈夫发现，她对丈夫的劝说毫不理睬，最后双方走上了离婚路，一个和睦美满的家庭就这样被“吸”垮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离婚后，李江蓉也认真反思过，并决心告别毒品，重新做人。但毒瘾好戒，心魔难除。不久，她又旧病复发，开始吸食毒品了，从吸食发展到静脉注射。随着毒瘾增大，为获得购买毒品资金，不到两年时间，她吸食掉自己经营的服装店，吸食掉自己的小轿车。没有了经济来源，李江蓉开始“啃老”，一旦不满足，就用死相威胁，甚至拿刀砍人，家里的钱吸光了，她就去偷，曾经因盗窃被公安机关抓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　　李江蓉由于中毒较深，原本漂亮的她，已经严重变形：脸色腊黄、眼睛深陷、精神失常、全身发抖。不久前，骨瘦如柴的李江蓉躲过亲人看守，悄悄溜出家门，购得毒品海洛因实施静脉注射，因注射过量而死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05:11:55Z</dcterms:created>
  <dc:creator>deepin</dc:creator>
  <dc:description/>
  <dc:language>en-US</dc:language>
  <cp:lastModifiedBy>微软中国</cp:lastModifiedBy>
  <dcterms:modified xsi:type="dcterms:W3CDTF">2019-10-11T07:06:44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86</vt:lpwstr>
  </property>
</Properties>
</file>