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6.jpeg" ContentType="image/jpeg"/>
  <Override PartName="/ppt/media/applause.wav" ContentType="audio/x-wav"/>
  <Override PartName="/ppt/media/image27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wmf" ContentType="image/x-wmf"/>
  <Override PartName="/ppt/media/image15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image6.jpeg" ContentType="image/jpeg"/>
  <Override PartName="/ppt/media/type.wav" ContentType="audio/x-wav"/>
  <Override PartName="/ppt/media/carbrake.wav" ContentType="audio/x-wav"/>
  <Override PartName="/ppt/media/image17.jpeg" ContentType="image/jpe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68C-E407-404A-A819-BC2A73D0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64C-3B24-43E4-95F4-A68DDDC8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FA0-2997-47BC-B286-25EBFF14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2D0-051B-4DFD-9C1C-410F1194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CDAE-48C7-4FFA-964B-F861EFDA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B54C-060D-478A-8F70-1A5F184F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40C-6256-4743-B87D-AFBAD30C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05C0-B9D1-40D2-93E9-1A6E1B2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FB6-DCC5-4C55-AD90-B2F04DF3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F6C7-89D6-413A-A3C5-5A6FD1A1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155A-3BDD-4539-8784-5B7E9C23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83E-B8F0-4715-B457-50A0EFF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176A-DE28-42BA-A78B-77E839E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F592-0F2E-44F5-B7DB-849C1F7D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3A86-BE50-488B-9C5D-95DF1B8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ACA-9E0B-4DAF-9E9E-1F1254D0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910F-D3E8-4607-9E9D-8510DAAA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E534-E766-48CB-8AD9-E0355F5F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2DBF4-274D-47D2-A123-F4B44F3E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6A5B-5B55-4F2F-A190-D358AA05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41EA-2435-4693-A222-78533AE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6DF58-56AF-4994-8956-9A862B99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D7E-0B9A-4DA1-8DAA-72AFEAAA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99CD-D354-4DD0-B1A6-7A4F405F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BD4C-098C-4128-8254-84C7934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5936-8706-4933-96E4-CBA92B2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1124-B7D8-4D21-8C1C-195CC61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0F26-97FF-4340-AC4F-2253835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EB54-D6DC-430A-B5A2-41269789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03A3-05B9-4F58-9847-A82A724F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4BC-DAB2-4D4E-BE2A-13BBAB3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698-1DCF-434D-A4E4-AAD01CFC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D93-0BED-4E26-883B-83C24D7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895-079B-4F2E-9795-A8786DA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8FC-B5D9-476A-8E3D-8C15BD9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FAA-25F9-4A88-82C0-FC12D20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307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3B04-A890-44FE-AC54-6400E450F739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FBAF-6F27-4334-BB80-71EE9C84E0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5AA2-07C5-4346-8C55-8B04331858F3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645-4A89-45B2-B8FC-AEB811180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直接连接符 4097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任意多边形 4098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689F-4BFB-4792-8C01-475D14FF286B}" type="datetime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B40-4E2D-439D-903E-A089DE728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珍爱生命   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</a:t>
            </a:r>
            <a:br>
              <a:rPr sz="7200"/>
            </a:b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远离毒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763280" y="4797360"/>
            <a:ext cx="73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----604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班禁毒教育知识宣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矩形 68611"/>
          <p:cNvSpPr/>
          <p:nvPr/>
        </p:nvSpPr>
        <p:spPr>
          <a:xfrm>
            <a:off x="324000" y="623736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4293-ADD0-4BAA-84A5-9E61E6D70D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22531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2533"/>
          <p:cNvSpPr/>
          <p:nvPr/>
        </p:nvSpPr>
        <p:spPr>
          <a:xfrm>
            <a:off x="179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B9F-07CA-4F80-A178-C2A2BC93A98D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8C7-784F-4015-A6AA-B8D39B7D8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55299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5300"/>
          <p:cNvSpPr/>
          <p:nvPr/>
        </p:nvSpPr>
        <p:spPr>
          <a:xfrm>
            <a:off x="4295880" y="1557360"/>
            <a:ext cx="3371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摧毁健康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心理变态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神经失常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备受歧视，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走上绝路。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55301"/>
          <p:cNvSpPr/>
          <p:nvPr/>
        </p:nvSpPr>
        <p:spPr>
          <a:xfrm>
            <a:off x="3780000" y="54936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吸毒对个人的危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6074-536B-443F-A8E6-13C1C3A6F26E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992B-3847-4CC2-857A-40E727D612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56323" descr="2009020519123805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6324" descr="20071116074638367"/>
          <p:cNvPicPr/>
          <p:nvPr/>
        </p:nvPicPr>
        <p:blipFill>
          <a:blip r:embed="rId2"/>
          <a:stretch/>
        </p:blipFill>
        <p:spPr>
          <a:xfrm>
            <a:off x="4363920" y="0"/>
            <a:ext cx="47800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6325"/>
          <p:cNvSpPr/>
          <p:nvPr/>
        </p:nvSpPr>
        <p:spPr>
          <a:xfrm>
            <a:off x="3132000" y="62064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宋体"/>
              </a:rPr>
              <a:t>吸毒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文本框 56326"/>
          <p:cNvSpPr/>
          <p:nvPr/>
        </p:nvSpPr>
        <p:spPr>
          <a:xfrm>
            <a:off x="8028000" y="692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宋体"/>
              </a:rPr>
              <a:t>吸毒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0353-2146-402A-B71C-2C0E6482E55F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E9DB-996D-43AD-AC00-E5F6E4F53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54275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矩形 54276"/>
          <p:cNvSpPr/>
          <p:nvPr/>
        </p:nvSpPr>
        <p:spPr>
          <a:xfrm>
            <a:off x="4140360" y="1700280"/>
            <a:ext cx="44956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倾家荡产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妻离子散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家破人亡，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危及后代。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矩形 54277"/>
          <p:cNvSpPr/>
          <p:nvPr/>
        </p:nvSpPr>
        <p:spPr>
          <a:xfrm>
            <a:off x="4211640" y="692280"/>
            <a:ext cx="46083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对家庭造成的危害</a:t>
            </a:r>
            <a:br>
              <a:rPr sz="4400"/>
            </a:b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AF4C-8A2F-4490-B4A6-4A7DB32374C9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F0F-7AF0-479B-9D8C-32540B267D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33796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矩形 33798"/>
          <p:cNvSpPr/>
          <p:nvPr/>
        </p:nvSpPr>
        <p:spPr>
          <a:xfrm>
            <a:off x="5022000" y="498600"/>
            <a:ext cx="31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宋体"/>
              </a:rPr>
              <a:t>对社会造成的危害</a:t>
            </a:r>
            <a:r>
              <a:rPr b="1" lang="en-US" sz="4400" spc="-1" strike="noStrike">
                <a:solidFill>
                  <a:srgbClr val="009999"/>
                </a:solidFill>
                <a:latin typeface="宋体"/>
              </a:rPr>
              <a:t>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矩形 33799"/>
          <p:cNvSpPr/>
          <p:nvPr/>
        </p:nvSpPr>
        <p:spPr>
          <a:xfrm>
            <a:off x="3635280" y="15573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偷盗抢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杀人放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     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宋体"/>
              </a:rPr>
              <a:t>传播疾病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累及他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146F-91FA-4733-878C-6D303E75782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925-EC13-44A4-A4A2-FFF43B294B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59393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211" name="矩形 59394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667-E3B1-4FFE-A43F-D9BE13CF8049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DD2-A055-49CA-AB5B-E71696AB7E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60417"/>
          <p:cNvSpPr/>
          <p:nvPr/>
        </p:nvSpPr>
        <p:spPr>
          <a:xfrm>
            <a:off x="1044720" y="333360"/>
            <a:ext cx="62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隶书"/>
              </a:rPr>
              <a:t>毒品离我们有多远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对象 60418"/>
          <p:cNvGraphicFramePr/>
          <p:nvPr/>
        </p:nvGraphicFramePr>
        <p:xfrm>
          <a:off x="2158920" y="1052640"/>
          <a:ext cx="6985080" cy="34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对象 604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8920" y="1052640"/>
                    <a:ext cx="698508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文本框 60419"/>
          <p:cNvSpPr/>
          <p:nvPr/>
        </p:nvSpPr>
        <p:spPr>
          <a:xfrm>
            <a:off x="2987640" y="450864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青少年占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75%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左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文本框 60422"/>
          <p:cNvSpPr/>
          <p:nvPr/>
        </p:nvSpPr>
        <p:spPr>
          <a:xfrm>
            <a:off x="3132000" y="5445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青少年是吸毒人员的“猎物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矩形 60423"/>
          <p:cNvSpPr/>
          <p:nvPr/>
        </p:nvSpPr>
        <p:spPr>
          <a:xfrm>
            <a:off x="395280" y="6165720"/>
            <a:ext cx="129708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964D-1292-44AE-AC75-ACB163329ED9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837-BEEA-480C-97FF-C06E29E782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336699"/>
                </a:solidFill>
                <a:latin typeface="Times New Roman"/>
              </a:rPr>
              <a:t>冷水滩区召开禁毒工作推进会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017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月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日下午，冷水滩区召开禁毒工作推进会暨禁毒工作联席会。会议通报了上半年该区禁毒工作开展情况，总结分析了工作中存在的突出问题，宣读了《社区戒毒社区康复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8.31</a:t>
            </a:r>
            <a:r>
              <a:rPr b="0" lang="zh-CN" sz="2800" spc="-1" strike="noStrike">
                <a:solidFill>
                  <a:srgbClr val="009999"/>
                </a:solidFill>
                <a:latin typeface="Times New Roman"/>
              </a:rPr>
              <a:t>工程》《吸毒人员网格化服务管理》《易制毒化学品管理》等工作方案，全面安排部署下半年禁毒工作。会上，各禁毒委成员单位主要负责人向去禁毒委述职并提交述职报告。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同学们：毒品离我们很近，要高度警惕！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矩形 69635"/>
          <p:cNvSpPr/>
          <p:nvPr/>
        </p:nvSpPr>
        <p:spPr>
          <a:xfrm>
            <a:off x="395280" y="6165720"/>
            <a:ext cx="108108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32F-D4AE-4C00-91BF-3B7ADD032989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7E3-84E2-4154-9A36-096279BF48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d3803"/>
                </a:solidFill>
                <a:latin typeface="Times New Roman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92000" y="1557000"/>
            <a:ext cx="66596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出入网吧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ktv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EEB2-A762-4980-8FCF-CC3EBD6ABA3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273D-C2E1-4CC8-A002-24079BF654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1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3" name="图片 34819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  <p:sp>
        <p:nvSpPr>
          <p:cNvPr id="23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CC1-E7DE-4617-B6A0-DBBD30CF0776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E09-E094-4F42-A848-A52226F8AE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53251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3252"/>
          <p:cNvSpPr/>
          <p:nvPr/>
        </p:nvSpPr>
        <p:spPr>
          <a:xfrm>
            <a:off x="971640" y="91440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文本框 53255"/>
          <p:cNvSpPr/>
          <p:nvPr/>
        </p:nvSpPr>
        <p:spPr>
          <a:xfrm>
            <a:off x="395280" y="1052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罂粟花也叫英雄花、虞美人，是制鸦片的原材料，也是世界上最美丽的花之一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83C-AF16-4170-8218-BE1259B3281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3BDD-F7E4-41A9-A159-AB1A16404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牢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四知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”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638840" cy="40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什么是毒品；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吸毒极易成瘾，难以戒断；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毒品的危害；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知道毒品违法犯罪要受到法律制裁。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矩形 35843"/>
          <p:cNvSpPr/>
          <p:nvPr/>
        </p:nvSpPr>
        <p:spPr>
          <a:xfrm>
            <a:off x="324000" y="6165720"/>
            <a:ext cx="122364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E520-71B7-47FA-96B9-3BB3236ED9DB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5403-312A-4BFA-B2C8-CB2809AE3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2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3" name="图片 36867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24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ECC-519B-4351-8AEA-271E6446E3B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974-1FF4-4A0D-A00B-E0E3EB2F3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68356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、树立正确的人生观，不盲目追求享受，不以好奇心为由侥幸去尝试，不受不良诱惑的影响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、不听信毒品能治病，毒品能解脱烦恼和痛苦，毒品能给人带来快乐等各种花言巧语。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、不结交有吸毒、贩毒行为的人。如发现亲朋好友有吸、贩毒行为的人，一要劝阻，二要远离，三要报告公安机关。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矩形 37892"/>
          <p:cNvSpPr/>
          <p:nvPr/>
        </p:nvSpPr>
        <p:spPr>
          <a:xfrm>
            <a:off x="324000" y="6237360"/>
            <a:ext cx="122364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8B52-115A-422C-9764-25C24E39CE0B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23DE-0A83-4AF1-8693-639900436B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青少年如何防止吸毒</a:t>
            </a: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3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2" name="图片 38915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667-C9FD-4430-90B7-307CA9F725F7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E6E-5C64-453E-BDC3-AD40843362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养成良好的行为，杜绝吸烟饮酒等不良嗜好，不涉足青少年不宜进入的场所，决不吸食摇头丸、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粉等兴奋剂。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</a:rPr>
              <a:t>、即使自己在不知情的情况下，被引诱、欺骗吸毒一次，也要珍惜自己的生命，坚决不再吸第二次。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矩形 39939"/>
          <p:cNvSpPr/>
          <p:nvPr/>
        </p:nvSpPr>
        <p:spPr>
          <a:xfrm>
            <a:off x="395280" y="6237360"/>
            <a:ext cx="108108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45D-1421-47C2-A39F-5ABF13065F9F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DDEA-2B44-4306-AFAD-E12F356171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全国人大关于禁毒的决定</a:t>
            </a:r>
            <a:br>
              <a:rPr sz="4400"/>
            </a:b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吸食、注射毒品的，由公安机关处十五日以下拘留，可以单处或者并处二千元以下罚款，并没收毒品和吸食、注射器具。 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吸食、注射毒品成瘾的，除依照规定处罚外，予以强制戒除，进行治疗、教育。强制戒除后又吸食、注射毒品的，可以实行劳动教养，并在劳动教养中强制戒除。 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矩形 40963"/>
          <p:cNvSpPr/>
          <p:nvPr/>
        </p:nvSpPr>
        <p:spPr>
          <a:xfrm>
            <a:off x="250920" y="6237360"/>
            <a:ext cx="151272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DEEF-DCA6-453B-8D90-EDB9700329DF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DC03-F487-47FC-8FAA-53C9B26C7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45058" descr="03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矩形 45060"/>
          <p:cNvSpPr/>
          <p:nvPr/>
        </p:nvSpPr>
        <p:spPr>
          <a:xfrm>
            <a:off x="179280" y="6237360"/>
            <a:ext cx="172872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文本框 45061"/>
          <p:cNvSpPr/>
          <p:nvPr/>
        </p:nvSpPr>
        <p:spPr>
          <a:xfrm>
            <a:off x="1023840" y="771480"/>
            <a:ext cx="110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文本框 45062"/>
          <p:cNvSpPr/>
          <p:nvPr/>
        </p:nvSpPr>
        <p:spPr>
          <a:xfrm>
            <a:off x="332640" y="260280"/>
            <a:ext cx="139932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牢记：珍爱生命，拒绝毒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BE2-F15E-4518-8EEF-96E9D5E32EE3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7F22-8E78-42DF-99CE-3E209BC974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52227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  <p:sp>
        <p:nvSpPr>
          <p:cNvPr id="136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2FB3-DEC9-4702-BB57-57CBDBDD9730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9A82-E631-4BD7-8679-3590D794E9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51203" descr="20090626_ba2933b966ffafd3ef4aXPl1NM7n766O"/>
          <p:cNvPicPr/>
          <p:nvPr/>
        </p:nvPicPr>
        <p:blipFill>
          <a:blip r:embed="rId1"/>
          <a:stretch/>
        </p:blipFill>
        <p:spPr>
          <a:xfrm>
            <a:off x="0" y="0"/>
            <a:ext cx="44496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1204" descr="xinsrc_0910023110274681566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51205"/>
          <p:cNvSpPr/>
          <p:nvPr/>
        </p:nvSpPr>
        <p:spPr>
          <a:xfrm>
            <a:off x="5272200" y="627120"/>
            <a:ext cx="333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文本框 51206"/>
          <p:cNvSpPr/>
          <p:nvPr/>
        </p:nvSpPr>
        <p:spPr>
          <a:xfrm>
            <a:off x="5940360" y="692280"/>
            <a:ext cx="158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矩形 51208"/>
          <p:cNvSpPr/>
          <p:nvPr/>
        </p:nvSpPr>
        <p:spPr>
          <a:xfrm>
            <a:off x="0" y="6021360"/>
            <a:ext cx="698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文本框 51209"/>
          <p:cNvSpPr/>
          <p:nvPr/>
        </p:nvSpPr>
        <p:spPr>
          <a:xfrm>
            <a:off x="611280" y="189000"/>
            <a:ext cx="64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吸毒者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413E-0D8D-4E71-A1C5-3E6A8F689A20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83C-02A2-43DE-99D5-80E1C75018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宋体"/>
              </a:rPr>
              <a:t>图</a:t>
            </a:r>
            <a:r>
              <a:rPr b="0" lang="en-US" sz="4800" spc="-1" strike="noStrike">
                <a:solidFill>
                  <a:srgbClr val="336699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宋体"/>
            </a:endParaRPr>
          </a:p>
        </p:txBody>
      </p:sp>
      <p:pic>
        <p:nvPicPr>
          <p:cNvPr id="148" name="图片 10243" descr="lhh_1"/>
          <p:cNvPicPr/>
          <p:nvPr/>
        </p:nvPicPr>
        <p:blipFill>
          <a:blip r:embed="rId1"/>
          <a:stretch/>
        </p:blipFill>
        <p:spPr>
          <a:xfrm>
            <a:off x="0" y="-263520"/>
            <a:ext cx="9144000" cy="7527960"/>
          </a:xfrm>
          <a:prstGeom prst="rect">
            <a:avLst/>
          </a:prstGeom>
          <a:ln w="0">
            <a:noFill/>
          </a:ln>
        </p:spPr>
      </p:pic>
      <p:sp>
        <p:nvSpPr>
          <p:cNvPr id="14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6889-3F95-42FD-BC92-D9B58572DB4C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D034-10AA-4A4D-AD1C-2873DD9730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15040" y="-3545280"/>
            <a:ext cx="228600" cy="93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19640" y="188640"/>
            <a:ext cx="24386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杜冷丁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3" name="图片 14339" descr="杜冷丁"/>
          <p:cNvPicPr/>
          <p:nvPr/>
        </p:nvPicPr>
        <p:blipFill>
          <a:blip r:embed="rId1"/>
          <a:stretch/>
        </p:blipFill>
        <p:spPr>
          <a:xfrm>
            <a:off x="4500720" y="954000"/>
            <a:ext cx="4643280" cy="59040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4340" descr="K粉"/>
          <p:cNvPicPr/>
          <p:nvPr/>
        </p:nvPicPr>
        <p:blipFill>
          <a:blip r:embed="rId2"/>
          <a:stretch/>
        </p:blipFill>
        <p:spPr>
          <a:xfrm>
            <a:off x="0" y="981000"/>
            <a:ext cx="4500720" cy="5915160"/>
          </a:xfrm>
          <a:prstGeom prst="rect">
            <a:avLst/>
          </a:prstGeom>
          <a:ln w="0">
            <a:noFill/>
          </a:ln>
        </p:spPr>
      </p:pic>
      <p:sp>
        <p:nvSpPr>
          <p:cNvPr id="155" name="矩形 14341"/>
          <p:cNvSpPr/>
          <p:nvPr/>
        </p:nvSpPr>
        <p:spPr>
          <a:xfrm>
            <a:off x="1476360" y="26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K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5A9C-7124-4F3D-B9D4-75AABF151192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679-29A9-4245-A701-866BA8622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76320" y="-3698280"/>
            <a:ext cx="76320" cy="93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cc"/>
              </a:solidFill>
              <a:latin typeface="宋体"/>
            </a:endParaRPr>
          </a:p>
        </p:txBody>
      </p:sp>
      <p:pic>
        <p:nvPicPr>
          <p:cNvPr id="160" name="图片 16387" descr="大麻"/>
          <p:cNvPicPr/>
          <p:nvPr/>
        </p:nvPicPr>
        <p:blipFill>
          <a:blip r:embed="rId1"/>
          <a:stretch/>
        </p:blipFill>
        <p:spPr>
          <a:xfrm>
            <a:off x="-533520" y="0"/>
            <a:ext cx="4889520" cy="34225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6388" descr="鸦片"/>
          <p:cNvPicPr/>
          <p:nvPr/>
        </p:nvPicPr>
        <p:blipFill>
          <a:blip r:embed="rId2"/>
          <a:stretch/>
        </p:blipFill>
        <p:spPr>
          <a:xfrm>
            <a:off x="-609480" y="3429000"/>
            <a:ext cx="4800600" cy="3429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6389" descr="冰毒"/>
          <p:cNvPicPr/>
          <p:nvPr/>
        </p:nvPicPr>
        <p:blipFill>
          <a:blip r:embed="rId3"/>
          <a:stretch/>
        </p:blipFill>
        <p:spPr>
          <a:xfrm>
            <a:off x="4356000" y="0"/>
            <a:ext cx="45594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6390" descr="摇头丸"/>
          <p:cNvPicPr/>
          <p:nvPr/>
        </p:nvPicPr>
        <p:blipFill>
          <a:blip r:embed="rId4"/>
          <a:stretch/>
        </p:blipFill>
        <p:spPr>
          <a:xfrm>
            <a:off x="4356000" y="3429000"/>
            <a:ext cx="453708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16391"/>
          <p:cNvSpPr/>
          <p:nvPr/>
        </p:nvSpPr>
        <p:spPr>
          <a:xfrm>
            <a:off x="-108000" y="115920"/>
            <a:ext cx="120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大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文本框 16392"/>
          <p:cNvSpPr/>
          <p:nvPr/>
        </p:nvSpPr>
        <p:spPr>
          <a:xfrm>
            <a:off x="-252360" y="3573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鸦片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6393"/>
          <p:cNvSpPr/>
          <p:nvPr/>
        </p:nvSpPr>
        <p:spPr>
          <a:xfrm>
            <a:off x="7391520" y="2630520"/>
            <a:ext cx="1447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文本框 16394"/>
          <p:cNvSpPr/>
          <p:nvPr/>
        </p:nvSpPr>
        <p:spPr>
          <a:xfrm>
            <a:off x="464328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冰毒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16395"/>
          <p:cNvSpPr/>
          <p:nvPr/>
        </p:nvSpPr>
        <p:spPr>
          <a:xfrm>
            <a:off x="4427640" y="3716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摇头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0A3F-747D-43F8-B68D-B72DEDBC39B8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016-A276-4F01-A976-F5D994F7DB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8435" descr="海洛因"/>
          <p:cNvPicPr/>
          <p:nvPr/>
        </p:nvPicPr>
        <p:blipFill>
          <a:blip r:embed="rId1"/>
          <a:stretch/>
        </p:blipFill>
        <p:spPr>
          <a:xfrm>
            <a:off x="228600" y="0"/>
            <a:ext cx="3494160" cy="271764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18436"/>
          <p:cNvSpPr/>
          <p:nvPr/>
        </p:nvSpPr>
        <p:spPr>
          <a:xfrm>
            <a:off x="3962520" y="765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海洛因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图片 18437" descr="可卡因"/>
          <p:cNvPicPr/>
          <p:nvPr/>
        </p:nvPicPr>
        <p:blipFill>
          <a:blip r:embed="rId2"/>
          <a:stretch/>
        </p:blipFill>
        <p:spPr>
          <a:xfrm>
            <a:off x="2590920" y="2270160"/>
            <a:ext cx="4357440" cy="24224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18438"/>
          <p:cNvSpPr/>
          <p:nvPr/>
        </p:nvSpPr>
        <p:spPr>
          <a:xfrm>
            <a:off x="395280" y="3357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可卡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图片 18439" descr="吗啡"/>
          <p:cNvPicPr/>
          <p:nvPr/>
        </p:nvPicPr>
        <p:blipFill>
          <a:blip r:embed="rId3"/>
          <a:stretch/>
        </p:blipFill>
        <p:spPr>
          <a:xfrm>
            <a:off x="5486400" y="4114800"/>
            <a:ext cx="3124080" cy="23223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8440"/>
          <p:cNvSpPr/>
          <p:nvPr/>
        </p:nvSpPr>
        <p:spPr>
          <a:xfrm>
            <a:off x="4356000" y="508464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吗啡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8441"/>
          <p:cNvSpPr/>
          <p:nvPr/>
        </p:nvSpPr>
        <p:spPr>
          <a:xfrm>
            <a:off x="250920" y="6308640"/>
            <a:ext cx="1368360" cy="433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DE81-9F17-4374-8AFB-12F81D55020C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4445-EE5E-459B-AC1C-74D1B69FB4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20484" descr="lhh_2"/>
          <p:cNvPicPr/>
          <p:nvPr/>
        </p:nvPicPr>
        <p:blipFill>
          <a:blip r:embed="rId1"/>
          <a:stretch/>
        </p:blipFill>
        <p:spPr>
          <a:xfrm>
            <a:off x="0" y="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20485"/>
          <p:cNvSpPr/>
          <p:nvPr/>
        </p:nvSpPr>
        <p:spPr>
          <a:xfrm>
            <a:off x="990720" y="380880"/>
            <a:ext cx="635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文本框 20486"/>
          <p:cNvSpPr/>
          <p:nvPr/>
        </p:nvSpPr>
        <p:spPr>
          <a:xfrm>
            <a:off x="533520" y="115920"/>
            <a:ext cx="80769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常见的吸毒行为有：烟吸、烫吸、鼻嗅、口服、注射五种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日期占位符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A62-F44B-4999-81EE-306C6DA33DEB}" type="datetime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灯片编号占位符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E6F-D044-406A-96C6-91A9E079A4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6T05:07:22Z</dcterms:created>
  <dc:creator/>
  <dc:description/>
  <cp:keywords/>
  <dc:language>en-US</dc:language>
  <cp:lastModifiedBy>Administrator</cp:lastModifiedBy>
  <dcterms:modified xsi:type="dcterms:W3CDTF">2019-10-15T00:57:31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