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2FF-C962-4665-8322-254B9B06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876-7148-4848-930F-042509EC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79C-A379-469F-8D08-4213EAFE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213-5878-492B-8626-B66C1ACE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21A-4EC9-4400-B877-A26A3086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68A-29EF-48B1-9DEB-976CD8F8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257-0774-433B-85B0-5AF6D4FF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6F4-0A2C-4F65-BAC5-DFD7246F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3A5-B5A4-45AD-822A-EDDCDAF6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84D-BBE0-471C-AC0E-8BC37530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90D6-EB22-4DB4-B914-2C0CD260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C0D-558E-4652-8CF5-881BC287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9DDD-96F0-4721-A39E-2B8B8BA6E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1197000"/>
            <a:ext cx="6248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远离毒品</a:t>
            </a:r>
            <a:endParaRPr b="0" lang="en-US" sz="66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珍爱生命</a:t>
            </a:r>
            <a:endParaRPr b="0" lang="en-US" sz="66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5373720"/>
            <a:ext cx="51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湖北省武穴市梅川镇小学   汤伟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838080"/>
            <a:ext cx="76201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摇头丸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，其主要成分是ＭＤ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（３，４－亚甲二氧基安非他明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主要作用于神经系统，食用后引起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部运动神经兴奋，使头颈摇摆不停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对中枢神经的破坏相当严重，正像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世句所说：摇头丸，摇断头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858000" cy="4343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86000" y="54100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吸毒引起大脑组织病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4114800" cy="6019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550840" y="609480"/>
            <a:ext cx="1399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吸毒引起肾脏组织病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495324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07960" y="533520"/>
            <a:ext cx="78984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吸毒引起心脏病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238880" cy="4762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5120" y="556272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吸毒使人瘦弱不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4883040" cy="6019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267240" y="380880"/>
            <a:ext cx="1521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吸毒容易传染疾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4648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54021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电影《长大成人》的女主角朱洁未等影片在全国公演，就因吸毒过量死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838080"/>
            <a:ext cx="79246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吸食、注射海洛因比吸食、注射鸦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和吗啡更容易使人成瘾，而且对人体危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更大，长期吸食、注射海洛因，易感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毒性肝炎、肺脓肿、艾滋病等。吸食、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射高纯度的海洛因，会引起昏迷、呼吸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弱、体温降低、心跳缓慢、血压降低而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致死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吸毒可以导致多种疾病。吸毒造成血压降低、造血功能受损，新陈代谢减退，体内循环和呼吸减弱，引发肺炎等肺部疾病。如用注射方式吸毒者会使皮肤感染，形成脓肿、糜烂等疾病。长期吸毒者普遍都会出现反应迟钝、思维记忆功能减退，眼神痴呆，视力下降等症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5791320" cy="2895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78168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女孩毒瘾发作，撞墙自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20720" y="1773360"/>
            <a:ext cx="5472360" cy="19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毒品的种类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1371600"/>
            <a:ext cx="7162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吸毒还会引发身体其他器官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许多疾病、如心脏、生殖、免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等系统的疾病，使吸毒者免疫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下降，造成吸毒者体质极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吸毒者对毒品的依赖性极强，如果中止毒源，马上便引起一系列的生理变化和生物化学变化，从而出现过敏、震颤、周身无力、精神恍惚、打哈欠、涕流泪淌、恶心、呕吐、周身发凉、骨头发痒。严重者有痉孪性腹痛、血压升高、心动过速、瞳孔放大、白细胞增多、体液丢失，电解质紊乱而危及生命。此时吸毒害往往无法自拔，或抱头乱窜，或发狂自杀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3276720" cy="4495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867280" y="5029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广西一吸毒女青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岁，毒瘾发作时难受之极，跳楼自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982800"/>
            <a:ext cx="77724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吸毒者成瘾后对毒品有一种极为强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的渴求，为了满足毒瘾，会不择手段，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骗、偷盗、卖淫，伤天害理地去获取毒品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严重地扰乱社会治安，造成国家和民族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危机。我们对毒品一定要有一个清醒的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识，深刻认识吸毒的危害性，坚决制止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毒、贩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23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 rot="418800">
            <a:off x="1521000" y="4857480"/>
            <a:ext cx="5790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青少年如何防止吸毒</a:t>
            </a: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 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762120"/>
            <a:ext cx="777240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只要做到以下几条，青少年就能有效地防止吸毒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接受毒品基本知识和禁毒法律法规教育，了解毒品的危害，懂得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吸毒一口，掉入虎口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的道理；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树立正确的人生观，不盲目追求享受，寻求刺激，赶时髦；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不听信毒品能治病，毒品能解脱烦恼和痛苦，毒品能给人带来快乐等各种花言巧语；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830160"/>
            <a:ext cx="7696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不结交有吸毒、贩毒行为的人。如发现亲朋好友中有吸、贩毒行为的人，一定要劝阻，二要远离，三要报告公安机关；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进歌舞厅要谨慎，决不吸食摇头丸、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粉等兴奋剂；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即使自己在不知情的情况下，被引诱、欺骗吸毒一次，也要珍惜自己的生命，不再吸第二次，更不要吸第三次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 rot="319200">
            <a:off x="1981080" y="1981080"/>
            <a:ext cx="56390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8100000"/>
                </a:gradFill>
                <a:latin typeface="宋体"/>
              </a:rPr>
              <a:t>再见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81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838080"/>
            <a:ext cx="73911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毒品，是指鸦片、海洛因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甲基苯丙胺（冰毒）、吗啡、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麻、可卡因以及国家规定管制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其他能够使人形成瘾癖的麻醉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品和精神药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4191120" cy="373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05720" y="12193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海洛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371600"/>
            <a:ext cx="42642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毒害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初有欣快感，无法集中精神，会产生梦幻现象。过量使用造成急性中毒，症状包括昏睡、呼吸抑制、低血压、瞳孔变小。具高度心理及生理依赖性，长期使用后停药会发生渴求药物、不安、流泪、流汗、流鼻水、易怒、发抖、寒战、打冷颤、厌食、腹泻、身体卷曲、抽筋等戒断症。一旦成瘾极难戒治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8862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990720"/>
            <a:ext cx="396252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冰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最要命的毒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冰毒是一种纯白的结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体，晶莹剔透，所以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吸毒、贩毒者称为“冰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由于它的毒性剧烈，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们便称之为“冰毒”，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毒的主要原料是麻黄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438280" cy="3657600"/>
          </a:xfrm>
          <a:prstGeom prst="rect">
            <a:avLst/>
          </a:prstGeom>
          <a:ln w="88920">
            <a:solidFill>
              <a:srgbClr val="ffff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3352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麻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248520" y="457200"/>
            <a:ext cx="2514600" cy="3581280"/>
          </a:xfrm>
          <a:prstGeom prst="rect">
            <a:avLst/>
          </a:prstGeom>
          <a:ln w="88920">
            <a:solidFill>
              <a:srgbClr val="ff66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70572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麻成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200400" y="457200"/>
            <a:ext cx="2514600" cy="3581280"/>
          </a:xfrm>
          <a:prstGeom prst="rect">
            <a:avLst/>
          </a:prstGeom>
          <a:ln w="88920">
            <a:solidFill>
              <a:srgbClr val="3366ff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3581280" y="4191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麻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800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吸食大麻使人的脑功能失调、记忆力消退、健忘、主意力很难集中。吸食大麻不仅破坏男女的生育能力，而且由于大麻中焦油含量高，其致癌率也较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315200" cy="3727440"/>
          </a:xfrm>
          <a:prstGeom prst="rect">
            <a:avLst/>
          </a:prstGeom>
          <a:ln w="88920">
            <a:solidFill>
              <a:srgbClr val="ff99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457200" y="4572000"/>
            <a:ext cx="77724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摇头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疯狂的杀手：“摇头丸”是一种新型的毒品有粉红、蓝、白等不同的颜色，人服食一次就会上瘾，因为“摇头丸”的形状为药片胶囊状，  ，有各种不同的颜色，隐蔽性强，所以一般人不易察觉。贩毒分子就利用它来引诱青少年，其危害性很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10080" y="109440"/>
            <a:ext cx="3353040" cy="3776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403848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39625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可卡因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能够打乱人体机能和肾上腺素分泌对人体的调节作用，使中枢神经和交感神经系统产生强烈的兴奋源。非法使用可卡因可使人瞳孔散大、体温升高、过分兴奋激动、周身颤抖、痉挛、肌肉扭曲、变形，严重时可出现癫狂的幻觉病。大剂量的可卡因能导致中枢神经传导受阻，甚至可导致窒息。过度使用可卡因致死的人，大都是由于极度痉挛和心力衰竭所造成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315200" cy="3200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38862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Arial Unicode MS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Arial Unicode MS"/>
              </a:rPr>
              <a:t>吗啡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，是从鸦片中提取制成的最重要的生物碱。味苦、有毒，其颜色因纯度而异，粗制品多为咖啡色或灰色粉未，纯品为白色。吗啡在医疗上有镇痛等作用。但非法吸食、注射吗啡，严重危害吸食者的身心健康，导致精神不振、消沉，思维和记忆力衰退，并可引起精神失常、肝炎等综合症。超剂量吸食和注射吗啡，会导致呼吸停止而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8:45:0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dbc</cp:lastModifiedBy>
  <dcterms:modified xsi:type="dcterms:W3CDTF">2019-11-21T05:58:36Z</dcterms:modified>
  <cp:revision>19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