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jpeg" ContentType="image/jpeg"/>
  <Override PartName="/ppt/media/image4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4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B86-375B-4484-99E2-9E26DC69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56E-DBC0-4185-A21A-B0291CC1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8F3-97D1-4269-AF3D-93D7CD1C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4A9-12E2-4B8D-88A1-FED567E6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86BC-E8C9-454D-8F95-89B3D511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9336-BECD-457F-A604-DFDA894D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B82E-B77D-4BCE-BD56-F375307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5A52-D8B7-458D-A9D0-AB059BC7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953B-1339-41AF-B1AA-C4FE1F6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9C05-1B56-4A12-8351-7CE1C44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5E4A-3AA2-4AED-A53E-B67408E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096-2F4C-47B7-86C8-8E72CA72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9DDB-801B-42F7-B419-D4DD1DC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ED9-47F2-4E1B-8D7C-D50769B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E021-8E11-495C-B686-D0EA4C3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016C-7CF9-4C3E-9DC1-FEA88F0D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68A1-DE7D-4A87-B173-243BA9D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C94-F741-4109-9735-8CFADBE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002-F3D4-42C9-9FEB-D80AF61F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810-893B-4B2D-BC99-C289BE2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F66-7BE5-419B-B7F8-DD534F69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8E7-9B07-4A5B-A2ED-B156A63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0E2-E617-44B2-8FCF-299EFB7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F26-5979-4F91-A85D-6C62696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矩形 26626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矩形 26627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图片 26628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8B5-D67A-48E5-8A36-22E1167BD8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矩形 27650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矩形 27651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图片 27652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6101-EE9B-4911-9238-DCEFC9E792E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&#27773;&#36710;05.WAV" TargetMode="External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7.png"/><Relationship Id="rId5" Type="http://schemas.openxmlformats.org/officeDocument/2006/relationships/audio" Target="file:///tmp/home/.config/libreoffice/4/user/gallery/&#27773;&#36710;05.WAV" TargetMode="External"/><Relationship Id="rId6" Type="http://schemas.microsoft.com/office/2007/relationships/media" Target="file:///tmp/home/.config/libreoffice/4/user/gallery/&#27773;&#36710;05.WAV" TargetMode="External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29697"/>
          <p:cNvSpPr/>
          <p:nvPr/>
        </p:nvSpPr>
        <p:spPr>
          <a:xfrm>
            <a:off x="1905120" y="9907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1" name="矩形 29702" descr=""/>
          <p:cNvPicPr/>
          <p:nvPr/>
        </p:nvPicPr>
        <p:blipFill>
          <a:blip r:embed="rId2"/>
          <a:stretch/>
        </p:blipFill>
        <p:spPr>
          <a:xfrm>
            <a:off x="1252440" y="698400"/>
            <a:ext cx="7064640" cy="3811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0724"/>
          <p:cNvSpPr txBox="1"/>
          <p:nvPr/>
        </p:nvSpPr>
        <p:spPr>
          <a:xfrm>
            <a:off x="1219320" y="2133720"/>
            <a:ext cx="68817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什么是毒品？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4819"/>
          <p:cNvSpPr/>
          <p:nvPr/>
        </p:nvSpPr>
        <p:spPr>
          <a:xfrm>
            <a:off x="2050920" y="2133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毒品是指能使人形成瘾癖的麻醉药品和精神药品，目前最常见、最主要的毒品有鸦片、海洛因、吗啡、大麻等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33795" descr="毒魔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2771"/>
          <p:cNvSpPr/>
          <p:nvPr/>
        </p:nvSpPr>
        <p:spPr>
          <a:xfrm>
            <a:off x="466560" y="2349360"/>
            <a:ext cx="86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我国目前流行最广、危害最严重的毒品是海洛因，海洛因属于阿片类药物，在正常人的脑内和体内一些器官，存在着内源性阿片肽和阿片受体。人在吸食海洛因后，一旦停用就会出现不安、焦虑、忽冷忽热、起鸡皮疙瘩、流泪、流涕、出汗、恶心、呕吐、腹痛、腹 泻等。这种戒断反应的痛苦，反过来又促使吸毒者为避免这种痛苦而千方百计地维持吸毒状态。冰毒和摇头丸在药理作用上属中枢兴奋药，毁坏人的神经中枢。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矩形 32772"/>
          <p:cNvSpPr/>
          <p:nvPr/>
        </p:nvSpPr>
        <p:spPr>
          <a:xfrm>
            <a:off x="3234600" y="1052640"/>
            <a:ext cx="28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 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毒品危害人的机理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31747"/>
          <p:cNvSpPr/>
          <p:nvPr/>
        </p:nvSpPr>
        <p:spPr>
          <a:xfrm>
            <a:off x="3791880" y="76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毒品摧残人性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图片 31748" descr="摧残人性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35843" descr="摧残人性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6867" descr="摧残人性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7891"/>
          <p:cNvSpPr/>
          <p:nvPr/>
        </p:nvSpPr>
        <p:spPr>
          <a:xfrm>
            <a:off x="1979640" y="974880"/>
            <a:ext cx="61736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染指毒品的主要原因：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一、无知、好奇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二、他人的不良影响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三、寻求刺激，追求不良时尚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四、不健康逆反心理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五、精神空虚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8917"/>
          <p:cNvSpPr txBox="1"/>
          <p:nvPr/>
        </p:nvSpPr>
        <p:spPr>
          <a:xfrm>
            <a:off x="2771640" y="549360"/>
            <a:ext cx="409572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议一议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1" name="矩形 38918"/>
          <p:cNvSpPr/>
          <p:nvPr/>
        </p:nvSpPr>
        <p:spPr>
          <a:xfrm>
            <a:off x="1835280" y="32004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小学生应该如何拒绝毒品？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39939"/>
          <p:cNvSpPr/>
          <p:nvPr/>
        </p:nvSpPr>
        <p:spPr>
          <a:xfrm>
            <a:off x="3678480" y="1125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小学生拒绝毒品的方法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矩形 39940"/>
          <p:cNvSpPr/>
          <p:nvPr/>
        </p:nvSpPr>
        <p:spPr>
          <a:xfrm>
            <a:off x="1619280" y="2205000"/>
            <a:ext cx="7254720" cy="375156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在毒品面前不能存在一丝一毫的好奇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树立积极进取的人生观。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注意交友及社会场合的选择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增强心理承受能力，战胜学习中的困难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除了提高自身的防毒能力外，还应为全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禁毒工作作贡献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199" descr="0101"/>
          <p:cNvPicPr/>
          <p:nvPr/>
        </p:nvPicPr>
        <p:blipFill>
          <a:blip r:embed="rId2"/>
          <a:stretch/>
        </p:blipFill>
        <p:spPr>
          <a:xfrm>
            <a:off x="1219320" y="76320"/>
            <a:ext cx="7924680" cy="670536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197"/>
          <p:cNvSpPr/>
          <p:nvPr/>
        </p:nvSpPr>
        <p:spPr>
          <a:xfrm>
            <a:off x="6095880" y="4038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ff"/>
                </a:solidFill>
                <a:uFillTx/>
                <a:latin typeface="Times New Roman"/>
              </a:rPr>
              <a:t>生命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文本框 8198"/>
          <p:cNvSpPr/>
          <p:nvPr/>
        </p:nvSpPr>
        <p:spPr>
          <a:xfrm>
            <a:off x="1042920" y="981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文本框 8200"/>
          <p:cNvSpPr/>
          <p:nvPr/>
        </p:nvSpPr>
        <p:spPr>
          <a:xfrm>
            <a:off x="1219320" y="4419720"/>
            <a:ext cx="52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Times New Roman"/>
              </a:rPr>
              <a:t>人生最宝贵的是：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找一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在我们生活中存在着哪些</a:t>
            </a:r>
            <a:r>
              <a:rPr b="0" lang="zh-CN" sz="3200" spc="-1" strike="noStrike" u="sng">
                <a:solidFill>
                  <a:srgbClr val="ff00ff"/>
                </a:solidFill>
                <a:uFillTx/>
                <a:latin typeface="Times New Roman"/>
              </a:rPr>
              <a:t>不安全的因素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安全隐患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图片 13315" descr="j02129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2781360"/>
            <a:ext cx="417672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38320" y="83808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生活中我们的生命随时都有可能受到威胁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219320" y="152280"/>
            <a:ext cx="4792680" cy="3803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788000" y="3294000"/>
            <a:ext cx="4356000" cy="3564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9465"/>
          <p:cNvSpPr/>
          <p:nvPr/>
        </p:nvSpPr>
        <p:spPr>
          <a:xfrm>
            <a:off x="2124000" y="3500280"/>
            <a:ext cx="107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警钟长鸣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0">
    <p:comb dir="vert"/>
    <p:sndAc>
      <p:stSnd>
        <p:snd r:embed="rId8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924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412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5029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说一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Times New Roman"/>
              </a:rPr>
              <a:t>在我们身边有哪些活动容易造成伤害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3399ff"/>
                </a:solidFill>
                <a:latin typeface="Times New Roman"/>
              </a:rPr>
              <a:t>你有何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避免伤害的好办法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714640" y="685440"/>
            <a:ext cx="2895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关爱生命，安全出行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文本框 21509"/>
          <p:cNvSpPr/>
          <p:nvPr/>
        </p:nvSpPr>
        <p:spPr>
          <a:xfrm>
            <a:off x="1600200" y="464832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关爱生命，活出精彩！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001.MPG" descr=""/>
          <p:cNvPicPr/>
          <p:nvPr/>
        </p:nvPicPr>
        <p:blipFill>
          <a:blip r:embed="rId2"/>
          <a:stretch/>
        </p:blipFill>
        <p:spPr>
          <a:xfrm>
            <a:off x="1219320" y="76320"/>
            <a:ext cx="4647960" cy="3803400"/>
          </a:xfrm>
          <a:prstGeom prst="rect">
            <a:avLst/>
          </a:prstGeom>
          <a:ln w="0">
            <a:noFill/>
          </a:ln>
        </p:spPr>
      </p:pic>
      <p:pic>
        <p:nvPicPr>
          <p:cNvPr id="108" name="002.MPG" descr=""/>
          <p:cNvPicPr/>
          <p:nvPr/>
        </p:nvPicPr>
        <p:blipFill>
          <a:blip r:embed="rId3"/>
          <a:stretch/>
        </p:blipFill>
        <p:spPr>
          <a:xfrm>
            <a:off x="4572000" y="3027240"/>
            <a:ext cx="4495680" cy="3678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4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384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5644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温馨提醒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4760" y="2057040"/>
            <a:ext cx="338436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发生火灾请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病人急救请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交通事故请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报   警   请  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文本框 15363"/>
          <p:cNvSpPr/>
          <p:nvPr/>
        </p:nvSpPr>
        <p:spPr>
          <a:xfrm>
            <a:off x="5292720" y="2060640"/>
            <a:ext cx="151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文本框 15365"/>
          <p:cNvSpPr/>
          <p:nvPr/>
        </p:nvSpPr>
        <p:spPr>
          <a:xfrm>
            <a:off x="5219640" y="278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12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文本框 15366"/>
          <p:cNvSpPr/>
          <p:nvPr/>
        </p:nvSpPr>
        <p:spPr>
          <a:xfrm>
            <a:off x="5219640" y="342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12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文本框 15367"/>
          <p:cNvSpPr/>
          <p:nvPr/>
        </p:nvSpPr>
        <p:spPr>
          <a:xfrm>
            <a:off x="5219640" y="407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1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图片 15370" descr="数字003"/>
          <p:cNvPicPr/>
          <p:nvPr/>
        </p:nvPicPr>
        <p:blipFill>
          <a:blip r:embed="rId2"/>
          <a:stretch/>
        </p:blipFill>
        <p:spPr>
          <a:xfrm>
            <a:off x="5796000" y="9079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5372"/>
          <p:cNvSpPr/>
          <p:nvPr/>
        </p:nvSpPr>
        <p:spPr>
          <a:xfrm>
            <a:off x="5219640" y="20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11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3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7913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想一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一天，小明在家里做作业，有陌生人来敲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2.“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小朋友，这是神仙粉，吸了这个以后，就会比神仙还舒服，想试一试吗？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3.“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小女孩，你喝饮料还是吃糖？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教室发生了火灾，要疏散在室内的学生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wheel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人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的生命只有一次，让我们都来注意安全，关爱我们的生命吧！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9:06:23Z</dcterms:created>
  <dc:creator>jujumao</dc:creator>
  <dc:description/>
  <dc:language>en-US</dc:language>
  <cp:lastModifiedBy>Administrator</cp:lastModifiedBy>
  <dcterms:modified xsi:type="dcterms:W3CDTF">2019-10-31T08:11:27Z</dcterms:modified>
  <cp:revision>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