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11.jpeg" ContentType="image/jpeg"/>
  <Override PartName="/ppt/media/image9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  <p:sldId id="278" r:id="rId61"/>
    <p:sldId id="279" r:id="rId62"/>
    <p:sldId id="280" r:id="rId63"/>
    <p:sldId id="281" r:id="rId64"/>
    <p:sldId id="282" r:id="rId65"/>
    <p:sldId id="283" r:id="rId66"/>
    <p:sldId id="284" r:id="rId67"/>
    <p:sldId id="285" r:id="rId68"/>
    <p:sldId id="286" r:id="rId69"/>
    <p:sldId id="287" r:id="rId70"/>
    <p:sldId id="288" r:id="rId71"/>
    <p:sldId id="289" r:id="rId72"/>
    <p:sldId id="290" r:id="rId73"/>
    <p:sldId id="291" r:id="rId74"/>
    <p:sldId id="292" r:id="rId75"/>
    <p:sldId id="293" r:id="rId76"/>
    <p:sldId id="294" r:id="rId77"/>
    <p:sldId id="295" r:id="rId78"/>
    <p:sldId id="296" r:id="rId79"/>
    <p:sldId id="297" r:id="rId80"/>
    <p:sldId id="298" r:id="rId81"/>
    <p:sldId id="299" r:id="rId82"/>
    <p:sldId id="300" r:id="rId83"/>
    <p:sldId id="301" r:id="rId84"/>
    <p:sldId id="302" r:id="rId85"/>
    <p:sldId id="303" r:id="rId86"/>
    <p:sldId id="304" r:id="rId87"/>
    <p:sldId id="305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slide" Target="slides/slide23.xml"/><Relationship Id="rId62" Type="http://schemas.openxmlformats.org/officeDocument/2006/relationships/slide" Target="slides/slide24.xml"/><Relationship Id="rId63" Type="http://schemas.openxmlformats.org/officeDocument/2006/relationships/slide" Target="slides/slide25.xml"/><Relationship Id="rId64" Type="http://schemas.openxmlformats.org/officeDocument/2006/relationships/slide" Target="slides/slide26.xml"/><Relationship Id="rId65" Type="http://schemas.openxmlformats.org/officeDocument/2006/relationships/slide" Target="slides/slide27.xml"/><Relationship Id="rId66" Type="http://schemas.openxmlformats.org/officeDocument/2006/relationships/slide" Target="slides/slide28.xml"/><Relationship Id="rId67" Type="http://schemas.openxmlformats.org/officeDocument/2006/relationships/slide" Target="slides/slide29.xml"/><Relationship Id="rId68" Type="http://schemas.openxmlformats.org/officeDocument/2006/relationships/slide" Target="slides/slide30.xml"/><Relationship Id="rId69" Type="http://schemas.openxmlformats.org/officeDocument/2006/relationships/slide" Target="slides/slide31.xml"/><Relationship Id="rId70" Type="http://schemas.openxmlformats.org/officeDocument/2006/relationships/slide" Target="slides/slide32.xml"/><Relationship Id="rId71" Type="http://schemas.openxmlformats.org/officeDocument/2006/relationships/slide" Target="slides/slide33.xml"/><Relationship Id="rId72" Type="http://schemas.openxmlformats.org/officeDocument/2006/relationships/slide" Target="slides/slide34.xml"/><Relationship Id="rId73" Type="http://schemas.openxmlformats.org/officeDocument/2006/relationships/slide" Target="slides/slide35.xml"/><Relationship Id="rId74" Type="http://schemas.openxmlformats.org/officeDocument/2006/relationships/slide" Target="slides/slide36.xml"/><Relationship Id="rId75" Type="http://schemas.openxmlformats.org/officeDocument/2006/relationships/slide" Target="slides/slide37.xml"/><Relationship Id="rId76" Type="http://schemas.openxmlformats.org/officeDocument/2006/relationships/slide" Target="slides/slide38.xml"/><Relationship Id="rId77" Type="http://schemas.openxmlformats.org/officeDocument/2006/relationships/slide" Target="slides/slide39.xml"/><Relationship Id="rId78" Type="http://schemas.openxmlformats.org/officeDocument/2006/relationships/slide" Target="slides/slide40.xml"/><Relationship Id="rId79" Type="http://schemas.openxmlformats.org/officeDocument/2006/relationships/slide" Target="slides/slide41.xml"/><Relationship Id="rId80" Type="http://schemas.openxmlformats.org/officeDocument/2006/relationships/slide" Target="slides/slide42.xml"/><Relationship Id="rId81" Type="http://schemas.openxmlformats.org/officeDocument/2006/relationships/slide" Target="slides/slide43.xml"/><Relationship Id="rId82" Type="http://schemas.openxmlformats.org/officeDocument/2006/relationships/slide" Target="slides/slide44.xml"/><Relationship Id="rId83" Type="http://schemas.openxmlformats.org/officeDocument/2006/relationships/slide" Target="slides/slide45.xml"/><Relationship Id="rId84" Type="http://schemas.openxmlformats.org/officeDocument/2006/relationships/slide" Target="slides/slide46.xml"/><Relationship Id="rId85" Type="http://schemas.openxmlformats.org/officeDocument/2006/relationships/slide" Target="slides/slide47.xml"/><Relationship Id="rId86" Type="http://schemas.openxmlformats.org/officeDocument/2006/relationships/slide" Target="slides/slide48.xml"/><Relationship Id="rId87" Type="http://schemas.openxmlformats.org/officeDocument/2006/relationships/slide" Target="slides/slide49.xml"/><Relationship Id="rId88" Type="http://schemas.openxmlformats.org/officeDocument/2006/relationships/slide" Target="slides/slide50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857C-E646-41AC-9268-F3840BA9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BDA6-65AF-47C5-A831-AA506103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CF271-8770-451A-9635-4787976A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50817-C99A-47AB-9E6F-2532E203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082B9-CF76-4533-82DE-4554769C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EBB4C8-30C1-4729-8B25-D137A435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728B9-8E48-4784-B03F-AB9CB5B7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36700-98D5-437C-B53F-AFAAAD81C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648DF-BCD0-4B14-B5E7-AB0F4393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FFA0D-4288-45A8-AF0B-B747E4AA3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93830-84CE-42FB-8E12-84BBB710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92437E-EB03-4E7F-B916-87334CC13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C60-75C1-4647-A995-B09ACC9D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D5EBC9-8DB7-422C-B5C9-3C69A4AA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A3949-52CB-4FBF-B5BF-0AC75092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105BD-1BE0-4FB5-9A01-53E289FC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30586-1E31-40D1-ACFC-9065A950A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47CBA-5C17-4CAD-A355-6D84BEFD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B05214-E8A2-4D63-B9BD-26F99736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F7E77-F8A4-4765-A16D-83A719D3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D3ABEC-4EBD-4101-B436-845F9274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C912B-A1BC-4E5C-827F-E7CE85A8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1EB9A-61DB-4B30-85A9-67E69359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A2C9-85F4-4C14-A970-068FF8582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0328F-1C8E-4D00-A21D-87BA28F62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5FF2B-8C8C-43A6-B9C0-77A8E731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54F34-F764-48DE-A216-9DF31F73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690483-9F3A-42BB-B6A4-94F6450E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F0BDD-6899-48DF-A6E9-D1333A221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BE5A8-1A5D-48D0-8571-B9124C48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8D7E7-7723-488B-B003-9C5905A5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12455-FE24-40DE-8325-CC3593F6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4ED39-F933-48AE-9180-B53AB1E1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65063-0E95-4B2B-8D93-46BA175F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2CEC-5357-401D-A20F-C0B42A0D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49FA5-2EF5-4D79-A68C-46459C9C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916E2-D99B-4459-A76E-A7262ECE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6B78E-10A5-4271-BDB8-183739E44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ACFF16-B926-4D12-A2F0-0AE072FC4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0165F-71C3-473A-9613-F75DB265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BE8F5-095B-4C7B-9595-A570F87F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7EC629-9CEB-4033-A6A7-26CEDA96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9441CF-1B8A-4019-9CEA-C7AE6858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0B2D9-2954-42C4-989B-18F3F31E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D3866-FE8F-4A78-9FB2-3FE8AFB2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B203-7E33-4DF9-A057-6D2C5FDE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6A0BF-C65A-4F3E-A735-E3B042F7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25F1D-35F5-430B-96C4-3B3F5CC5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F70C05-F719-41AC-B4B6-A7142A90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1384D-D11D-436C-BEF5-2CBE2F563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2E878-9B74-40D8-A597-EBDB8E3C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C50F0A-102B-43DB-BB89-D7165EE5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CE152C-7B68-41F6-A10D-743348937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1FC68E-D6F5-4597-B2DD-96FB704E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D4159E-3ECF-4DC3-B1FC-9588678F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624479-C5E0-4698-ADE9-53279AECA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17BD-99BF-4CB7-9E9E-26AEE85B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BAAADC-6C9A-4923-940C-8FA2D389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BFAD6-D45A-4965-9C98-EB39330D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FA4E42-70C9-4CB2-880F-8C8F9DAF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48B9A6-02AE-48BC-81F6-F6DC49E2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C063E2-3CA8-4E2B-BDEB-8384E372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6537D9-AB2F-46D0-A26C-85BB79EA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EE7CCC-7D2E-4A48-B958-6C5FDADB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B523C3-53D6-437A-B7F5-B3318D51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07505F-A84F-426A-844E-7BC70C96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54A9BA-C3D3-4C02-9B86-D82B2EDF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7816-9918-4F19-90A4-8A24F60C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DF530-E279-445B-ABDA-2D2C2ADD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9FC29C-ECF4-4779-A564-8CB716E4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F2873E-965A-4780-9178-B0268BCFE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D73407-5270-4F2B-AD54-AC1DA45A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D9F86C-9F7C-4257-98BD-2FC3E0DF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DFA0CB-C4C5-4504-A980-DD061E9D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B45306-4A84-461C-BAB9-3A0A41C1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074E52-440B-49EC-9C11-678743CCF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3CFB71-D1D0-419F-B27D-878B5A1E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70D87C-72CA-4B2D-8E4B-22E02F7EC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A43C3-821A-4818-8B79-32F042F6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DCC5E7-754B-489C-9526-734EE551D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911D44-490E-45F2-8023-B4D75C6B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3AD1C6-837C-497C-B747-10513208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CEA1F1-4EE7-41E0-A201-CA95DE273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B8F1D7-2198-49BD-BAE2-D4D277F1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BFCD73-EE6B-495B-9A56-D1C7B760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CC2AB2-4B52-4005-A9E2-EB0626FC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419035-BF52-4711-BB1C-4CD841C0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86E9DE-07B2-48CF-BD49-6EACA1F3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3D2028-37D4-42BA-83BF-38E7F72A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7CF6-CBD7-454B-9369-0C0A3BEE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6C00AC-B812-4C61-B2AC-695BC8BD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91160E-BBF4-44E5-B65A-D920B4573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D1A0C8-CBB6-4E83-BD1F-9C9B25B5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AADD53-3C3A-45AD-9754-0E37D84B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581D51-4006-4093-829B-024AA485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C2280F-4ECC-4FF0-9484-67BE56EE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6FB407-67D1-4541-9D36-F2B02D09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19FDB8-37F2-4538-8A88-7DCDFE83A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E17BA9-8DC6-4DB6-90E4-DC2ADC355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52D9B5-E7CC-4519-96AA-43E0528D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1CC9-6687-4A46-B3B8-280D9B7A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701DE0-64E4-400B-8B97-51C5B07E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C047F8-34F2-4D8E-88ED-840A32B21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729CE1-9D01-4286-8605-F25CDE60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079438-02EE-4A23-ACA7-21DB60CE3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3AFD88-3364-4A76-94CB-1A043FCC8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1E9645-0F3B-4D14-A6BF-06DDBE5B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2C2292-C529-48FA-BA16-CA7A4B26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C001A1-0DC9-4D00-8A5E-05C8EB20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8DAF14-2AE5-4B60-8E91-3B15C7DE2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A2F131-76CF-4D8A-8842-BAB2CF57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7E63-CDA1-433D-BFC1-504AA8F50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D9A5-6C36-4339-8A9C-5090999D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E2A4F6-E35D-46A6-81BD-D20F1AC2A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C46721-3DF5-439D-884C-24A70090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D21F5C-32C6-4F84-A3CD-C69617EA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0A9F32-163C-4C60-8FD2-42E97D8AF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3B3A6C-3CF9-4A8D-8CC7-97D52A667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4639AE-A284-4084-A116-BA258C10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44594C-DDDB-4620-96F6-D9D00F70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33C8F2-8546-4F16-BC56-CC1E6B09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6F638B-2D69-4F35-863A-D17839B0D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6416BD-6986-4B05-BF61-B308608B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F779-6D38-4905-96DE-C627A365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5C87FF-3846-4A96-90A5-DD3E8A983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B5837F-369A-4F3E-B3E3-B13B7E1F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E6F39C-6C0D-4992-9A8B-94D93B40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C5EF78-4E08-4FB9-9479-D1B0752F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E16F53-C496-4CD5-BC39-3BABFB11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6BB8B7-376D-4A3B-A36E-CB1D2A47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AFD268-602E-4F09-931C-E2749E925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18C562-0DBA-4232-A5E9-DF179E19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2F2B51-E7F7-4DA9-88A5-737A0180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428D75-234A-421F-94DF-0B46B650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49DB-FA7D-44ED-AB78-DDA936D4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5D57F7-59BD-49BC-9FFF-159A77B0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BF104A-D96E-483B-BD58-B5D4A22A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4D3CB7-7AFE-4E72-BADE-586F960E5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670990-14C9-42EA-82B7-6A627667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C5C1CA-6B6C-4A54-BD39-5F268B4D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318430-73C0-4D89-A290-32FC942C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205F2B-AE75-4994-8201-2F033526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CD4C1C-D292-453E-8541-BCC3DF22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404C81-3CC7-483A-879C-B1206219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933079-F0FF-4C57-9049-7056A0D2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5ACF-F392-4277-9406-09ECFFDD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16C83B-0B57-472D-A289-3CFEADDD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D61919-8BC7-49F5-9812-6B81478B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CB7ED4-5293-45E1-A702-60707B7C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EB4FA0-DBC4-4A0C-AA8E-DADE4D85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01776F-1258-414B-9C51-1D12F7ED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52C894-41D6-49C4-AB28-F1B2EA4C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39F7C0-3350-4C68-B83A-07EF0750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5FE232-DD47-4772-939C-75C49BCC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23396A-718E-46EA-815F-2C208014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E24E76-E1FA-4BFA-9154-164FEBB4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15DD8-84B0-436F-A797-15D01F41F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796B99-86CD-4799-A0E8-749F6A39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CC6C21-8101-42FB-B564-ED0F159A3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28D4AF-06C1-40BA-BC47-FBF10788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04A795-BE49-4854-917A-0CD4158F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F645B2-FE04-4045-8494-12E44CFD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D18B3D-DB7B-4F24-A493-7EF6F093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675793-3ACC-4938-BDEB-7C48702E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0FDF09-A5B8-4AED-B43A-27241A28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F39308-C4EE-4BD8-BC88-4EFE61A5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618417-9948-4837-AB11-4D2D2917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5FBED-750B-4EF7-AABB-DB213F6F5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DDB249-7946-4BB9-BE27-03382356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D84B13-3EC9-497B-BE31-1CFAD926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DA8E3A-3CB0-4C1A-9D8E-6B117D8F7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E7D16E-6EA7-490F-9739-FF6332A18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E4A6A6-F618-4918-91DF-155B8B124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5DAE9B1-0B2A-411F-B24B-8621132D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2C694C-FAA3-41CF-839D-F8F675B0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C7EB7C-76C7-44DD-B355-8E64F3B8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176188-6974-4717-AB62-E04AE4CB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DFED0F-C7E8-465C-9689-72814810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E7AA6-4198-422D-A060-8B761D2C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421A86-ACF4-41AE-B8AD-BA8DFFAE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AF6F4B-F34A-4CA9-A758-70497EA3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645F6F-8613-4BBD-A0CA-8D3C9492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C55972-6FA3-4B70-B41A-FAEB5E28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6D1A5D-9167-4FF0-AE29-9F0F808D7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C1AAB2-E723-46E9-BE26-0C7C52D8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C3A5987-44DC-4724-98CB-EFB1CBCA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3F53940-397A-4C37-B1F1-9A9A658C3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BAEEEB-464F-45FD-9321-BFFE8614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B4F6F7-93F4-4EB0-9F6C-6790E61E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CBC9C-D371-4633-B1F8-B7AC5DA78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8D3C3B-8E88-4477-95FC-70D49BDC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99B7CB-6C23-4970-A6DE-BC0831A0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A070B6-9F21-4DE1-9013-8360D9D5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07FD27-8787-486A-8F1F-E001DA9D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C84025-5FBA-43C3-BF36-8D8EC4D7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E43E56-4C25-4E6A-B969-51FB201F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FD2EB6-A527-4C0B-B9B6-B855FB089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BD2AAF-C0CE-43D0-90AE-C273155C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24899E-47CE-4FA4-9F74-A9812A49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B09690-0AC9-4066-8227-E743686F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3A92E-A275-4208-8794-64ED6873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4AA7FC-7E26-4AE8-A294-E66F835D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B7108F-EDCB-4F84-B008-F1B539C2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DD4EBA-FB91-4D4A-8E80-EFC4203A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266F5A-36CB-40F3-8DD8-CC4466AB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EE63B74-1871-422A-B24D-63AFBF2C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B05485-B6A8-4867-B5E5-8274C9CD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ABADBF-F01C-4DA9-9FA2-2EF43558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7FA361-657C-47C7-844F-A2F76C8D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D91826-879E-41A4-AF97-AA4E90A21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7453EF-E0EC-4FE6-B741-FD707422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37F81-9DB5-4B6D-8E69-9FDBBE64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FB15A9-991C-4B1D-BC13-69002C9C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6AA2913-A3AC-4B65-A98F-A326DA97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DC362A0-87C5-426C-86A4-306AA0470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89D087-BD3E-42A4-8A1C-CEB2B2B7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52905E-ED60-49AB-9040-17F9045B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E5314F-64E3-40F5-B60A-ECEBF32E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2C4072-1833-4DD2-A02B-88237D9B3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D2E26B-5FF1-4114-84EC-D175145A0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4FC284-55B9-47E9-BA47-7CB6AE8D6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234F14-FFAA-4925-BA99-46DE595B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29BF-7A01-49A3-9224-D9B6DA42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8C4B1-D24C-4D6F-8AC0-E9DE8C2FC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91F05C-EAE9-45A1-A68C-E23214E3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642914-971B-463B-9DC1-BB040F269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54E3FE-57BB-45B2-8D45-7EA0B0CB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923019-7659-4FB4-A0CB-934E1A3D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2AF730-08A9-449D-92F7-14418B79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4F68D3-FF32-41EA-AF70-07FDCD6F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54CE78-F7C7-43BE-AA3D-39E2F1CA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A62BAC-F65F-4D1A-B684-52032E99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0CB4A21-B2D8-479C-9145-B58B06D27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A51D56-DC25-47B4-AE25-AD856D2B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254C8-FB0B-4FF1-BEAD-ECE56B06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676BD7-1963-4020-894B-4FE441F5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3779EE-0507-42F5-B473-04CCB5CD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BADB7F-48F7-4FE4-B88E-AED187288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052E6B7-0C88-4BBA-9A8D-456D1A97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1E88DA-27E0-4CB1-BE07-AA31C51F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EA068CD-C5CE-4D42-A571-9D797135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551450-BEAD-415D-BB9B-BB2C4DB1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6904C6-FC7E-4904-AFA1-C6BB9B3B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8301A9-3F3F-4806-8B56-FCB860EF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3BE9D1-CFBA-4046-B4C7-D5F500C1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81EC3-405F-4833-956C-F2F4A1A1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52CEE3-EB8A-48F4-887B-99E11FB8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6C2EAD-58E7-4F00-8C8C-53684A960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7798BF-F44B-49E3-BFFC-D2887596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9DA4A3-B44C-4344-B682-A1DEA2774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F6530A9-D25C-456F-BD9F-AF722AC6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75118F-849B-4419-880B-809B3FF7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A76A50-3781-4529-8D2E-311682A58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C9D560-FE6F-483C-BBDE-7772EC02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7CBBD2B-9AC7-40EF-A040-C163ED98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607429-2334-4EFB-BB6D-E15B0CC4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BEBEA-7C3B-4914-8778-F9490E3F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2460D7-84CA-439B-BCCB-7BEB1F94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5C406C9-26FE-4331-8FAE-52A40985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0727A4-514F-44B2-959A-DAC80130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55E568-8022-4618-8874-2F1E69DE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6C43D8-9333-4538-92B0-AD7A50C0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7982B7-2F20-4C8C-802A-5ECFB2EA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AD1085-1AC9-4832-8B8B-63079393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26BFC6-8E02-4ADE-BD1B-3E151891D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A5E08F-9D05-46C5-9A6E-A58DDB8D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DF3C98-F034-4B84-9283-757D624E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C1A5E-96B1-4B19-A520-14603BB4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6C5729-9137-4B30-B6CE-520109CB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5DAA25-1E72-433B-B67F-D74F9EA1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7CE15B-B94E-489B-9ADC-C3B8B3F0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0BEFE5C-785C-48EA-803B-F97E259F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66DEDD-FE3A-4D46-B003-04C22C95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EBA8F1-BD2B-466E-90B1-D830B0EA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70ECBC-2450-4336-B1C8-74347855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9B1F26-2988-4AF8-9961-375594BBF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70D1DF-233F-420A-A969-F7CD0FA4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21B856-5150-4A36-B27E-241A32B3A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A3D3F-1274-484C-8175-6F66DF008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298BB9-37BC-4B50-AE82-46A866D0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A1C72A-A627-46D5-8A85-15BC28F8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167F9C-F21D-4B81-ACAA-D22E1C69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4626CC5-EDFC-427A-B05E-DFE21148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B2DBF4-608A-457F-8679-D35CFF477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E7D980-6BD1-4189-9DB1-B6B16EC6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BEFF52-A7AD-4B35-9772-7757BEBC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3EA50B-08FB-410D-A3C6-61770A80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67B642-59ED-4179-8180-DBF3D78D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8447F61-1A40-4C92-B7C8-0DAC9401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571F8-C011-421D-82F0-1DB873561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C2701FD-AF4E-4282-86CC-1B43152C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9661A1-B191-475D-918F-08AB7B86E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06240E-839F-4933-9C74-83FAA492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07ACA2-8EFC-49C7-B9A9-4E488913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3DA031-A9C7-41C6-97BA-86F1B793E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85D88B-F8DB-4F67-B86F-9CDF9DD05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F0354E-AAA1-4439-96C1-47667211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4CFE1DA-50FE-4177-AF3B-7EE4C086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3E566C4-1582-4B99-B9B2-681DBB1C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01B009A-3703-4EE5-82ED-A0472D2E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E198E-A6C4-4F09-9C87-E72C9CCC4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6669E3-388F-4AC5-A66E-0DDEA3F4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6E96F57-0499-4C6E-8D63-86B504B6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C6E215-03F8-466D-8DD2-604ABEF6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00610E-EED7-442F-82B6-BC85AD0A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638215-9B91-41FC-9D6D-CCAA918E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5E5197-BA0E-400B-B032-4E9E0AE19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63C6E1D-699B-4CB4-AC5D-1BEBCE4D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E4A0C6D-1031-4DE0-8A69-A8F2E0D5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D9C8653-F664-424F-9448-878B0B06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97E9E68-2596-4B65-9519-F169FF27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11930-D2CA-4CEC-9834-75D97F50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23B4C5-88FE-4BE9-AB67-CA81171A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88E481F-0EC5-45E4-8962-56FBA24D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2CDEE7-16BF-456A-A201-74036DA6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464F38-E44E-4D6E-88A6-7066D8B4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FAE6F1-F6B9-428A-9060-89437A55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567341B-DD70-405A-81A7-0702ECBA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71F2A6B-9670-49A1-84ED-87B33C3B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03D4127-0E7A-4002-A4B4-007A3E8E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DECB5FD-A19F-44F9-B0D5-F8B4A1D79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40078E-EBD9-4DC9-ADEE-1F1E3F8B0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AE601-0AC3-46F5-A01F-7764BEC4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DCF5D52-8C16-4497-A142-D32F99CE3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6E6940-4A85-4609-81CD-8334DAE7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7A3A51-6B0B-452E-8A66-D135658F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C29C47-CC92-4292-8FC4-1E6873F5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170818E-888D-4C7B-B266-04624616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C6085FB-D8A6-4A9C-AAA2-A1A7AC332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26B16B-0DF4-4D3E-94D0-7CFE85D6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D901164-6A0C-4A78-9242-C005BBA2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202D34E-C746-4A97-8142-E52C3FA3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0FDB740-8B46-4951-BB29-377E5B9F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D94C-C661-4420-B243-20287EF5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98671-9D81-41F1-8F25-4DE63699E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7FFF6C-7A21-44BC-B951-0D303D58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F44800-3AE0-4860-A6D3-FA426794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DFB5AA4-B4F2-432E-8583-49DC2635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E48705C-19D7-445F-9AA1-5A906523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D754B7-EF5B-41F3-85A3-2931027A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8549D6-E5FD-44BF-871F-A7AEA28A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C4D2567-374B-41BC-92A3-817A2AFD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9C126A-5070-49CF-A647-FC6587BB7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0CC0FA-FAF8-43BC-BBB0-1F8F77B6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0B1C30-D5AE-4F7E-9C54-3D325715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64F31-1763-4462-8A15-6F8695E9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402C7A-D2DE-4663-B489-C2258380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8771164-2848-4B5E-B234-907511AD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170858A-61D1-4830-A8A1-C9D40A2B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A787BCD-C266-4D78-B430-209CC120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0EA3D8-1FC8-485C-9F6B-709E4D37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F8DCD0C-785F-4200-B8AE-13E6A267B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29276C1-48ED-4ED0-ADBD-19AF347A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4BEAEB-2E53-4709-BDD4-96257ECC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07487EC-7AA8-4298-8289-A08FABD0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504E50A-EF23-4ECD-8385-4507C47D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10401-BA0A-443E-94BD-505D8E53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45B479-3278-4BF6-A0FA-9D395A3A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82B0157-4C98-48AB-ABF5-1B74FF2BB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98AF0B7-7B1F-4543-8BE4-E769C324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27A492C-E6C5-4340-98D1-B6FA1E191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C5FCC27-9991-41D6-B128-F2869DFD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AAC6BD8-001B-48F9-8C76-335B55BB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6474DEF-5025-4DC0-8306-A031EF5A4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BD573A5-6022-49F4-A968-88CB449C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083AEB-1606-4195-9CD9-BBD6F2A15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F788247-F10E-42D7-9BE4-302D5F0D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B7F42-AB70-47C6-A87E-2D481D2C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644076D-D88B-4395-A4FC-F5071275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4F273D-AFA8-4844-BF5A-2E4EB813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841901-7CDF-4F51-9893-93005117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7ACE8B1-9AF9-41A1-9C1B-87E219F5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4B50B5A-6F57-42E9-A13E-6DE47F047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D1261C-17A6-4B37-A2AA-8D9CE818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BCC5A1F-F865-4BA3-87EA-4C6BB230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704D696-FDD9-4713-B8AA-BEC3A452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F4510C3-6231-4424-8979-CD2063E94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A01DD1E-FDD3-4F2D-AE58-61E930C2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57626-0988-498D-929A-7938AFED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6AB0D07-1A13-4216-AC8F-3C710AD9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9B961F1-79B5-4737-8AD8-626571DB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C9C89CD-B723-41D3-A6B5-A5549A9E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D0B1FE-3DB6-4FCC-B598-4B565E63C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0B268C1-F070-4350-AE3E-D3F0956A6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388D6-4D90-4E06-A4FC-0917C84B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3EE25-612C-4DA0-8985-4C9473A0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A994F-9711-4657-BB12-8A151526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EFAF8-6449-47EB-A601-0C5628047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7A8F1-774D-4CF9-9F1E-BC6532A7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C49-F991-4298-B76F-9AD9796E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C6FEEF-174C-417D-9155-09B85D34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5C6DE-63A3-4FCB-B28B-5FAE0C6D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9D2FD-4B79-42D3-95F6-7F861417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FAF51-8525-4284-BFEB-0FCDA0CD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E2B22-1CC2-4A52-A62D-499DBDC7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B3C6C-8703-4E9A-B537-0C179E6D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81DDF-B721-481F-B41E-5C9E4088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260C6-48B9-4094-93A0-CABD5AF4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CACD9-B7A8-4954-94BD-0E85E6CF2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E3F12-AF85-4753-8C59-28D5D06E2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6D38-D6AC-405A-9E7D-EFFFA2B6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96715-874F-444E-99F6-47184B9C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45193-A970-4D81-AAF2-77C54F4D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51D23-F53A-48AA-837D-BD231E90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342FC-42E2-4737-8D3A-5819F7F7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8E1078-6B2D-44ED-9DCF-DA37A413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5C120-4FCB-4D6E-8CBB-809676887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E1403-0283-4600-AF65-30DE8D1D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4AB11F-8130-4269-951A-B7F17BB0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94F5D-F681-479D-80D7-FCBF18A9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3BD3C-B06A-4ECE-80FE-587861FD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ED3-084C-499D-BF33-E3448654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9BFA46-5586-4609-B9DE-200DFE2B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774FC-AE67-436C-BCC1-5CCA8234C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2944C-5394-475E-9C92-A5EED2B9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33372-5F5F-4BF6-8261-3FDCBACEC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02D0A-887E-41C7-A53E-22ABD79A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C76E8-77A1-47B4-82C7-84A8FC09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5F13C-4967-4AB2-AF02-D4D3F44EA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048A3E-1828-447A-8788-60208B35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359F7-35B0-4C55-AEC4-7AD09336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B6A43-CB44-48DB-BE1E-1A26358B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FB46-5BAC-4C69-89CD-AA6DF7A4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F9461-1DDB-43FC-A812-75CE49F9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52F0CF-581D-4848-9E89-51B244B2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8E2B0-4839-4300-8195-3E1071E45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6FD60-5D53-41EF-AC4F-C72068D8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36A1B-7B1D-44BA-8355-CAD9240E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FFAB3F-7D09-4BCA-AFF8-44AA6081E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AD81C-E655-4D7B-A963-23B91B03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4F9A0-0934-4EF8-B417-43AEE203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FF2EA-ED1F-4925-965C-65B58CA5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CFE7D-E467-449B-A78D-4B4594C1E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1275-7AA9-488D-9020-F96B39B0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466F6-1A0F-4C60-938A-9CBD1915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B5CF2-561C-42D3-984C-6E7B7DF4F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EBCC9-1037-4583-A54A-CE478A1E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7F030-0FFF-44B6-AD33-9711D3AF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08396-4E74-41D4-B694-BBD1791F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27DB8-3BA2-447E-AFF2-D5C2C1CB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6CBFD-BEEB-4E43-915A-D58CC83A7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0F6E24-4900-4945-84D1-35F93D83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AD6F6E-E743-4773-9404-E245C96E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0037A7-4AF6-4721-AC18-6BB26848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E11A-8992-4D92-B348-07FDA6CABF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C77B-2274-41FA-A042-F97A89E8A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7476-FD33-482B-8F9B-097DB71B0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BF66-5FAA-4450-85DC-48B7C7B75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2BA0-B272-435C-9BB8-C19917315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4245A-7EA5-4A80-B45F-2C8111A9D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90C0-D0DB-45A1-9E4E-D38422D4D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302B6-A360-4B9A-8B55-3284E79CE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07DF3-3E07-4592-8FDC-4C60D72AD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E010-4985-4CCF-946C-0F1D8EECE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C5F5-5FD7-430C-8097-062208B08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4552-2E28-403F-B7EC-6C2B6792B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46A0-3558-44FE-9B96-0E373E231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54994-9A6C-4DF1-A2EA-DB5533FE8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B1D2-E425-445A-A7AB-474569E9A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DC2A-84D7-4F8D-A8B8-E7A76316B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99DE-9C29-49DE-94FA-60FF91E45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7DED-7D31-4545-BCEE-35227E535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FCCF-0315-4155-A086-767EDF2E9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06EA-EFB9-4F19-A437-725296338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9EF8-E54C-4B63-844F-53040434B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A65B-8295-4370-8032-0EF69D1865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5F51-3E22-4436-B976-A68F2BF22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09EB-1BAC-493C-8DEF-DAA565FBB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C58D-226D-4456-9B22-ADFF394B9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50C1-A378-42F4-97FF-FFADF23423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4DD7-6E0D-473D-AB60-7D57E1384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3199-DD0C-4F77-8D02-39C744BA4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5DA14-6D8E-46D1-A95F-2002CBB75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F04D-8922-4022-8570-B60C7CC28B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B300-1B23-4C61-BF87-78734F1E1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573E-CAB0-4D17-BB89-12C7DAAB88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E791-E1F5-42E8-BE85-F97D128DC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780A-9906-426F-ABF8-A6AD81566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1085A-3B7D-4B4B-86F5-33CA399B39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4193-FDB3-4DD7-BD36-4C92F8D9F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中国英语教师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ECC6-EC21-434C-BB0F-82EABC802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9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9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9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9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9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9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9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9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9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矩形 43012"/>
          <p:cNvSpPr txBox="1"/>
          <p:nvPr/>
        </p:nvSpPr>
        <p:spPr>
          <a:xfrm>
            <a:off x="1692360" y="1700280"/>
            <a:ext cx="5538600" cy="182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珍爱生命，防范新型毒品</a:t>
            </a:r>
            <a:endParaRPr b="1" lang="en-US" sz="2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18" name="文本框 43013"/>
          <p:cNvSpPr/>
          <p:nvPr/>
        </p:nvSpPr>
        <p:spPr>
          <a:xfrm>
            <a:off x="4427640" y="4221000"/>
            <a:ext cx="36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  <a:ea typeface="宋体"/>
              </a:rPr>
              <a:t>仙女中学  王小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7" name="内容占位符 118787" descr="10"/>
          <p:cNvPicPr/>
          <p:nvPr/>
        </p:nvPicPr>
        <p:blipFill>
          <a:blip r:embed="rId1"/>
          <a:stretch/>
        </p:blipFill>
        <p:spPr>
          <a:xfrm>
            <a:off x="611280" y="333360"/>
            <a:ext cx="770580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8" name="内容占位符 119811" descr="11"/>
          <p:cNvPicPr/>
          <p:nvPr/>
        </p:nvPicPr>
        <p:blipFill>
          <a:blip r:embed="rId1"/>
          <a:stretch/>
        </p:blipFill>
        <p:spPr>
          <a:xfrm>
            <a:off x="611280" y="404640"/>
            <a:ext cx="792144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9" name="内容占位符 120835" descr="12"/>
          <p:cNvPicPr/>
          <p:nvPr/>
        </p:nvPicPr>
        <p:blipFill>
          <a:blip r:embed="rId1"/>
          <a:stretch/>
        </p:blipFill>
        <p:spPr>
          <a:xfrm>
            <a:off x="395280" y="189000"/>
            <a:ext cx="8136000" cy="56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文本框 126977"/>
          <p:cNvSpPr/>
          <p:nvPr/>
        </p:nvSpPr>
        <p:spPr>
          <a:xfrm>
            <a:off x="1332000" y="198900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横卷形 126978"/>
          <p:cNvSpPr/>
          <p:nvPr/>
        </p:nvSpPr>
        <p:spPr>
          <a:xfrm>
            <a:off x="1332000" y="1773360"/>
            <a:ext cx="6192720" cy="244764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记住血的教训，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Times New Roman"/>
                <a:ea typeface="楷体_GB2312"/>
              </a:rPr>
              <a:t>远离毒品的陷阱与深渊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9" name="联机映像占位符 66570" descr="02"/>
          <p:cNvPicPr/>
          <p:nvPr/>
        </p:nvPicPr>
        <p:blipFill>
          <a:blip r:embed="rId2"/>
          <a:stretch/>
        </p:blipFill>
        <p:spPr>
          <a:xfrm>
            <a:off x="179280" y="189000"/>
            <a:ext cx="7272360" cy="6483240"/>
          </a:xfrm>
          <a:prstGeom prst="rect">
            <a:avLst/>
          </a:prstGeom>
          <a:ln w="0">
            <a:noFill/>
          </a:ln>
        </p:spPr>
      </p:pic>
      <p:sp>
        <p:nvSpPr>
          <p:cNvPr id="1520" name="文本框 66571"/>
          <p:cNvSpPr/>
          <p:nvPr/>
        </p:nvSpPr>
        <p:spPr>
          <a:xfrm>
            <a:off x="6901560" y="404640"/>
            <a:ext cx="20091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  <a:ea typeface="仿宋_GB2312"/>
              </a:rPr>
              <a:t>了解新型毒品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文本框 143361"/>
          <p:cNvSpPr/>
          <p:nvPr/>
        </p:nvSpPr>
        <p:spPr>
          <a:xfrm>
            <a:off x="900000" y="2205000"/>
            <a:ext cx="72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  <a:ea typeface="宋体"/>
              </a:rPr>
              <a:t>青少年禁毒教育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1" name="图片 107523" descr="04"/>
          <p:cNvPicPr/>
          <p:nvPr/>
        </p:nvPicPr>
        <p:blipFill>
          <a:blip r:embed="rId1"/>
          <a:stretch/>
        </p:blipFill>
        <p:spPr>
          <a:xfrm>
            <a:off x="539640" y="189000"/>
            <a:ext cx="8136000" cy="57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横卷形 169986"/>
          <p:cNvSpPr/>
          <p:nvPr/>
        </p:nvSpPr>
        <p:spPr>
          <a:xfrm>
            <a:off x="1042920" y="1916280"/>
            <a:ext cx="6913800" cy="2016000"/>
          </a:xfrm>
          <a:prstGeom prst="horizontalScrol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擦亮眼睛，保护自己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矩形 176129"/>
          <p:cNvSpPr txBox="1"/>
          <p:nvPr/>
        </p:nvSpPr>
        <p:spPr>
          <a:xfrm>
            <a:off x="611280" y="3068640"/>
            <a:ext cx="5976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珍爱生命，远离毒品，谢谢！</a:t>
            </a:r>
            <a:endParaRPr b="1" lang="en-US" sz="2800" spc="1" strike="noStrike">
              <a:ln w="12600">
                <a:solidFill>
                  <a:srgbClr val="b2b2b2"/>
                </a:solidFill>
                <a:round/>
              </a:ln>
              <a:solidFill>
                <a:srgbClr val="3399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矩形 122881"/>
          <p:cNvSpPr txBox="1"/>
          <p:nvPr/>
        </p:nvSpPr>
        <p:spPr>
          <a:xfrm>
            <a:off x="1692360" y="1989000"/>
            <a:ext cx="5616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2600">
                  <a:solidFill>
                    <a:srgbClr val="339966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常见的新型毒品及案例</a:t>
            </a:r>
            <a:endParaRPr b="1" lang="en-US" sz="2800" spc="1" strike="noStrike">
              <a:ln w="12600">
                <a:solidFill>
                  <a:srgbClr val="339966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3" name="内容占位符 114693" descr="06"/>
          <p:cNvPicPr/>
          <p:nvPr/>
        </p:nvPicPr>
        <p:blipFill>
          <a:blip r:embed="rId1"/>
          <a:stretch/>
        </p:blipFill>
        <p:spPr>
          <a:xfrm>
            <a:off x="4284720" y="476280"/>
            <a:ext cx="4859280" cy="6048360"/>
          </a:xfrm>
          <a:prstGeom prst="rect">
            <a:avLst/>
          </a:prstGeom>
          <a:ln w="0">
            <a:noFill/>
          </a:ln>
        </p:spPr>
      </p:pic>
      <p:pic>
        <p:nvPicPr>
          <p:cNvPr id="1524" name="内容占位符 114694" descr="07"/>
          <p:cNvPicPr/>
          <p:nvPr/>
        </p:nvPicPr>
        <p:blipFill>
          <a:blip r:embed="rId2"/>
          <a:stretch/>
        </p:blipFill>
        <p:spPr>
          <a:xfrm>
            <a:off x="0" y="476280"/>
            <a:ext cx="4211640" cy="583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5" name="内容占位符 116742" descr="08"/>
          <p:cNvPicPr/>
          <p:nvPr/>
        </p:nvPicPr>
        <p:blipFill>
          <a:blip r:embed="rId1"/>
          <a:stretch/>
        </p:blipFill>
        <p:spPr>
          <a:xfrm>
            <a:off x="395280" y="189000"/>
            <a:ext cx="828216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内容占位符 117763" descr="09"/>
          <p:cNvPicPr/>
          <p:nvPr/>
        </p:nvPicPr>
        <p:blipFill>
          <a:blip r:embed="rId1"/>
          <a:stretch/>
        </p:blipFill>
        <p:spPr>
          <a:xfrm>
            <a:off x="755640" y="189000"/>
            <a:ext cx="7704000" cy="6462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0-23T02:26:22Z</dcterms:created>
  <dc:creator/>
  <dc:description/>
  <dc:language>en-US</dc:language>
  <cp:lastModifiedBy>Administrator</cp:lastModifiedBy>
  <dcterms:modified xsi:type="dcterms:W3CDTF">2019-10-23T02:27:34Z</dcterms:modified>
  <cp:revision>2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098</vt:lpwstr>
  </property>
</Properties>
</file>