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40.jpeg" ContentType="image/jpeg"/>
  <Override PartName="/ppt/media/image13.jpeg" ContentType="image/jpeg"/>
  <Override PartName="/ppt/media/image30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41.png" ContentType="image/png"/>
  <Override PartName="/ppt/media/image31.png" ContentType="image/png"/>
  <Override PartName="/ppt/media/image6.png" ContentType="image/png"/>
  <Override PartName="/ppt/media/image3.gif" ContentType="image/gif"/>
  <Override PartName="/ppt/media/image29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3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A8C-2E79-42ED-A580-798032C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BB8-5A97-4CA9-BC2D-99A9A7B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EF7FC-3898-435C-B3FA-576B970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FB749-FDFE-4FF8-AA46-D038193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4A254-3C00-4476-8062-1A27833C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9D99D-FABE-489E-A24B-23953A2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F4BB9-F35E-48A9-AA26-D544476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71E3-CBFA-4DC8-8CE7-BE152DA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4AE8F-D1FF-4ECA-9BD3-DD91F10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747D6-32E9-4730-8908-5D1BEE70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A249A-E4ED-4A31-8C5B-2303C5D2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F4C39-314E-4378-8C35-AC001BDA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A57-A148-42C2-957C-FB76465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2EAF-0244-4489-98C9-63723DB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1B941-8BC5-4749-993A-7B2C7480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F430B-F74E-4A4B-B0E8-23176FE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E1D15-50DA-4718-A0BF-421B499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5E396-2A35-4957-B7BA-1F2F648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49AFA-5B48-454A-8BCF-605608E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C0368-E1AE-4770-8149-1D8CC34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834A2-EE32-49C4-986E-F0E9923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B3FB9-BF80-47DA-B7EF-F22DFF2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3226-B3AE-49BA-85CE-4CEE2E87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997-561E-4077-8614-279634A5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BFE7A-5766-4B18-BA51-F4B6AF79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A08F4-F493-4C78-BC30-AC174C55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3A807-69A9-475D-AB9E-174846F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9CF9B-403E-4F1C-BE83-F6EBBAB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3C5C-A70A-488F-93A8-6E3C968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14F2-39D0-4E43-94FE-0268B0A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CC8B6-B638-4BFB-B0EC-657E51ED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F6040-99BB-4E08-B180-D795541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039AD-DAAB-48C0-9F23-E2DB370D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95F1-4CDC-45B2-AA08-DB0FFD4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6347-198C-448A-9F33-DADE76A4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615C8-7368-4254-B625-1F3BF75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0D8E4-03F3-4724-A567-19F20180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C423-1323-4034-9818-12FEB6DB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B22-FA8C-4183-AD34-0B4355DB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CCEE-4E93-4595-B2F1-F16417C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052-FBB5-4095-A10B-753DA67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E6D8-8AAA-44DB-A494-6C4466C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5B1-4A8D-4F47-85CC-51E205BB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4F6-B07A-4721-9C02-024950C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81A-A4E8-4F57-8298-69439BDA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53F-233F-4772-BB49-8BC35AC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4E6C-8EF0-420F-8C1A-664881DF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1D77-2A82-4F17-BC80-319D079D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CBAC-44DF-4616-9029-E963ED0E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289-3439-4C5A-9844-CCBC0B5A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808D-6E05-40FC-A62C-3817EC82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C33D-E647-4EE2-90DC-DA0DB617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FCA7-4132-4136-90E0-FA2B7C8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C10A-545A-48A6-8D31-847FEA8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F2AE-0882-4179-9F5C-F62399E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140-A6D8-402B-A9C4-CFE1C80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919E-B04B-427E-B967-6F63F94F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5999-1C36-4B71-88AC-FF16879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E974-908C-4B04-B2F3-8A8FB14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60E5-8815-4CEF-9885-881CEB0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76E4-AE91-464C-B733-298C130D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8F7B-AF8E-4ABE-BD62-1C8D0F4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AFF1-D37E-4802-AC55-81A77017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98B4-63D0-42F1-82B4-5FD99F6C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ADDA-E25D-4385-BB41-B8B6B7A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66AF-B71D-47BC-B2B7-29ECE450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45E-F12D-480C-BD6D-E373DB36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E758-5A8A-4916-BE12-3D94967E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5C7C-4C25-486D-A964-86FCB8F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BABB-0EBC-4960-AC06-F035012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64E8-02C7-492C-B35E-68BE13A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35F6-9077-44B5-B599-867E39F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5743-A7A6-4265-9CD4-C2D3BCB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F2EA-38C2-4CBD-BCB1-8D26BC4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3FE7-026C-4319-91E3-33258C60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40C4-2554-4E50-9528-4B4F5E9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06AF-8148-49A9-9E2D-CC089FF5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76E-860E-43C2-A37A-9DAA7C6F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72F3-7F08-4D2C-8562-2A83B07A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C123-2E8A-4011-9431-8DB122F9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4488-0D0C-4DDA-B784-7647359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C8175-BEF3-4AAA-A1AA-6BE90BC6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EF77-C8E2-43E7-AD56-CBF0D4C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132B-009B-47A6-BF24-3658927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ED73-26D8-47BD-A4B6-6B8E107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D4E2-DAA5-442F-B5B8-F3C4D01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6C8F-83FA-4ADF-A9E2-A002398D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1057-6E6C-4217-88C5-4812F840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C8B-FF83-437F-9B0C-752B5A5F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01312-861C-4789-A9D2-849DC942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BBFD-40C9-43C4-8401-3C3A57A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8F71-4CAF-46C8-91C0-45F5686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575A-0BE5-4D3F-A3B0-3974CF82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8DF4-4F34-4650-AD2A-911ACE9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00B3-A01E-44DD-919E-4472BA83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5BBE-84B6-435B-AC8D-E2BAE554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5608-35EB-4746-99F3-02122131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FFEF-A5A1-42FF-9724-86C14EF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3653-0143-4A09-ADAA-DDF4BDF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615-F10E-426D-995A-8CE31BA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00244-B6B0-4434-933D-ABB4AC9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C85C-0837-4A89-8BFF-65980748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0D0D-2C56-4DA4-A075-29EA97D2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3E5F-E380-4A86-85D4-0ABCAE5F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02489-AB64-40C0-B542-1508502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EE23-3AFC-436A-B334-9F463937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C6C90-5BC9-4970-BEED-03EA632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84151-25C8-4575-8902-2BDD528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A4BC-DB40-4FF6-857A-183C40EF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E053-291A-47C9-BFAB-B41DC88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F46-F5C3-4BBF-87EC-6572CEB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12D9-06EB-449A-8F8B-4A655F1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34FF-0B32-4D23-BD3B-9AB74BD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F8FFE-3259-44A8-83B7-3D336DE4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B4274-8C6A-4A02-B5A5-5BD2C909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0755-2531-4EBB-B35B-E21095ED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9BD78-0770-4651-977F-7377A30A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6EF8-9E75-4439-8C15-A81A620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A265D-4E4E-40EF-8E0C-8931D02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9A8B-BFB4-4071-959E-3E129072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C619-3891-428A-80CD-441271C1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4E9-95F8-4C01-BB67-3A20DF1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28DE-4AFE-405F-9993-0FADF11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60A0-3172-40AA-B45A-7D1B3B4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7473-2B35-4711-A7C5-5C658B9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65AE-9EFA-4015-922A-F8950D7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6AC8A-C673-43E3-80F3-78FA5FE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4954-7629-4404-B016-5942292B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44583-26B0-431D-BE72-924F0E62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B32A-2E0E-4C6C-A032-B907A895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10D6-D74E-4135-A0C1-8CD0DF6D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F36AE-E04A-4B77-854E-7AA55195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7E7-1099-4A00-8C66-8B4FBAE4AB5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FD4-2E59-4971-A3BE-6728AA6F771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649-F9DC-4A89-B531-453F2F4D15E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8BBE-5941-4A78-B6C1-76759056481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96BA-4DF5-4C17-A402-3A63378E089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475-35BE-4E73-8B2A-DE159BAB6D5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0B08-0CB9-4D43-8BE1-62FA1AC6BE1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CA0-67CA-402E-9393-DF9EC06A10A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5E80-F22B-4BBC-91D4-67BF52D28AB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418-76D2-4442-B0D5-FE3D6A8D2DF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BEE9-B56F-48C8-A190-E547CEAFE8D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8928000" cy="65959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2"/>
          <p:cNvSpPr/>
          <p:nvPr/>
        </p:nvSpPr>
        <p:spPr>
          <a:xfrm>
            <a:off x="1295280" y="1022400"/>
            <a:ext cx="6553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珍爱生命  远离毒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"/>
          <p:cNvSpPr/>
          <p:nvPr/>
        </p:nvSpPr>
        <p:spPr>
          <a:xfrm>
            <a:off x="5123520" y="6141960"/>
            <a:ext cx="31068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竹山县实验小学  刘文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566040" cy="69048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Franklin Gothic Medium"/>
                <a:ea typeface="幼圆"/>
              </a:rPr>
              <a:t>幸福之家毁于毒品</a:t>
            </a:r>
            <a:r>
              <a:rPr b="1" i="1" lang="zh-CN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24000" y="1052280"/>
            <a:ext cx="8496000" cy="511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Franklin Gothic Book"/>
              </a:rPr>
              <a:t>             </a:t>
            </a:r>
            <a:r>
              <a:rPr b="1" lang="zh-CN" sz="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zh-CN" sz="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Franklin Gothic Book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电白霞洞镇陈某，在富裕之后，无意中却走上了吸毒之路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很快，他的钱财便因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吸毒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被耗光，还多次被公安机关抓去强制戒毒；但出来后，毒瘾难戒，不久又吸上了；没有经济来源的他，便回家折腾父母，向他们要钱，不给就又打又骂，其父不堪折磨，不久便死掉了，其妻也伤心地带着女儿离去；家中所有值钱的东西也被他变买作了毒资，接下来便去偷、去抢、去骗，搞得亲戚朋友、左邻右舍不得安宁。后来，陈某也因毒品攻心，横尸街头，一个原本非常幸福的家庭，就这样被毒品毁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吸毒危害社会"/>
          <p:cNvPicPr/>
          <p:nvPr/>
        </p:nvPicPr>
        <p:blipFill>
          <a:blip r:embed="rId1"/>
          <a:srcRect l="16165" t="6479" r="11841" b="66056"/>
          <a:stretch/>
        </p:blipFill>
        <p:spPr>
          <a:xfrm>
            <a:off x="71280" y="115920"/>
            <a:ext cx="6301080" cy="32418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吸毒社会危害画2"/>
          <p:cNvPicPr/>
          <p:nvPr/>
        </p:nvPicPr>
        <p:blipFill>
          <a:blip r:embed="rId2"/>
          <a:stretch/>
        </p:blipFill>
        <p:spPr>
          <a:xfrm>
            <a:off x="3916440" y="2637000"/>
            <a:ext cx="5257800" cy="41050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3" descr=""/>
          <p:cNvPicPr/>
          <p:nvPr/>
        </p:nvPicPr>
        <p:blipFill>
          <a:blip r:embed="rId3"/>
          <a:stretch/>
        </p:blipFill>
        <p:spPr>
          <a:xfrm>
            <a:off x="103320" y="4624560"/>
            <a:ext cx="1800000" cy="201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WordArt 4" descr=""/>
          <p:cNvPicPr/>
          <p:nvPr/>
        </p:nvPicPr>
        <p:blipFill>
          <a:blip r:embed="rId2"/>
          <a:stretch/>
        </p:blipFill>
        <p:spPr>
          <a:xfrm>
            <a:off x="311040" y="1762200"/>
            <a:ext cx="4584960" cy="1114200"/>
          </a:xfrm>
          <a:prstGeom prst="rect">
            <a:avLst/>
          </a:prstGeom>
          <a:ln w="0">
            <a:noFill/>
          </a:ln>
        </p:spPr>
      </p:pic>
      <p:sp>
        <p:nvSpPr>
          <p:cNvPr id="537" name="WordArt 5"/>
          <p:cNvSpPr txBox="1"/>
          <p:nvPr/>
        </p:nvSpPr>
        <p:spPr>
          <a:xfrm>
            <a:off x="1406520" y="3560760"/>
            <a:ext cx="670572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毁灭自己   祸及家庭   危害社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108000" y="5842080"/>
            <a:ext cx="1079280" cy="10159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" descr=""/>
          <p:cNvPicPr/>
          <p:nvPr/>
        </p:nvPicPr>
        <p:blipFill>
          <a:blip r:embed="rId4"/>
          <a:stretch/>
        </p:blipFill>
        <p:spPr>
          <a:xfrm>
            <a:off x="7875720" y="5842080"/>
            <a:ext cx="1268280" cy="974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3059280" y="1052640"/>
            <a:ext cx="5545080" cy="30088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毒品有那么大的危害，为什么还有人去吸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2" descr=""/>
          <p:cNvPicPr/>
          <p:nvPr/>
        </p:nvPicPr>
        <p:blipFill>
          <a:blip r:embed="rId1"/>
          <a:stretch/>
        </p:blipFill>
        <p:spPr>
          <a:xfrm>
            <a:off x="108000" y="2333520"/>
            <a:ext cx="2808360" cy="43815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2"/>
          <a:stretch/>
        </p:blipFill>
        <p:spPr>
          <a:xfrm>
            <a:off x="7343640" y="4797360"/>
            <a:ext cx="18003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漫画5—绝路"/>
          <p:cNvPicPr/>
          <p:nvPr/>
        </p:nvPicPr>
        <p:blipFill>
          <a:blip r:embed="rId1"/>
          <a:stretch/>
        </p:blipFill>
        <p:spPr>
          <a:xfrm>
            <a:off x="3419640" y="260280"/>
            <a:ext cx="5473440" cy="61722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530280" y="3433680"/>
            <a:ext cx="26636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漫画：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79280" y="765000"/>
            <a:ext cx="3168720" cy="58140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好奇心作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5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324000" y="907920"/>
            <a:ext cx="331128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受毒贩诱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159100"/>
          <p:cNvPicPr/>
          <p:nvPr/>
        </p:nvPicPr>
        <p:blipFill>
          <a:blip r:embed="rId1"/>
          <a:stretch/>
        </p:blipFill>
        <p:spPr>
          <a:xfrm>
            <a:off x="3851280" y="260280"/>
            <a:ext cx="5111640" cy="3995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55"/>
          <p:cNvPicPr/>
          <p:nvPr/>
        </p:nvPicPr>
        <p:blipFill>
          <a:blip r:embed="rId2"/>
          <a:stretch/>
        </p:blipFill>
        <p:spPr>
          <a:xfrm>
            <a:off x="179280" y="3284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304920" y="333360"/>
            <a:ext cx="1387440" cy="647640"/>
          </a:xfrm>
          <a:prstGeom prst="rect">
            <a:avLst/>
          </a:prstGeom>
          <a:solidFill>
            <a:srgbClr val="dd00dd"/>
          </a:solidFill>
          <a:ln w="93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304920" y="228600"/>
            <a:ext cx="2035080" cy="82512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交  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982880" y="1227240"/>
            <a:ext cx="5209920" cy="764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如果有人让你吸毒，你该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304920" y="2133720"/>
            <a:ext cx="8566200" cy="28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：直接拒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：找借口溜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是：提出相反意见或转移话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是：秘密报案（偷偷告诉你依赖的人或拨打报警电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1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是：当毒贩毒友逼你吸毒并威胁你时，要第一时间告诉家长和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179280" y="333360"/>
            <a:ext cx="1513080" cy="647640"/>
          </a:xfrm>
          <a:prstGeom prst="rect">
            <a:avLst/>
          </a:prstGeom>
          <a:solidFill>
            <a:srgbClr val="dd00dd"/>
          </a:solidFill>
          <a:ln w="9360">
            <a:solidFill>
              <a:srgbClr val="dd0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79280" y="228600"/>
            <a:ext cx="2016360" cy="82512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讨  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719280" y="1773360"/>
            <a:ext cx="7345080" cy="764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身边有吸毒的现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826920" y="3141720"/>
            <a:ext cx="7237440" cy="764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你是怎样看待“中小学生吸烟”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5" descr=""/>
          <p:cNvPicPr/>
          <p:nvPr/>
        </p:nvPicPr>
        <p:blipFill>
          <a:blip r:embed="rId1"/>
          <a:stretch/>
        </p:blipFill>
        <p:spPr>
          <a:xfrm>
            <a:off x="7348680" y="4780080"/>
            <a:ext cx="1800000" cy="2012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3"/>
          <p:cNvSpPr txBox="1"/>
          <p:nvPr/>
        </p:nvSpPr>
        <p:spPr>
          <a:xfrm>
            <a:off x="611280" y="620640"/>
            <a:ext cx="6408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向毒品宣战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59" name="Picture 4" descr="宣传4"/>
          <p:cNvPicPr/>
          <p:nvPr/>
        </p:nvPicPr>
        <p:blipFill>
          <a:blip r:embed="rId3"/>
          <a:stretch/>
        </p:blipFill>
        <p:spPr>
          <a:xfrm>
            <a:off x="4067280" y="2997360"/>
            <a:ext cx="4538520" cy="32256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3" descr=""/>
          <p:cNvPicPr/>
          <p:nvPr/>
        </p:nvPicPr>
        <p:blipFill>
          <a:blip r:embed="rId4"/>
          <a:stretch/>
        </p:blipFill>
        <p:spPr>
          <a:xfrm>
            <a:off x="0" y="4610160"/>
            <a:ext cx="18003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虎门销烟"/>
          <p:cNvPicPr/>
          <p:nvPr/>
        </p:nvPicPr>
        <p:blipFill>
          <a:blip r:embed="rId1"/>
          <a:stretch/>
        </p:blipFill>
        <p:spPr>
          <a:xfrm>
            <a:off x="3780000" y="2924280"/>
            <a:ext cx="4824360" cy="35528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5"/>
          <p:cNvSpPr/>
          <p:nvPr/>
        </p:nvSpPr>
        <p:spPr>
          <a:xfrm>
            <a:off x="324000" y="692280"/>
            <a:ext cx="8424720" cy="77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林则徐虎门销烟向全世界表明了中国人民反抗侵略的决心和勇气，振奋了民族精神，维护了民族尊严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3" descr=""/>
          <p:cNvPicPr/>
          <p:nvPr/>
        </p:nvPicPr>
        <p:blipFill>
          <a:blip r:embed="rId2"/>
          <a:stretch/>
        </p:blipFill>
        <p:spPr>
          <a:xfrm>
            <a:off x="108000" y="4659480"/>
            <a:ext cx="1800000" cy="2014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9010-3_G0145_b001-GG88_COM"/>
          <p:cNvPicPr/>
          <p:nvPr/>
        </p:nvPicPr>
        <p:blipFill>
          <a:blip r:embed="rId1"/>
          <a:stretch/>
        </p:blipFill>
        <p:spPr>
          <a:xfrm>
            <a:off x="3995640" y="2924280"/>
            <a:ext cx="4967280" cy="3725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9006-3_G0145_b001-GG88_COM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486" name="WordArt 6"/>
          <p:cNvSpPr txBox="1"/>
          <p:nvPr/>
        </p:nvSpPr>
        <p:spPr>
          <a:xfrm>
            <a:off x="5940360" y="1268280"/>
            <a:ext cx="251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罂粟花</a:t>
            </a:r>
            <a:endParaRPr b="1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87" name="图片 4" descr=""/>
          <p:cNvPicPr/>
          <p:nvPr/>
        </p:nvPicPr>
        <p:blipFill>
          <a:blip r:embed="rId3"/>
          <a:stretch/>
        </p:blipFill>
        <p:spPr>
          <a:xfrm>
            <a:off x="147600" y="4635360"/>
            <a:ext cx="18003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037b-8551"/>
          <p:cNvPicPr/>
          <p:nvPr/>
        </p:nvPicPr>
        <p:blipFill>
          <a:blip r:embed="rId1"/>
          <a:stretch/>
        </p:blipFill>
        <p:spPr>
          <a:xfrm>
            <a:off x="1908000" y="333360"/>
            <a:ext cx="5112000" cy="597528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3" descr=""/>
          <p:cNvPicPr/>
          <p:nvPr/>
        </p:nvPicPr>
        <p:blipFill>
          <a:blip r:embed="rId2"/>
          <a:stretch/>
        </p:blipFill>
        <p:spPr>
          <a:xfrm>
            <a:off x="108000" y="5143680"/>
            <a:ext cx="1368360" cy="15300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3" descr=""/>
          <p:cNvPicPr/>
          <p:nvPr/>
        </p:nvPicPr>
        <p:blipFill>
          <a:blip r:embed="rId3"/>
          <a:stretch/>
        </p:blipFill>
        <p:spPr>
          <a:xfrm>
            <a:off x="7596360" y="5143680"/>
            <a:ext cx="1400040" cy="1563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79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Franklin Gothic Medium"/>
              </a:rPr>
              <a:t>作为一名小学生 ，我们对自己生命的承诺是：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79280" y="13885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把握生命的关口，绝不吸第一口，懂得“吸毒一口，掉入虎口”的道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87280" y="24602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不轻信吸毒者的谎言，不在吸毒场所多停留一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79280" y="35881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不结交有吸毒、贩毒行为的人。如发现亲朋好友中有人吸毒贩毒，一要劝阻，二要远离，三要报告公安机关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0" y="542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即使自己在不知情的情况下，被引诱、欺骗吸毒一次，也要珍惜自己的生命，不再吸第二次，更不要吸第三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宣传3"/>
          <p:cNvPicPr/>
          <p:nvPr/>
        </p:nvPicPr>
        <p:blipFill>
          <a:blip r:embed="rId1"/>
          <a:stretch/>
        </p:blipFill>
        <p:spPr>
          <a:xfrm>
            <a:off x="1150920" y="1700280"/>
            <a:ext cx="6913440" cy="4911480"/>
          </a:xfrm>
          <a:prstGeom prst="rect">
            <a:avLst/>
          </a:prstGeom>
          <a:ln w="0">
            <a:noFill/>
          </a:ln>
        </p:spPr>
      </p:pic>
      <p:sp>
        <p:nvSpPr>
          <p:cNvPr id="573" name="矩形 2"/>
          <p:cNvSpPr/>
          <p:nvPr/>
        </p:nvSpPr>
        <p:spPr>
          <a:xfrm>
            <a:off x="826920" y="476280"/>
            <a:ext cx="7237440" cy="108144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珍爱生命，拒绝毒品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5-061909514"/>
          <p:cNvPicPr/>
          <p:nvPr/>
        </p:nvPicPr>
        <p:blipFill>
          <a:blip r:embed="rId1"/>
          <a:stretch/>
        </p:blipFill>
        <p:spPr>
          <a:xfrm>
            <a:off x="6318360" y="4149720"/>
            <a:ext cx="2430360" cy="1871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罂粟1副本"/>
          <p:cNvPicPr/>
          <p:nvPr/>
        </p:nvPicPr>
        <p:blipFill>
          <a:blip r:embed="rId2"/>
          <a:stretch/>
        </p:blipFill>
        <p:spPr>
          <a:xfrm>
            <a:off x="324000" y="4149720"/>
            <a:ext cx="3097080" cy="2016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罂粟果1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3665520" y="4005360"/>
            <a:ext cx="1905120" cy="2087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7"/>
          <p:cNvSpPr txBox="1"/>
          <p:nvPr/>
        </p:nvSpPr>
        <p:spPr>
          <a:xfrm>
            <a:off x="1114560" y="6235560"/>
            <a:ext cx="10810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罂粟花</a:t>
            </a:r>
            <a:endParaRPr b="1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92" name="WordArt 8"/>
          <p:cNvSpPr txBox="1"/>
          <p:nvPr/>
        </p:nvSpPr>
        <p:spPr>
          <a:xfrm>
            <a:off x="4140360" y="630864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罂粟果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93" name="WordArt 9"/>
          <p:cNvSpPr txBox="1"/>
          <p:nvPr/>
        </p:nvSpPr>
        <p:spPr>
          <a:xfrm>
            <a:off x="6948360" y="6272280"/>
            <a:ext cx="108108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鸦  片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262080" y="219240"/>
            <a:ext cx="8486640" cy="70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罂粟，原本是一种美丽的植物，但自从人们从这种娇艳的花中提炼出了鸦片之后，它便成了一种罪恶之花。在它的诱惑下，成千百万个灵魂从此坠入了万劫不复的痛苦深渊。一个个痛苦扭曲的躯体，让人感到美丽背后无比恶毒的诱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5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5-061909514"/>
          <p:cNvPicPr/>
          <p:nvPr/>
        </p:nvPicPr>
        <p:blipFill>
          <a:blip r:embed="rId1"/>
          <a:stretch/>
        </p:blipFill>
        <p:spPr>
          <a:xfrm>
            <a:off x="468360" y="333360"/>
            <a:ext cx="2517840" cy="2448000"/>
          </a:xfrm>
          <a:prstGeom prst="rect">
            <a:avLst/>
          </a:prstGeom>
          <a:ln w="0">
            <a:noFill/>
          </a:ln>
        </p:spPr>
      </p:pic>
      <p:sp>
        <p:nvSpPr>
          <p:cNvPr id="496" name="WordArt 6"/>
          <p:cNvSpPr txBox="1"/>
          <p:nvPr/>
        </p:nvSpPr>
        <p:spPr>
          <a:xfrm>
            <a:off x="1042920" y="2997360"/>
            <a:ext cx="108108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鸦  片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497" name="Line 7"/>
          <p:cNvSpPr/>
          <p:nvPr/>
        </p:nvSpPr>
        <p:spPr>
          <a:xfrm flipV="1">
            <a:off x="3203640" y="1196640"/>
            <a:ext cx="22701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9" descr="海洛因"/>
          <p:cNvPicPr/>
          <p:nvPr/>
        </p:nvPicPr>
        <p:blipFill>
          <a:blip r:embed="rId2"/>
          <a:srcRect l="4016" t="2822" r="0" b="0"/>
          <a:stretch/>
        </p:blipFill>
        <p:spPr>
          <a:xfrm>
            <a:off x="6084720" y="3068640"/>
            <a:ext cx="2808360" cy="2619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" descr="吗啡"/>
          <p:cNvPicPr/>
          <p:nvPr/>
        </p:nvPicPr>
        <p:blipFill>
          <a:blip r:embed="rId3"/>
          <a:srcRect l="10974" t="6102" r="4692" b="0"/>
          <a:stretch/>
        </p:blipFill>
        <p:spPr>
          <a:xfrm>
            <a:off x="6227640" y="216000"/>
            <a:ext cx="2303640" cy="2565360"/>
          </a:xfrm>
          <a:prstGeom prst="rect">
            <a:avLst/>
          </a:prstGeom>
          <a:ln w="0">
            <a:noFill/>
          </a:ln>
        </p:spPr>
      </p:pic>
      <p:sp>
        <p:nvSpPr>
          <p:cNvPr id="500" name="Line 11"/>
          <p:cNvSpPr/>
          <p:nvPr/>
        </p:nvSpPr>
        <p:spPr>
          <a:xfrm>
            <a:off x="3419640" y="2441520"/>
            <a:ext cx="2449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3059280" y="1628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化学提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539640" y="3933720"/>
            <a:ext cx="5400720" cy="2509920"/>
            <a:chOff x="539640" y="3933720"/>
            <a:chExt cx="5400720" cy="2509920"/>
          </a:xfrm>
        </p:grpSpPr>
        <p:pic>
          <p:nvPicPr>
            <p:cNvPr id="503" name="Picture 13" descr=""/>
            <p:cNvPicPr/>
            <p:nvPr/>
          </p:nvPicPr>
          <p:blipFill>
            <a:blip r:embed="rId4"/>
            <a:stretch/>
          </p:blipFill>
          <p:spPr>
            <a:xfrm>
              <a:off x="539640" y="3933720"/>
              <a:ext cx="417672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WordArt 16"/>
            <p:cNvSpPr txBox="1"/>
            <p:nvPr/>
          </p:nvSpPr>
          <p:spPr>
            <a:xfrm>
              <a:off x="4859280" y="5950080"/>
              <a:ext cx="108108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幼圆"/>
                </a:rPr>
                <a:t>大  麻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  <a:ea typeface="幼圆"/>
              </a:endParaRPr>
            </a:p>
          </p:txBody>
        </p:sp>
      </p:grpSp>
      <p:grpSp>
        <p:nvGrpSpPr>
          <p:cNvPr id="505" name="Group 19"/>
          <p:cNvGrpSpPr/>
          <p:nvPr/>
        </p:nvGrpSpPr>
        <p:grpSpPr>
          <a:xfrm>
            <a:off x="1258920" y="3789360"/>
            <a:ext cx="4754520" cy="2881440"/>
            <a:chOff x="1258920" y="3789360"/>
            <a:chExt cx="4754520" cy="2881440"/>
          </a:xfrm>
        </p:grpSpPr>
        <p:pic>
          <p:nvPicPr>
            <p:cNvPr id="506" name="Picture 14" descr="bingdu02"/>
            <p:cNvPicPr/>
            <p:nvPr/>
          </p:nvPicPr>
          <p:blipFill>
            <a:blip r:embed="rId5"/>
            <a:stretch/>
          </p:blipFill>
          <p:spPr>
            <a:xfrm>
              <a:off x="1258920" y="3789360"/>
              <a:ext cx="3456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WordArt 18"/>
            <p:cNvSpPr txBox="1"/>
            <p:nvPr/>
          </p:nvSpPr>
          <p:spPr>
            <a:xfrm>
              <a:off x="4932360" y="5950080"/>
              <a:ext cx="108108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幼圆"/>
                </a:rPr>
                <a:t>冰  毒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  <a:ea typeface="幼圆"/>
              </a:endParaRPr>
            </a:p>
          </p:txBody>
        </p:sp>
      </p:grpSp>
      <p:grpSp>
        <p:nvGrpSpPr>
          <p:cNvPr id="508" name="Group 22"/>
          <p:cNvGrpSpPr/>
          <p:nvPr/>
        </p:nvGrpSpPr>
        <p:grpSpPr>
          <a:xfrm>
            <a:off x="1116000" y="3716280"/>
            <a:ext cx="4753080" cy="2741760"/>
            <a:chOff x="1116000" y="3716280"/>
            <a:chExt cx="4753080" cy="2741760"/>
          </a:xfrm>
        </p:grpSpPr>
        <p:pic>
          <p:nvPicPr>
            <p:cNvPr id="509" name="Picture 20" descr="kekayin"/>
            <p:cNvPicPr/>
            <p:nvPr/>
          </p:nvPicPr>
          <p:blipFill>
            <a:blip r:embed="rId6"/>
            <a:stretch/>
          </p:blipFill>
          <p:spPr>
            <a:xfrm>
              <a:off x="1116000" y="3716280"/>
              <a:ext cx="352908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WordArt 21"/>
            <p:cNvSpPr txBox="1"/>
            <p:nvPr/>
          </p:nvSpPr>
          <p:spPr>
            <a:xfrm>
              <a:off x="4788000" y="5950080"/>
              <a:ext cx="108108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幼圆"/>
                </a:rPr>
                <a:t>可卡因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  <a:ea typeface="幼圆"/>
              </a:endParaRPr>
            </a:p>
          </p:txBody>
        </p:sp>
      </p:grpSp>
      <p:grpSp>
        <p:nvGrpSpPr>
          <p:cNvPr id="511" name="Group 25"/>
          <p:cNvGrpSpPr/>
          <p:nvPr/>
        </p:nvGrpSpPr>
        <p:grpSpPr>
          <a:xfrm>
            <a:off x="539640" y="4005360"/>
            <a:ext cx="5473800" cy="2635200"/>
            <a:chOff x="539640" y="4005360"/>
            <a:chExt cx="5473800" cy="2635200"/>
          </a:xfrm>
        </p:grpSpPr>
        <p:pic>
          <p:nvPicPr>
            <p:cNvPr id="512" name="Picture 23" descr="yaotouwang"/>
            <p:cNvPicPr/>
            <p:nvPr/>
          </p:nvPicPr>
          <p:blipFill>
            <a:blip r:embed="rId7"/>
            <a:stretch/>
          </p:blipFill>
          <p:spPr>
            <a:xfrm>
              <a:off x="539640" y="4005360"/>
              <a:ext cx="4103640" cy="26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WordArt 24"/>
            <p:cNvSpPr txBox="1"/>
            <p:nvPr/>
          </p:nvSpPr>
          <p:spPr>
            <a:xfrm>
              <a:off x="4932360" y="5950080"/>
              <a:ext cx="108108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幼圆"/>
                </a:rPr>
                <a:t>摇头丸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  <a:ea typeface="幼圆"/>
              </a:endParaRPr>
            </a:p>
          </p:txBody>
        </p:sp>
      </p:grpSp>
      <p:sp>
        <p:nvSpPr>
          <p:cNvPr id="514" name="Rectangle 26"/>
          <p:cNvSpPr/>
          <p:nvPr/>
        </p:nvSpPr>
        <p:spPr>
          <a:xfrm>
            <a:off x="71280" y="4421880"/>
            <a:ext cx="5940720" cy="116028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754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刑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的规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毒品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鸦片、海洛因、冰毒、吗啡、大麻、可卡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及国家规定管制的其它能够使人形成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瘾癖的麻醉药品和精神药品。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002b-1649"/>
          <p:cNvPicPr/>
          <p:nvPr/>
        </p:nvPicPr>
        <p:blipFill>
          <a:blip r:embed="rId1"/>
          <a:stretch/>
        </p:blipFill>
        <p:spPr>
          <a:xfrm>
            <a:off x="198360" y="254160"/>
            <a:ext cx="8713800" cy="63370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5"/>
          <p:cNvSpPr/>
          <p:nvPr/>
        </p:nvSpPr>
        <p:spPr>
          <a:xfrm rot="8907000">
            <a:off x="3492000" y="1844280"/>
            <a:ext cx="1843200" cy="2019240"/>
          </a:xfrm>
          <a:prstGeom prst="cloudCallout">
            <a:avLst>
              <a:gd name="adj1" fmla="val 921"/>
              <a:gd name="adj2" fmla="val -8013"/>
            </a:avLst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宣传2"/>
          <p:cNvPicPr/>
          <p:nvPr/>
        </p:nvPicPr>
        <p:blipFill>
          <a:blip r:embed="rId1"/>
          <a:stretch/>
        </p:blipFill>
        <p:spPr>
          <a:xfrm>
            <a:off x="3635280" y="3141720"/>
            <a:ext cx="5089680" cy="3325680"/>
          </a:xfrm>
          <a:prstGeom prst="rect">
            <a:avLst/>
          </a:prstGeom>
          <a:ln w="0">
            <a:noFill/>
          </a:ln>
        </p:spPr>
      </p:pic>
      <p:sp>
        <p:nvSpPr>
          <p:cNvPr id="518" name="WordArt 6"/>
          <p:cNvSpPr txBox="1"/>
          <p:nvPr/>
        </p:nvSpPr>
        <p:spPr>
          <a:xfrm>
            <a:off x="611280" y="981000"/>
            <a:ext cx="640872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吸毒的危害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19" name="图片 3" descr=""/>
          <p:cNvPicPr/>
          <p:nvPr/>
        </p:nvPicPr>
        <p:blipFill>
          <a:blip r:embed="rId4"/>
          <a:stretch/>
        </p:blipFill>
        <p:spPr>
          <a:xfrm>
            <a:off x="46080" y="4653000"/>
            <a:ext cx="18003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导致精神疾病"/>
          <p:cNvPicPr/>
          <p:nvPr/>
        </p:nvPicPr>
        <p:blipFill>
          <a:blip r:embed="rId1"/>
          <a:srcRect l="12672" t="6047" r="12013" b="81379"/>
          <a:stretch/>
        </p:blipFill>
        <p:spPr>
          <a:xfrm>
            <a:off x="179280" y="0"/>
            <a:ext cx="572472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吸毒对个人的危害画"/>
          <p:cNvPicPr/>
          <p:nvPr/>
        </p:nvPicPr>
        <p:blipFill>
          <a:blip r:embed="rId2"/>
          <a:stretch/>
        </p:blipFill>
        <p:spPr>
          <a:xfrm>
            <a:off x="179280" y="1916280"/>
            <a:ext cx="3183120" cy="4679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不支持 FSO! 只能显示jpg图片"/>
          <p:cNvPicPr/>
          <p:nvPr/>
        </p:nvPicPr>
        <p:blipFill>
          <a:blip r:embed="rId3"/>
          <a:srcRect l="0" t="17968" r="0" b="0"/>
          <a:stretch/>
        </p:blipFill>
        <p:spPr>
          <a:xfrm>
            <a:off x="3851280" y="907920"/>
            <a:ext cx="5045040" cy="5761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1" descr="漫画3_去年今日"/>
          <p:cNvPicPr/>
          <p:nvPr/>
        </p:nvPicPr>
        <p:blipFill>
          <a:blip r:embed="rId4"/>
          <a:stretch/>
        </p:blipFill>
        <p:spPr>
          <a:xfrm>
            <a:off x="900000" y="1773360"/>
            <a:ext cx="7315200" cy="46479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3"/>
          <p:cNvSpPr/>
          <p:nvPr/>
        </p:nvSpPr>
        <p:spPr>
          <a:xfrm>
            <a:off x="900000" y="530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漫画：去年今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1547640" y="333360"/>
            <a:ext cx="5472360" cy="792000"/>
          </a:xfrm>
          <a:prstGeom prst="rect">
            <a:avLst/>
          </a:prstGeom>
          <a:solidFill>
            <a:srgbClr val="00b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Arial"/>
                <a:ea typeface="黑体"/>
              </a:rPr>
              <a:t>海洛因扼杀了孔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324000" y="1392120"/>
            <a:ext cx="8569080" cy="511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南省艺术学校一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女生，以跳孔雀舞而在娱乐圈里小有名气。她第一次吸毒是因为胃疼，听人说吸了马上就不疼。第二次还想找点感觉，第三次就什么都不想了。吃饭、穿衣都成了额外的负担，更何况起早练功、晚上演出了。直到有一天她在排练厅犯了毒瘾，人们才得出这样的结论：海洛因扼杀了孔雀，毒品埋葬了她的艺术青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祸害家庭"/>
          <p:cNvPicPr/>
          <p:nvPr/>
        </p:nvPicPr>
        <p:blipFill>
          <a:blip r:embed="rId1"/>
          <a:srcRect l="15577" t="8182" r="11965" b="81120"/>
          <a:stretch/>
        </p:blipFill>
        <p:spPr>
          <a:xfrm>
            <a:off x="250920" y="189000"/>
            <a:ext cx="5040360" cy="1197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吸毒耗费家财画"/>
          <p:cNvPicPr/>
          <p:nvPr/>
        </p:nvPicPr>
        <p:blipFill>
          <a:blip r:embed="rId2"/>
          <a:stretch/>
        </p:blipFill>
        <p:spPr>
          <a:xfrm>
            <a:off x="4549680" y="549360"/>
            <a:ext cx="4343400" cy="6275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吸毒对家庭的危害画"/>
          <p:cNvPicPr/>
          <p:nvPr/>
        </p:nvPicPr>
        <p:blipFill>
          <a:blip r:embed="rId3"/>
          <a:stretch/>
        </p:blipFill>
        <p:spPr>
          <a:xfrm>
            <a:off x="182520" y="1989000"/>
            <a:ext cx="453384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5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5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34:39Z</dcterms:created>
  <dc:creator>雨林木风</dc:creator>
  <dc:description/>
  <dc:language>en-US</dc:language>
  <cp:lastModifiedBy>PC</cp:lastModifiedBy>
  <dcterms:modified xsi:type="dcterms:W3CDTF">2019-10-12T00:37:07Z</dcterms:modified>
  <cp:revision>108</cp:revision>
  <dc:subject/>
  <dc:title>幻灯片 1</dc:title>
</cp:coreProperties>
</file>