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681-66AE-4CAD-9B00-86E58C7E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95F-53ED-4784-B275-78CF6BF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4E668-8B9D-4F64-A712-B1DC4A1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4C81B-FCC3-4B28-A037-3D947BDA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DFD72-E3EE-4C5A-893C-C7C9AD6D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2ED28-C956-4BEF-8804-AD28A0E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566D1-4428-4CB6-AB73-0AC8D95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FDC53-914A-4101-8B5D-C66D703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6AE4E-F2BB-4806-ACA1-E178DF14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07887-C238-413F-B147-3254E104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35F42-45FF-473A-92AE-F072328A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66AD4-6E85-4A1A-8EB2-DA611706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BBE-EBD9-4A9E-AAE7-7C250A39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D3A02-5B8A-4E5D-97ED-3E1F7049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70EC2-40E0-4ACD-B60B-12A9C5FF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C4436-8E87-4637-A87D-807D32B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1103C-03E6-4458-9FA1-F47D52E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FB376-684C-458A-B503-5444BD83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58456-F928-4ADD-B24C-485B477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74230-FAA0-43C9-A6C8-61C486E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AFC56-2A13-4D8C-A9B7-EB6A7CB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56C6-8B6A-4F26-886E-5EA3EC56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E9604-3BAB-404A-BA3D-AFA5706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F32-772C-49CA-B54E-3B884507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32368-E954-4D88-B915-660693E8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4D07-0530-4816-844E-1419F2EE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79459-686F-4AB3-8311-A6CC7372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0BDC-97D1-4B79-BC21-CD43E9E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78B2-8DB4-4C41-9DFA-5513F6D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F94EA-A951-4578-8635-2DD86E0B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9BDF1-64AD-4CD0-B7F8-FA810BE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5BC0F-62F9-4D89-8AB8-0AE9B3A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2FED-993C-43A9-A7D2-97D33387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0D22A-DC27-456C-8BA6-36ED85F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87C4-E09D-439D-8CB1-9FD78FCE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8AA26-CA69-4AD6-87E1-E338822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49B0D-2BA6-45A6-B0A4-D97FF149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D20A0-CA65-4B4C-B17B-85A24046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7BC5C-0802-430A-AC65-BF50FE43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8EF44-4A8F-4348-B8AE-8B7F1BF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D70D6-83E9-46B0-BBD4-D8EECEF5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1F978-49BB-4786-8239-BB019BE1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87FFF-C7EA-4A16-90C9-812A59B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F1A10-BCF8-4BAB-90CA-CB4FBB1C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8356B-5087-430D-8814-BFE8D613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898D-734C-469F-897A-F839B0B0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3BE13-FF64-43CD-B31F-DAA1422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78184-75C6-4FE2-8C83-0D2D7FD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70CD0-F32A-48EC-9E79-0849D5B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64AEF-4D26-4C91-8987-9EB4F367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8569A-773F-40D4-947E-67E782FE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2300E-A701-409B-9212-EF96A610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F4CEC-79C8-49BB-A9E7-EBA3B2A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08AF9-5700-4D93-BC2C-D5C1055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75D67-6DF2-4F90-8D33-B52F133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C82FD-B4D9-4F1D-9290-FD3C2BE8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49F1-FFC4-489C-A7A8-453D7FA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52CE7-929F-4E70-A482-7D813AFF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E4EDD-5B41-4D53-98DA-5C3CDAB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7B9CF-025E-454A-AAFF-90E7911F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7F9F4-2059-42D3-9C5F-B84B772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F7FC9-8189-4E58-A809-7077BA88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3AAD3-0B7F-47A9-BA34-63D75509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954AE-AC46-4650-B994-8F588CB8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7838F-9A46-49BD-98CD-CC134DD3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387FF-E91B-48E4-8A66-E0B2E296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2C768-EFF9-49DE-BE2E-31AC427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E2C6-C425-40EB-9B0C-D0F97894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F6A92-9527-449D-9140-4E9C7442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C6FF2-FE0E-453B-87AE-D3564FE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83CD5-5EB5-40A9-9EEF-8D19B411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EEF38-BADE-4B14-B78E-78DC931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7D0ED-9775-4EFE-A3D9-9DC2A6C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27446-59EC-42A5-A90B-B3CF657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2FC37-4DB0-4387-9DB8-1E9BFC7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E820F-67EC-46FD-9A17-2ECB7CB1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42FDB-07E5-41EC-820E-71FC5C14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EDFD0-7151-4D05-BCF1-B1896C04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5F8B-A416-42F6-821C-053BBC6F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C43B6-EECB-4714-9E14-B00E1CA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4407B-9FF7-4483-95A3-1AEEFB13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7881C-C30B-42AE-BC24-92211465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010BF-2F22-4C41-BD65-1651E61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33E52-F3FB-404E-815E-539A0767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C1097-536C-49C7-87C2-7C692E8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FEA6E-2CDC-4622-BC52-A47CAB5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2EDB6-C79B-49C6-9219-A5F7CB9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3B888-309A-44AB-9C3F-0FE6D600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4F585-873B-4E14-BC56-825E9316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6FA2-DD4E-4337-BDDE-815C7B6F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5C693-9A93-4A2C-8A75-4A12FA98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8A905-F7A3-4801-ABF1-20E80772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7FD5A-D2D8-4A7C-A4E0-C96BEDB3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B90FF-5C51-4309-8D0E-96554A9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D54D8-FD26-4A6C-B398-4AF59FB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5F350-4C85-4A8C-803B-880DD9B8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E0043-269B-4C72-B407-D20960FF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03735-73DC-41AA-BF36-F48908A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36CF3-0579-46A0-88C8-E4CAE42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FAAC2-FCF0-4CEB-BE92-92FA07B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DE9-5ACC-4BD9-8340-F21995C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CB236-A4D7-46BA-A2A6-F286F8A8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EB9AB-AF0B-4447-939E-DBA3AC57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C8C96-D2D8-41EC-A25C-CE703962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AC5EF-2A15-4AB6-9A0F-CCB02E30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351A2-6879-4FCC-8E73-AA2AD24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EC497-2C98-48C5-880E-D43FC8A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66E68-9441-4791-90F1-18E6583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5A73C-2B5C-4B53-9A92-C6DBB195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E7FD1-E563-487E-AE5A-03EBCF57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41506-A24C-49A8-9A12-0B6ACA8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1DE-AC20-458D-BDB5-ECB0CFD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630A-0F24-4DC1-B131-51307EE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B2825-62AA-448E-9AD0-5EFAC54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F905C-93D2-48EF-A9D9-19194CF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77688-A41D-4FAF-B24B-2454F46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AEA8A-148A-494F-BD00-431C4725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8B0F8-AE78-4108-894A-8CEB9877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31FEA-E994-4924-9653-95875D1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FFEC3-AE81-43A3-BB83-1134E91D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1D04E-6038-452F-800E-450CCF96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57F44-A67B-4017-A435-E85A9339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AB94D-FC86-4A7C-8C9E-CD70E0F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E5D-D5CD-47DB-87AE-C4FAC721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189B4-83B4-4978-81AB-61DB7A59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D4C25A-50D5-4540-8EA5-26E6513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17740-0265-4A59-9943-9E69B9C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DB764-33B7-4D5A-9DD5-76211FD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EB022-AAED-456D-ACDE-4E67A0D5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B9134-4780-4D3A-8777-C23C7A95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E7519-94A1-4825-9545-D5FC1459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53BCE-CBA5-46CB-9BFD-5BF3C923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E0E54-6E48-4C31-AE2B-A450D130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09678-94A3-46BC-8803-1DA4E7F5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4674-C1A0-43DC-84C2-7D9A48F1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69E71-0EEE-432E-B13B-3162B7E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2F796-4995-427B-9940-1BD921FD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645A2-D530-4F7D-804C-4D1EFD3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EF00D-0C17-4642-A32A-8E28828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85AA1-2E21-49D4-ACA7-8F85FF0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D2505-477B-4289-B91F-FB390A2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79688-DC4F-466B-9071-D278213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3603C-1AA4-4AB6-8F57-19E7A731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35510-7456-4190-B9E4-6BA70F05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3F06-3B96-4589-AE47-96875386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37F-7C23-4D11-B2E8-9F65763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2910-6473-45E9-821A-6E089649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5304-ED7D-4021-B6D8-D2993419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CFEB-ED5A-4D7B-94B3-EC1BA79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7341-F6B3-410C-AC0C-43C66DC1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1BE4-4CFB-40F4-99CB-8007AE98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736-2B95-4CD7-AF12-8649B05F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4086-FAD6-4BB3-A739-D9E88AB6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DBEA-CC1B-401F-B151-8C12367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2FCE-9E64-4AB0-8342-D3E2A77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1846-C27E-4324-BD3C-7596A5A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66E0-5B31-4253-A5DA-BFD18DE5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D4FC-BA0B-40AD-BC31-B20366C5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DCFB-E422-42F2-9765-3C611AB9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8C7BE-3E3A-4271-982F-E988484B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6680-BE1B-467E-AC4E-3B307674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580A-D2E7-4E48-B606-90800D0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DB8-931D-4923-99EA-408BBC4B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4E51-FEA7-46FD-9DAD-FB3FB51F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F2E4-CA72-4FD4-815E-D9F4D55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311E-C117-4528-B709-221EC65C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D9EE-8651-43DA-A829-CCD11332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6758-F967-4DE7-8CD8-4ACDE29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59BC-8C44-4F52-8480-A68E1F9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381F-7F57-41B3-8C06-3789B101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507C-6061-4CAD-BC67-241A33BA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3B9D-FAAB-423E-B905-0DFF54D9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FC99B-4258-4354-A645-D8D45FC3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926-548B-4591-B5F9-A6111DB2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49596-5405-4004-A5DC-1D2CC51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BCA1-F3C4-4D0F-BC86-C73BB5E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61D82-387C-482E-A055-9677ECA8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2FE6-E70A-4A3E-A15D-561047AB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86CC-6570-4ADE-91A6-171B8B7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61A8-67E1-4F9B-BD5B-67FAEF2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EB2A-BBC4-4188-99F6-203D839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E765-1D52-468C-BE82-D9F4C9D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A670-29E8-45FA-A62C-A8A964EA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6EC3-9D9F-4FDD-BCB6-94845648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FB0-690F-4B00-8172-E6C85508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FA5A-A741-4C06-908B-DA0BE8DB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D820-8F9F-4CB3-9754-405DCB41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6A44F-3CC2-4DD5-ADBD-51971773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9036-1E52-4716-B3C6-F71AE7FC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F7FD-E868-48D5-BB3D-9AD0CD07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FF21-5A61-4C31-835F-4EAC6BC9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4123-947F-41E0-94D4-8C51AEB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A2C46-7332-43B3-8D14-E2534BE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4123-9B8D-4D04-801C-8377FEC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8B5E-BFF5-456B-94FB-15C7CD03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8FB-6689-440B-B851-67EE88E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0AEBE-B0AD-44CB-B523-5D3067C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99A3C-8466-42BA-B412-287D7E1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189E-A13B-4605-B364-D49B9B0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6769-9138-46C3-B491-890A4D5B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447FB-6BB2-4FE5-BA44-1B9C962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80419-C343-4754-8B4A-A35816AE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F163-D31E-4849-B540-CBE58183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90B7B-25FD-4489-8CB3-3655756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C7409-641B-4BF2-BDC1-50334D41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BB29-A815-4A64-9741-A4662C4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E86-02DE-4C5F-B3B2-A837706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5BAE-53AA-49C0-ADEB-4E79642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A3E88-F7B0-4BD0-8CFC-ED7427F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B3D6-EE97-4436-9F5C-EB3AD95F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DCB9-60B2-42B5-B8E0-FA44C95D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1C3F-4EF7-4E21-92F6-FE8FB0EF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E9DB-6D49-4960-A3E1-3770BEA8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5013A-86BC-4D7F-A484-7BDEE26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BD72-4FBD-414B-8A7C-4211AA4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049B-4798-4B20-A5F5-2630364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00BFA-CBC3-4135-AE32-43FCD8FF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22D-4567-4A13-90C0-B8EA030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D6822-DA4E-4265-84E8-31C39BC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C7662-09D9-4D8C-A71F-A241BBA8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A258F-8A18-47C7-A840-60518B01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E9520-4C41-447E-933E-277754F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6ED81-19A9-491F-9AB6-9256B10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95900-EE6E-4E0E-8536-8A769470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2D7C8-FD04-4A5E-84FC-FE672253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EE2C7-6F14-40D4-A5F9-DE3C433C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5D791-96DA-49C6-9441-7F1FF662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AD71B-6AC2-4EE2-93E2-D01DE59B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E99-CBE6-4999-B0BB-82CEC21D667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4AA-79F6-4560-8E0A-92D217D86C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401-8B87-4284-B06C-71458AF516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D66-2F3B-4CFE-81CC-739D00CA0A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53FA-DC2A-41E1-88BE-62AF8613BF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EF4-7B2A-4CDB-B9D5-C85B815D1F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B4B-EFA3-4E44-A3E4-D0A2CEC50CB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CF0-2E99-48E5-80C0-D13CAF1F0B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5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F11-4134-45F3-AAFF-9A8BC6CDDC1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D7E7-5616-446A-85EB-6950FDD7E2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6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6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63b70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7"/>
          <p:cNvSpPr/>
          <p:nvPr/>
        </p:nvSpPr>
        <p:spPr>
          <a:xfrm>
            <a:off x="0" y="3201840"/>
            <a:ext cx="2276640" cy="60516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8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9"/>
          <p:cNvSpPr/>
          <p:nvPr/>
        </p:nvSpPr>
        <p:spPr>
          <a:xfrm>
            <a:off x="2019240" y="3054240"/>
            <a:ext cx="257400" cy="75276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任意多边形 10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6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232-7746-4FF1-8D6C-15D00C5BBF7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7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ACE-6270-4C81-9FF5-C1782F7DF7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6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圆角矩形 5"/>
          <p:cNvSpPr/>
          <p:nvPr/>
        </p:nvSpPr>
        <p:spPr>
          <a:xfrm>
            <a:off x="2298600" y="3435480"/>
            <a:ext cx="4572000" cy="369720"/>
          </a:xfrm>
          <a:prstGeom prst="roundRect">
            <a:avLst>
              <a:gd name="adj" fmla="val 50000"/>
            </a:avLst>
          </a:prstGeom>
          <a:solidFill>
            <a:srgbClr val="4a890b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9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8EE3-2275-429B-AC99-D6F4D22E457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50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1B17-A837-4655-BA1F-D102BDE24E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7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FDA-2B19-4EAA-AAF2-CEA9A097647B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993-DD3D-40F8-877E-8170BF8990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7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55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5FBE-664F-4C7C-8A59-8F85CA090C4D}" type="datetime">
              <a:rPr b="0" lang="zh-CN" sz="1800" spc="-1" strike="noStrike">
                <a:solidFill>
                  <a:srgbClr val="5f5f5f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56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57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31A8-45D1-42B7-A955-72C3286923C8}" type="slidenum">
              <a:rPr b="0" lang="zh-CN" sz="1800" spc="-1" strike="noStrike">
                <a:solidFill>
                  <a:srgbClr val="5f5f5f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31C4-9E92-4752-ACF6-F0169658FC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BF04-D643-441E-B355-E3D01AEA49E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884-187C-4FAD-A8A7-40BA1958F6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AE4-7542-4F2E-A949-65C688E8F5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A7D0-2A2C-42DE-BC6F-C2AD65811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1F1-6382-49EF-A558-173552991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65BA-9B49-409E-8DDE-2BAB8F3C69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945B-41AE-4978-BF1E-BF04726EF7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FA16-195A-4E9C-8D50-9FF60B4440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文本框 4102"/>
          <p:cNvSpPr/>
          <p:nvPr/>
        </p:nvSpPr>
        <p:spPr>
          <a:xfrm>
            <a:off x="76320" y="1222200"/>
            <a:ext cx="8991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72727"/>
                </a:solidFill>
                <a:latin typeface="方正小标宋简体"/>
                <a:ea typeface="方正小标宋简体"/>
              </a:rPr>
              <a:t>珍爱生命  远离毒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"/>
          <p:cNvSpPr/>
          <p:nvPr/>
        </p:nvSpPr>
        <p:spPr>
          <a:xfrm>
            <a:off x="5594040" y="5392800"/>
            <a:ext cx="26496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董市镇小学教育集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5226120" y="6037200"/>
            <a:ext cx="91224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薛珊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图片 1" descr="u=1898148080,1693336060&amp;fm=173&amp;app=25&amp;f=JPEG[1]"/>
          <p:cNvPicPr/>
          <p:nvPr/>
        </p:nvPicPr>
        <p:blipFill>
          <a:blip r:embed="rId1"/>
          <a:stretch/>
        </p:blipFill>
        <p:spPr>
          <a:xfrm>
            <a:off x="-14400" y="-7920"/>
            <a:ext cx="4496040" cy="33735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2" descr="u=4127592078,1184562313&amp;fm=173&amp;app=25&amp;f=JPEG[1]"/>
          <p:cNvPicPr/>
          <p:nvPr/>
        </p:nvPicPr>
        <p:blipFill>
          <a:blip r:embed="rId2"/>
          <a:stretch/>
        </p:blipFill>
        <p:spPr>
          <a:xfrm>
            <a:off x="4699080" y="-7920"/>
            <a:ext cx="4476600" cy="33717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3" descr="u=2447073922,4115409265&amp;fm=173&amp;app=25&amp;f=JPEG[1]"/>
          <p:cNvPicPr/>
          <p:nvPr/>
        </p:nvPicPr>
        <p:blipFill>
          <a:blip r:embed="rId3"/>
          <a:stretch/>
        </p:blipFill>
        <p:spPr>
          <a:xfrm>
            <a:off x="-14400" y="3745080"/>
            <a:ext cx="4496040" cy="282708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4" descr="C7518EDCFD1CE88615FED2DF63E6FF3776558754_size203_w554_h306[1]"/>
          <p:cNvPicPr/>
          <p:nvPr/>
        </p:nvPicPr>
        <p:blipFill>
          <a:blip r:embed="rId4"/>
          <a:stretch/>
        </p:blipFill>
        <p:spPr>
          <a:xfrm>
            <a:off x="4699080" y="3745080"/>
            <a:ext cx="4349520" cy="28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图片 1" descr="timg[2]"/>
          <p:cNvPicPr/>
          <p:nvPr/>
        </p:nvPicPr>
        <p:blipFill>
          <a:blip r:embed="rId1"/>
          <a:stretch/>
        </p:blipFill>
        <p:spPr>
          <a:xfrm>
            <a:off x="119160" y="452520"/>
            <a:ext cx="8905680" cy="581184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2" descr="timg[4]"/>
          <p:cNvPicPr/>
          <p:nvPr/>
        </p:nvPicPr>
        <p:blipFill>
          <a:blip r:embed="rId2"/>
          <a:stretch/>
        </p:blipFill>
        <p:spPr>
          <a:xfrm>
            <a:off x="119160" y="452520"/>
            <a:ext cx="8905680" cy="58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166680" y="8424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二、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  <a:ea typeface="方正小标宋简体"/>
              </a:rPr>
              <a:t>毒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"/>
          <p:cNvSpPr/>
          <p:nvPr/>
        </p:nvSpPr>
        <p:spPr>
          <a:xfrm>
            <a:off x="660240" y="369720"/>
            <a:ext cx="8236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长期吸食毒品会成瘾，对人体神经系统免疫系统产生危害，如嗜睡、感觉迟钝、运动失调、幻觉、妄想，而且易感染乙型肝炎、艾滋病等疾病。如果服用过量，则可直接导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当突然终止吸毒时，就会出现不安、焦虑、忽冷忽热、起鸡皮疙瘩、流泪、流涕、出汗、恶心、呕吐、腹痛、腹泻等症状。吸毒者为避免这种痛苦而千方百计地维持吸毒状态。许多吸毒者在没有经济来源购毒、吸毒的情况下，或死于严重的并发症，或由于痛苦难忍而自杀身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8"/>
          <p:cNvSpPr/>
          <p:nvPr/>
        </p:nvSpPr>
        <p:spPr>
          <a:xfrm>
            <a:off x="1042920" y="2495520"/>
            <a:ext cx="7292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（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）毒品毁人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（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）毒品令人倾家荡产、家破人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（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）吸毒导致堕落、犯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（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4</a:t>
            </a:r>
            <a:r>
              <a:rPr b="0" lang="zh-CN" sz="32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）吸毒危害社会，成为世界公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矩形 556035" descr=""/>
          <p:cNvPicPr/>
          <p:nvPr/>
        </p:nvPicPr>
        <p:blipFill>
          <a:blip r:embed="rId1"/>
          <a:stretch/>
        </p:blipFill>
        <p:spPr>
          <a:xfrm>
            <a:off x="1042920" y="868320"/>
            <a:ext cx="58975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矩形 462849"/>
          <p:cNvSpPr/>
          <p:nvPr/>
        </p:nvSpPr>
        <p:spPr>
          <a:xfrm>
            <a:off x="241200" y="569880"/>
            <a:ext cx="8685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                 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华文行楷"/>
              </a:rPr>
              <a:t>学会说“不”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19420"/>
                </a:solidFill>
                <a:latin typeface="Times New Roman"/>
                <a:ea typeface="宋体"/>
              </a:rPr>
              <a:t>情景设计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：在一次朋友聚会中，偶尔发现你的朋友在吸毒，朋友让你试一口，同学和朋友说：“尝一下吧，不会有事的。”你如何拒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819420"/>
                </a:solidFill>
                <a:latin typeface="Times New Roman"/>
                <a:ea typeface="宋体"/>
              </a:rPr>
              <a:t>规则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：每大组分前后两组，全班共</a:t>
            </a: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819420"/>
                </a:solidFill>
                <a:latin typeface="Times New Roman"/>
                <a:ea typeface="宋体"/>
              </a:rPr>
              <a:t>要求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：群策群议，想尽一切可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能的办法予以拒绝。最后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每组选出两人组合上台演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62850"/>
          <p:cNvSpPr/>
          <p:nvPr/>
        </p:nvSpPr>
        <p:spPr>
          <a:xfrm>
            <a:off x="4343400" y="58593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462851" descr="诱惑"/>
          <p:cNvPicPr/>
          <p:nvPr/>
        </p:nvPicPr>
        <p:blipFill>
          <a:blip r:embed="rId1"/>
          <a:srcRect l="12215" t="10100" r="16146" b="8013"/>
          <a:stretch/>
        </p:blipFill>
        <p:spPr>
          <a:xfrm>
            <a:off x="4343400" y="3657600"/>
            <a:ext cx="4267080" cy="2952720"/>
          </a:xfrm>
          <a:prstGeom prst="rect">
            <a:avLst/>
          </a:prstGeom>
          <a:ln w="0">
            <a:noFill/>
          </a:ln>
        </p:spPr>
      </p:pic>
      <p:sp>
        <p:nvSpPr>
          <p:cNvPr id="862" name="文本框 2"/>
          <p:cNvSpPr/>
          <p:nvPr/>
        </p:nvSpPr>
        <p:spPr>
          <a:xfrm>
            <a:off x="1891440" y="487044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让我们一起来坚定自己的意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拒绝不良诱惑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4"/>
          <p:cNvSpPr/>
          <p:nvPr/>
        </p:nvSpPr>
        <p:spPr>
          <a:xfrm>
            <a:off x="458640" y="162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情景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758880" y="1147680"/>
            <a:ext cx="6657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怎样做到远离毒品 ？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847800" y="1978200"/>
            <a:ext cx="768348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时刻牢记“一朝吸毒，终生难戒”、“一时不慎，痛悔一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面对诱惑要增强自控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慎重交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涉足未成年人禁入的公共娱乐场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相信毒品瘦身、治病等神奇功效的谎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502920" y="1325160"/>
            <a:ext cx="83516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ctr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0303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303030"/>
                </a:solidFill>
                <a:latin typeface="黑体"/>
              </a:rPr>
              <a:t>珍爱生命，远离毒品”，对每一个人而言，这决不仅仅是一句简单的口号。无论是出于主观还是客观，有些路，永远不能走；有的错，永远都不能犯！</a:t>
            </a:r>
            <a:endParaRPr b="0" lang="en-US" sz="36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0" y="-158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心灵寄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文本框 4102"/>
          <p:cNvSpPr/>
          <p:nvPr/>
        </p:nvSpPr>
        <p:spPr>
          <a:xfrm>
            <a:off x="1803240" y="2085840"/>
            <a:ext cx="60818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5" descr="9f510fb30f2442a73926c9d2d643ad4bd1130298[1]"/>
          <p:cNvPicPr/>
          <p:nvPr/>
        </p:nvPicPr>
        <p:blipFill>
          <a:blip r:embed="rId1"/>
          <a:stretch/>
        </p:blipFill>
        <p:spPr>
          <a:xfrm>
            <a:off x="326880" y="404640"/>
            <a:ext cx="3302280" cy="24768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7" descr="1209861664241[1]"/>
          <p:cNvPicPr/>
          <p:nvPr/>
        </p:nvPicPr>
        <p:blipFill>
          <a:blip r:embed="rId2"/>
          <a:stretch/>
        </p:blipFill>
        <p:spPr>
          <a:xfrm>
            <a:off x="260280" y="3552840"/>
            <a:ext cx="3702240" cy="24606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8" descr="QJ6674981627[1]"/>
          <p:cNvPicPr/>
          <p:nvPr/>
        </p:nvPicPr>
        <p:blipFill>
          <a:blip r:embed="rId3"/>
          <a:stretch/>
        </p:blipFill>
        <p:spPr>
          <a:xfrm>
            <a:off x="4289400" y="404640"/>
            <a:ext cx="3703680" cy="247680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9" descr="636657775760650223[1]"/>
          <p:cNvPicPr/>
          <p:nvPr/>
        </p:nvPicPr>
        <p:blipFill>
          <a:blip r:embed="rId4"/>
          <a:stretch/>
        </p:blipFill>
        <p:spPr>
          <a:xfrm>
            <a:off x="4289400" y="355284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37760" y="1414440"/>
            <a:ext cx="44672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小标宋简体"/>
              </a:rPr>
              <a:t>（一）什么是毒品？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39720" y="2499840"/>
            <a:ext cx="729144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3030"/>
                </a:solidFill>
                <a:latin typeface="黑体"/>
              </a:rPr>
              <a:t>根据</a:t>
            </a:r>
            <a:r>
              <a:rPr b="1" lang="en-US" sz="2800" spc="-1" strike="noStrike">
                <a:solidFill>
                  <a:srgbClr val="30303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303030"/>
                </a:solidFill>
                <a:latin typeface="黑体"/>
              </a:rPr>
              <a:t>中华人民共和国禁毒法</a:t>
            </a:r>
            <a:r>
              <a:rPr b="1" lang="en-US" sz="2800" spc="-1" strike="noStrike">
                <a:solidFill>
                  <a:srgbClr val="30303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303030"/>
                </a:solidFill>
                <a:latin typeface="黑体"/>
              </a:rPr>
              <a:t>第二条规定：毒品，是指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鸦片、海洛因、甲基苯丙胺（冰毒）、吗啡、大麻、可卡因</a:t>
            </a:r>
            <a:r>
              <a:rPr b="1" lang="zh-CN" sz="2800" spc="-1" strike="noStrike">
                <a:solidFill>
                  <a:srgbClr val="303030"/>
                </a:solidFill>
                <a:latin typeface="黑体"/>
              </a:rPr>
              <a:t>，以及国家规定管制的其他能够使人形成瘾癖的麻醉药品和精神药品。</a:t>
            </a:r>
            <a:r>
              <a:rPr b="1" lang="zh-CN" sz="2800" spc="-1" strike="noStrike">
                <a:solidFill>
                  <a:srgbClr val="30303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88920" y="-114480"/>
            <a:ext cx="800100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一、毒品基本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1112400" y="2217600"/>
            <a:ext cx="700092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823" name="Picture 2" descr="鸦片"/>
          <p:cNvPicPr/>
          <p:nvPr/>
        </p:nvPicPr>
        <p:blipFill>
          <a:blip r:embed="rId1"/>
          <a:stretch/>
        </p:blipFill>
        <p:spPr>
          <a:xfrm>
            <a:off x="900000" y="1197000"/>
            <a:ext cx="3800520" cy="227952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3"/>
          <p:cNvSpPr/>
          <p:nvPr/>
        </p:nvSpPr>
        <p:spPr>
          <a:xfrm>
            <a:off x="4932360" y="1052640"/>
            <a:ext cx="39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鸦片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俗称大烟，是罂粟果实中流出的乳液经干燥凝结而成。呈黑色或褐色，味苦。吸食者初吸时会感到头晕目眩、恶心或头痛，多次吸食就会上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4" descr="可卡因"/>
          <p:cNvPicPr/>
          <p:nvPr/>
        </p:nvPicPr>
        <p:blipFill>
          <a:blip r:embed="rId2"/>
          <a:stretch/>
        </p:blipFill>
        <p:spPr>
          <a:xfrm>
            <a:off x="4191120" y="3733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5"/>
          <p:cNvSpPr/>
          <p:nvPr/>
        </p:nvSpPr>
        <p:spPr>
          <a:xfrm>
            <a:off x="826920" y="378936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可卡因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呈白色晶状，吸食后表现出情绪高涨、好动、健谈，有时还有攻击倾向，具有很强的成瘾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1112400" y="2217600"/>
            <a:ext cx="700092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828" name="Picture 2" descr="海洛因"/>
          <p:cNvPicPr/>
          <p:nvPr/>
        </p:nvPicPr>
        <p:blipFill>
          <a:blip r:embed="rId1"/>
          <a:stretch/>
        </p:blipFill>
        <p:spPr>
          <a:xfrm>
            <a:off x="4622760" y="608040"/>
            <a:ext cx="4140360" cy="263520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3"/>
          <p:cNvSpPr/>
          <p:nvPr/>
        </p:nvSpPr>
        <p:spPr>
          <a:xfrm>
            <a:off x="550800" y="60804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海洛因：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化学名称“二乙酰吗啡”，俗称白粉。成瘾快，极难戒断。其被称为世界毒品之王，是我国目前监控、查禁的最重要的毒品之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吗啡"/>
          <p:cNvPicPr/>
          <p:nvPr/>
        </p:nvPicPr>
        <p:blipFill>
          <a:blip r:embed="rId2"/>
          <a:stretch/>
        </p:blipFill>
        <p:spPr>
          <a:xfrm>
            <a:off x="309600" y="3394080"/>
            <a:ext cx="4495680" cy="286848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5"/>
          <p:cNvSpPr/>
          <p:nvPr/>
        </p:nvSpPr>
        <p:spPr>
          <a:xfrm>
            <a:off x="4964040" y="345276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吗啡：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无色或白色结晶粉末状，具有镇痛、催眠、止咳、止泻等作用，吸食后会产生欣快感，比鸦片容易成瘾。长期使用会引起精神失常、谵妄和幻想，过量使用会导致呼吸衰竭而死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5" descr="200606250140_608994"/>
          <p:cNvPicPr/>
          <p:nvPr/>
        </p:nvPicPr>
        <p:blipFill>
          <a:blip r:embed="rId1"/>
          <a:stretch/>
        </p:blipFill>
        <p:spPr>
          <a:xfrm>
            <a:off x="5076720" y="4005360"/>
            <a:ext cx="3422880" cy="235728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3"/>
          <p:cNvSpPr/>
          <p:nvPr/>
        </p:nvSpPr>
        <p:spPr>
          <a:xfrm>
            <a:off x="826920" y="4365720"/>
            <a:ext cx="41767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摇头丸，冰毒的衍生物，具有兴奋和致幻双重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826920" y="1700280"/>
            <a:ext cx="4176720" cy="9471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冰毒即“甲基苯丙胺”，外观为纯白结晶体，故被称为“冰”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ce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01300000181322121357952460511"/>
          <p:cNvPicPr/>
          <p:nvPr/>
        </p:nvPicPr>
        <p:blipFill>
          <a:blip r:embed="rId2"/>
          <a:stretch/>
        </p:blipFill>
        <p:spPr>
          <a:xfrm>
            <a:off x="5076720" y="1268280"/>
            <a:ext cx="3395880" cy="22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826920" y="1773360"/>
            <a:ext cx="4104000" cy="5205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粉，静脉全麻药，有时也可用作兽用麻醉药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" descr="xinsrc_350603211109062292085"/>
          <p:cNvPicPr/>
          <p:nvPr/>
        </p:nvPicPr>
        <p:blipFill>
          <a:blip r:embed="rId1"/>
          <a:stretch/>
        </p:blipFill>
        <p:spPr>
          <a:xfrm>
            <a:off x="5219640" y="1125360"/>
            <a:ext cx="3311640" cy="227016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4"/>
          <p:cNvSpPr/>
          <p:nvPr/>
        </p:nvSpPr>
        <p:spPr>
          <a:xfrm>
            <a:off x="755640" y="4005360"/>
            <a:ext cx="2827440" cy="9471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咖啡因是化学合成或从茶叶、咖啡果中提炼出来的一种生物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002564a4366012741b6434"/>
          <p:cNvPicPr/>
          <p:nvPr/>
        </p:nvPicPr>
        <p:blipFill>
          <a:blip r:embed="rId2"/>
          <a:stretch/>
        </p:blipFill>
        <p:spPr>
          <a:xfrm>
            <a:off x="3708360" y="3573360"/>
            <a:ext cx="496728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Box 5"/>
          <p:cNvSpPr/>
          <p:nvPr/>
        </p:nvSpPr>
        <p:spPr>
          <a:xfrm>
            <a:off x="2050920" y="3646440"/>
            <a:ext cx="3096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395280" y="1694880"/>
            <a:ext cx="4537080" cy="9471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酣乐欣，淡蓝色片，是一种强烈的麻醉药品，口服后可以迅速使人昏迷晕倒，故俗称迷药、蒙汗药、迷魂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7" descr="20061014202132869"/>
          <p:cNvPicPr/>
          <p:nvPr/>
        </p:nvPicPr>
        <p:blipFill>
          <a:blip r:embed="rId1"/>
          <a:stretch/>
        </p:blipFill>
        <p:spPr>
          <a:xfrm>
            <a:off x="5003640" y="981000"/>
            <a:ext cx="3859200" cy="309564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5"/>
          <p:cNvSpPr/>
          <p:nvPr/>
        </p:nvSpPr>
        <p:spPr>
          <a:xfrm>
            <a:off x="4211640" y="465300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伪装成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橙汁跳跳糖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的新型毒品。这种毒品遇水即溶，即冲即饮，与各种饮品混合后口味都不发生变化，甚至香味都相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跳跳糖"/>
          <p:cNvPicPr/>
          <p:nvPr/>
        </p:nvPicPr>
        <p:blipFill>
          <a:blip r:embed="rId2"/>
          <a:stretch/>
        </p:blipFill>
        <p:spPr>
          <a:xfrm>
            <a:off x="971640" y="3284640"/>
            <a:ext cx="30589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12400" y="1010880"/>
            <a:ext cx="70009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4a890b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112400" y="2217600"/>
            <a:ext cx="700092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7" name="Text Box 2"/>
          <p:cNvSpPr/>
          <p:nvPr/>
        </p:nvSpPr>
        <p:spPr>
          <a:xfrm>
            <a:off x="343080" y="314280"/>
            <a:ext cx="45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是一款名为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“阿拉伯茶”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新型毒品，学名叫恰特草，也常被称为“巧茶”，被认为是软性毒品。新鲜的时候就像苋菜，但与苋菜有一个区别就是它的茎都是红的，叶子比苋菜更显得苗条一点，而在晒干之后，“阿拉伯茶”看上去就与茶叶非常像，很有迷惑性，但口感苦涩。无论是生吃还是晒干磨粉冲服，效果与海洛因极似，毒效惊人且成瘾性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3" descr="9e9ba87c-3e2f-40d4-9c06-95da2c7207f2"/>
          <p:cNvPicPr/>
          <p:nvPr/>
        </p:nvPicPr>
        <p:blipFill>
          <a:blip r:embed="rId1"/>
          <a:stretch/>
        </p:blipFill>
        <p:spPr>
          <a:xfrm>
            <a:off x="5011560" y="1182600"/>
            <a:ext cx="38862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30:51Z</dcterms:created>
  <dc:creator>slybyc</dc:creator>
  <dc:description/>
  <dc:language>en-US</dc:language>
  <cp:lastModifiedBy>珊儿</cp:lastModifiedBy>
  <dcterms:modified xsi:type="dcterms:W3CDTF">2019-10-28T16:36:16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