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2.png" ContentType="image/png"/>
  <Override PartName="/ppt/media/projctor.wav" ContentType="audio/x-wav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jpeg" ContentType="image/jpeg"/>
  <Override PartName="/ppt/media/image32.jpeg" ContentType="image/jpeg"/>
  <Override PartName="/ppt/media/image29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7516-6856-481C-9EB7-50B02454CE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7F9B-0AF8-4831-A332-351214D3B1C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DB55-3D25-4F33-8EC4-1B1B8B8668B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434B-1253-4BF8-85E4-B0740741CE6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103F-33F5-4206-A2BD-00687917AB3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7D4-6A4E-4874-8E89-A8163AD9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4A2-301B-4201-915D-1AD29086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989-E683-4B5D-A34E-56146575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E5C-6E23-4177-AAE0-7E1C7633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D28B-12F9-4C22-858C-714F35E5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6D27-8A6F-431D-8F5E-E6538464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5B49-77D2-4880-8490-1C9893BE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8C5B-2097-41E7-8523-E51590A0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72E4-0616-4EFA-B13E-3EB62C3C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9AC5-4BFA-4CAE-9102-EA10750E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FED8-CBED-44BB-BEFE-F34DB4F1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657-926F-4BCD-92FB-0E862433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48CC-A071-4F86-AE7A-AF83F8F8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19DC-8089-44BA-940A-BDDF3D81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B119-AE96-4361-80EC-D56A7B29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8A76-A324-479B-90F5-D1428AFA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4531-7591-4EE7-833B-B5772159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2933-49CA-4E9A-8716-8087FA06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2FFF-1314-4FE8-B7F4-771DB4C8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DD86-3299-40CF-93C2-4EC4E5E1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07B01-960F-45DD-A0A4-4D14C74C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A2578-DE8A-4594-A249-C97808C6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D70-C689-4446-9D02-E039778D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39B82-5C6E-4D7A-B4BF-FA238099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0652-5AB3-48FF-86F4-7F80D937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155C-7B67-49A0-8E02-B909D10A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488B-E48F-4E5A-AC81-D9017DBA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4C8E-BE73-4A96-8D5C-75235C84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FBEC-F36B-4A86-B022-47D4F1A4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3C0B-E3AC-4F23-9857-5B8F960B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16A9B-40E5-43AC-A1FC-A2701262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2F95E-3EFA-4153-A239-643D1A00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3494-4F4B-4153-B823-63998D3C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C9A-83A9-488E-9396-2002B27D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4F98-B6F3-4F37-9B38-9AE0C219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0E97A-BBAC-493E-9934-5552ED17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F2E9-DADC-4EFD-8E0B-81BAAC4E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6637-10D2-4D6B-A0D3-13366FB1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D22EC-3DC9-47C5-8648-485ADB06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3CFF7-29A9-4960-B73C-B993E991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E5446-7840-4D6F-86C6-DFA9FE52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EA6CA-72C4-46C5-8467-3E3C02E3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EE007-BED3-4586-AF99-CB7963B5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11DD-977D-4AFB-B820-3C200D2B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1AB-D7FC-42A6-9BF4-F86198D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28A8F-475F-4D6F-B52C-E2B9BF09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E799D-8130-4E2B-B742-F80A0BB0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6C68D-B032-4907-8CE7-8FA883EA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0150D-B420-4E7B-92A7-FF1AE182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82A54-A4B8-4C03-A0FC-48FE83A0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30D48-B673-4AE4-ADF5-4EEA5A7D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FCA9F-10A2-4265-BE30-F89BB1F6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32B30-3903-40DE-AEE6-28F29DA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8B233-BC11-4011-B8F3-D262A5AB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73952-3073-435B-8923-753D2354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F23-26C2-47D8-8A6D-F7305754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309FA-81E9-4D2C-ADA5-2CCD9D05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16EDD-8F30-454C-91CC-8FF6A641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A610-F0F0-4B53-BA30-145A24E8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17679-4AAE-40C1-915B-C31B7908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766E5-A6C5-43D7-9E67-0CBE7E8C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DB31E-9B50-4FB2-B34F-2DC0B11B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5AE2C-838C-4016-B0EE-E7670C9D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940AB-F9F5-4034-900E-9F6FF17F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3F1CC-E2B5-4EB7-9319-D0A7B355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991A4-4980-4662-8E87-235C8615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780-7CA6-4593-8D40-B1F4FD8E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8797C-AF0E-488D-BB99-3CEA5589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41560-0F30-43D7-B6E1-C1C2C142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18D8E-6222-4668-9CB0-E199E19D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A587D-AE53-474F-AA29-ECB2753C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AED5B-EEA0-4BEF-94FE-0C3CE4F7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367E3-2064-46D4-B570-C7C09026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2CBCF-D401-4693-9601-1E625E3C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75466-6E1C-4606-8391-B99E6FCE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13B32-1038-4B74-96EA-48645DEC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113C2-2F1C-4700-9744-0390629F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D66-6991-476C-B7C8-8F02C72B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5C2DE-6FB0-4AA9-B544-92DE3D4C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AD7E3-8EB1-4092-8B20-6947E856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6A16E-C681-4F70-B464-E2260850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2DAAC-2B50-4DA3-8D20-73DD821D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ECC18-2755-47A3-A569-24044E15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218B0-BD0C-4973-A1C7-BCDDC902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0E204-DCDA-46D1-81C4-2568E774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C0482-93D9-4FB4-8985-9EAA7274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EB3BE-5EC7-4CD5-A7F9-0F5A620D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5F0C0-C752-4AC8-B64A-FFC2CE6A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6E1-7D58-4B60-B071-DF647DE7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0EC2D-BD22-4B12-BD41-1A02C39C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D32A2-9178-42FE-926E-EB744905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C26F3-A5B5-4FD3-9D1E-B11F6B0B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8C170-5BB2-41F2-A418-FB94E7D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7C1B0-A7BB-4B3A-A27B-34323055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47BC2-7231-46CA-BFC8-F26EEE01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0F5EC-A0BD-452A-9173-0E03D296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CE5D-2E30-414D-A29E-A93A6927C883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0037-951B-4134-99F0-54BF69F83F2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83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988D-F1B6-4C57-908B-DE69427BDE39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DAF1-7875-4D58-898A-1AFDE4B4D785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1" name="未知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FEDE-45FE-4293-A2B0-DF84F8E1EC00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215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221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B199-B007-4F67-8958-8B6286DF33EE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9C7A-AAB0-499A-B0FF-9D0D3C5B4280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10" name="未知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13" name="未知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9E2B-3AA6-4D12-A2CE-9F232ACCF239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矩形 1" descr=""/>
          <p:cNvPicPr/>
          <p:nvPr/>
        </p:nvPicPr>
        <p:blipFill>
          <a:blip r:embed="rId1"/>
          <a:stretch/>
        </p:blipFill>
        <p:spPr>
          <a:xfrm>
            <a:off x="1036800" y="2541600"/>
            <a:ext cx="7119720" cy="15238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"/>
          <p:cNvSpPr/>
          <p:nvPr/>
        </p:nvSpPr>
        <p:spPr>
          <a:xfrm>
            <a:off x="-11160" y="333360"/>
            <a:ext cx="4295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隶书"/>
                <a:ea typeface="华文隶书"/>
              </a:rPr>
              <a:t>高中学生安全教育专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2536920" y="4437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执教：罗武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106720" y="541512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湖北省宜昌市夷陵区东湖高级中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"/>
          <p:cNvSpPr/>
          <p:nvPr/>
        </p:nvSpPr>
        <p:spPr>
          <a:xfrm>
            <a:off x="0" y="2844720"/>
            <a:ext cx="792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9360" y="4395960"/>
          <a:ext cx="208080" cy="517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7320">
                <a:tc>
                  <a:txBody>
                    <a:bodyPr tIns="45360" bIns="45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Rectangle 10"/>
          <p:cNvSpPr/>
          <p:nvPr/>
        </p:nvSpPr>
        <p:spPr>
          <a:xfrm>
            <a:off x="0" y="2844720"/>
            <a:ext cx="792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9360" y="4395960"/>
          <a:ext cx="208080" cy="517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7320">
                <a:tc>
                  <a:txBody>
                    <a:bodyPr tIns="45360" bIns="45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Rectangle 17"/>
          <p:cNvSpPr/>
          <p:nvPr/>
        </p:nvSpPr>
        <p:spPr>
          <a:xfrm>
            <a:off x="2655720" y="3381480"/>
            <a:ext cx="828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2655720" y="3381480"/>
            <a:ext cx="828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2655720" y="3381480"/>
            <a:ext cx="828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2655720" y="3381480"/>
            <a:ext cx="828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4021200" y="2470680"/>
            <a:ext cx="497988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摇头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是安非他明类衍生物，常制成的片剂具有中枢神经兴奋和致幻作用。颜色、图案各异因听到节奏狂放的音乐便会不由自主随音乐摆动头部。故称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摇头丸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。有强烈的中枢神经兴奋作用和精神依赖性，对大脑有严重的损害。服用后表现为：活动过度、感情冲动、嗜舞、偏执、妄想、自我约束力下降以及出现幻觉、空间定向力障碍和暴力倾向等。成瘾者会出现出现头晕、乏力、体重减轻、失眠、恶心等症状，长期服用除导致产生精神分裂外，还导致死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3" descr="12%_`OQK2@_MOACU{L4){JO"/>
          <p:cNvPicPr/>
          <p:nvPr/>
        </p:nvPicPr>
        <p:blipFill>
          <a:blip r:embed="rId1"/>
          <a:stretch/>
        </p:blipFill>
        <p:spPr>
          <a:xfrm>
            <a:off x="189000" y="3890880"/>
            <a:ext cx="3717720" cy="269892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24"/>
          <p:cNvSpPr/>
          <p:nvPr/>
        </p:nvSpPr>
        <p:spPr>
          <a:xfrm>
            <a:off x="222120" y="1014480"/>
            <a:ext cx="3621240" cy="2800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"/>
          <p:cNvSpPr/>
          <p:nvPr/>
        </p:nvSpPr>
        <p:spPr>
          <a:xfrm>
            <a:off x="0" y="2844720"/>
            <a:ext cx="792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9360" y="4395960"/>
          <a:ext cx="208080" cy="517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7320">
                <a:tc>
                  <a:txBody>
                    <a:bodyPr tIns="45360" bIns="45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Rectangle 10"/>
          <p:cNvSpPr/>
          <p:nvPr/>
        </p:nvSpPr>
        <p:spPr>
          <a:xfrm>
            <a:off x="4211640" y="3155760"/>
            <a:ext cx="4724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 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K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黑体"/>
                <a:ea typeface="黑体"/>
              </a:rPr>
              <a:t>即氯胺酮，静脉全麻药，有时也可用作兽用麻醉药。白色结晶粉末，无臭，易溶于水，通常在娱乐场所滥用。服用后遇快节奏音乐便会强烈扭动，会导致神经中毒反应、精神分裂症状，出现幻听、幻觉、幻视等，对记忆和思维能力造成严重的损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2844720"/>
            <a:ext cx="792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9360" y="4395960"/>
          <a:ext cx="208080" cy="517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7320">
                <a:tc>
                  <a:txBody>
                    <a:bodyPr tIns="45360" bIns="45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AutoShape 19"/>
          <p:cNvSpPr/>
          <p:nvPr/>
        </p:nvSpPr>
        <p:spPr>
          <a:xfrm>
            <a:off x="512640" y="1679400"/>
            <a:ext cx="3394080" cy="4383360"/>
          </a:xfrm>
          <a:custGeom>
            <a:avLst/>
            <a:gdLst>
              <a:gd name="textAreaLeft" fmla="*/ 165600 w 3394080"/>
              <a:gd name="textAreaRight" fmla="*/ 3228480 w 3394080"/>
              <a:gd name="textAreaTop" fmla="*/ 165600 h 4383360"/>
              <a:gd name="textAreaBottom" fmla="*/ 4217760 h 4383360"/>
            </a:gdLst>
            <a:ahLst/>
            <a:rect l="textAreaLeft" t="textAreaTop" r="textAreaRight" b="textAreaBottom"/>
            <a:pathLst>
              <a:path w="21600" h="27895">
                <a:moveTo>
                  <a:pt x="3600" y="0"/>
                </a:moveTo>
                <a:arcTo wR="3600" hR="3600" stAng="16200000" swAng="-5400000"/>
                <a:lnTo>
                  <a:pt x="0" y="24295"/>
                </a:lnTo>
                <a:arcTo wR="3600" hR="3600" stAng="10800000" swAng="-5400000"/>
                <a:lnTo>
                  <a:pt x="18000" y="27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组合 1"/>
          <p:cNvGrpSpPr/>
          <p:nvPr/>
        </p:nvGrpSpPr>
        <p:grpSpPr>
          <a:xfrm>
            <a:off x="900000" y="1838160"/>
            <a:ext cx="3797280" cy="870120"/>
            <a:chOff x="900000" y="1838160"/>
            <a:chExt cx="3797280" cy="870120"/>
          </a:xfrm>
        </p:grpSpPr>
        <p:sp>
          <p:nvSpPr>
            <p:cNvPr id="413" name="矩形: 圆角 5"/>
            <p:cNvSpPr/>
            <p:nvPr/>
          </p:nvSpPr>
          <p:spPr>
            <a:xfrm>
              <a:off x="900000" y="1987200"/>
              <a:ext cx="539640" cy="72108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721080"/>
                <a:gd name="textAreaBottom" fmla="*/ 694800 h 7210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文本框 51"/>
            <p:cNvSpPr/>
            <p:nvPr/>
          </p:nvSpPr>
          <p:spPr>
            <a:xfrm>
              <a:off x="1547280" y="1838160"/>
              <a:ext cx="315000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bfa06"/>
                  </a:solidFill>
                  <a:latin typeface="隶书"/>
                  <a:ea typeface="隶书"/>
                </a:rPr>
                <a:t>具有依赖性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矩形 1"/>
          <p:cNvSpPr/>
          <p:nvPr/>
        </p:nvSpPr>
        <p:spPr>
          <a:xfrm>
            <a:off x="3055680" y="81756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、毒品的基本特征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2"/>
          <p:cNvGrpSpPr/>
          <p:nvPr/>
        </p:nvGrpSpPr>
        <p:grpSpPr>
          <a:xfrm>
            <a:off x="927000" y="3357720"/>
            <a:ext cx="4005360" cy="965160"/>
            <a:chOff x="927000" y="3357720"/>
            <a:chExt cx="4005360" cy="965160"/>
          </a:xfrm>
        </p:grpSpPr>
        <p:sp>
          <p:nvSpPr>
            <p:cNvPr id="417" name="文本框 54"/>
            <p:cNvSpPr/>
            <p:nvPr/>
          </p:nvSpPr>
          <p:spPr>
            <a:xfrm>
              <a:off x="1547640" y="3357720"/>
              <a:ext cx="33847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bfa06"/>
                  </a:solidFill>
                  <a:latin typeface="隶书"/>
                  <a:ea typeface="隶书"/>
                </a:rPr>
                <a:t>具有非法性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: 圆角 5"/>
            <p:cNvSpPr/>
            <p:nvPr/>
          </p:nvSpPr>
          <p:spPr>
            <a:xfrm>
              <a:off x="927000" y="3500640"/>
              <a:ext cx="539640" cy="72072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720720"/>
                <a:gd name="textAreaBottom" fmla="*/ 694440 h 72072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3"/>
          <p:cNvGrpSpPr/>
          <p:nvPr/>
        </p:nvGrpSpPr>
        <p:grpSpPr>
          <a:xfrm>
            <a:off x="922320" y="4836960"/>
            <a:ext cx="4657680" cy="968400"/>
            <a:chOff x="922320" y="4836960"/>
            <a:chExt cx="4657680" cy="968400"/>
          </a:xfrm>
        </p:grpSpPr>
        <p:sp>
          <p:nvSpPr>
            <p:cNvPr id="420" name="文本框 57"/>
            <p:cNvSpPr/>
            <p:nvPr/>
          </p:nvSpPr>
          <p:spPr>
            <a:xfrm>
              <a:off x="1547640" y="4836960"/>
              <a:ext cx="40323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bfa06"/>
                  </a:solidFill>
                  <a:latin typeface="隶书"/>
                  <a:ea typeface="隶书"/>
                </a:rPr>
                <a:t>具有危害性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: 圆角 5"/>
            <p:cNvSpPr/>
            <p:nvPr/>
          </p:nvSpPr>
          <p:spPr>
            <a:xfrm>
              <a:off x="922320" y="5011560"/>
              <a:ext cx="541080" cy="720720"/>
            </a:xfrm>
            <a:custGeom>
              <a:avLst/>
              <a:gdLst>
                <a:gd name="textAreaLeft" fmla="*/ 26280 w 541080"/>
                <a:gd name="textAreaRight" fmla="*/ 514800 w 541080"/>
                <a:gd name="textAreaTop" fmla="*/ 26280 h 720720"/>
                <a:gd name="textAreaBottom" fmla="*/ 694440 h 720720"/>
              </a:gdLst>
              <a:ahLst/>
              <a:rect l="textAreaLeft" t="textAreaTop" r="textAreaRight" b="textAreaBottom"/>
              <a:pathLst>
                <a:path w="21600" h="28766">
                  <a:moveTo>
                    <a:pt x="3600" y="0"/>
                  </a:moveTo>
                  <a:arcTo wR="3600" hR="3600" stAng="16200000" swAng="-5400000"/>
                  <a:lnTo>
                    <a:pt x="0" y="25166"/>
                  </a:lnTo>
                  <a:arcTo wR="3600" hR="3600" stAng="10800000" swAng="-5400000"/>
                  <a:lnTo>
                    <a:pt x="18000" y="28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5" descr="get"/>
          <p:cNvPicPr/>
          <p:nvPr/>
        </p:nvPicPr>
        <p:blipFill>
          <a:blip r:embed="rId1"/>
          <a:stretch/>
        </p:blipFill>
        <p:spPr>
          <a:xfrm>
            <a:off x="0" y="798480"/>
            <a:ext cx="2570040" cy="3276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get (1)"/>
          <p:cNvPicPr/>
          <p:nvPr/>
        </p:nvPicPr>
        <p:blipFill>
          <a:blip r:embed="rId2"/>
          <a:stretch/>
        </p:blipFill>
        <p:spPr>
          <a:xfrm>
            <a:off x="2590920" y="798480"/>
            <a:ext cx="2590560" cy="3276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get (2)"/>
          <p:cNvPicPr/>
          <p:nvPr/>
        </p:nvPicPr>
        <p:blipFill>
          <a:blip r:embed="rId3"/>
          <a:stretch/>
        </p:blipFill>
        <p:spPr>
          <a:xfrm>
            <a:off x="0" y="4076640"/>
            <a:ext cx="5181480" cy="278136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10"/>
          <p:cNvSpPr/>
          <p:nvPr/>
        </p:nvSpPr>
        <p:spPr>
          <a:xfrm>
            <a:off x="5435640" y="907920"/>
            <a:ext cx="3276720" cy="1297080"/>
          </a:xfrm>
          <a:prstGeom prst="wedgeRectCallout">
            <a:avLst>
              <a:gd name="adj1" fmla="val -57703"/>
              <a:gd name="adj2" fmla="val 89171"/>
            </a:avLst>
          </a:prstGeom>
          <a:solidFill>
            <a:srgbClr val="bbe0e3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烟吸、烫吸、鼻嗅</a:t>
            </a:r>
            <a:r>
              <a:rPr b="1" lang="zh-CN" sz="20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注射、口服。</a:t>
            </a:r>
            <a:r>
              <a:rPr b="1" lang="zh-CN" sz="20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1" descr="get"/>
          <p:cNvPicPr/>
          <p:nvPr/>
        </p:nvPicPr>
        <p:blipFill>
          <a:blip r:embed="rId4"/>
          <a:stretch/>
        </p:blipFill>
        <p:spPr>
          <a:xfrm>
            <a:off x="5257800" y="3645000"/>
            <a:ext cx="3886200" cy="321300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"/>
          <p:cNvSpPr/>
          <p:nvPr/>
        </p:nvSpPr>
        <p:spPr>
          <a:xfrm>
            <a:off x="1186200" y="189000"/>
            <a:ext cx="379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吸毒的主要方法吸毒的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3"/>
          <p:cNvSpPr/>
          <p:nvPr/>
        </p:nvSpPr>
        <p:spPr>
          <a:xfrm>
            <a:off x="250920" y="2602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二、毒品的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组合 2"/>
          <p:cNvGrpSpPr/>
          <p:nvPr/>
        </p:nvGrpSpPr>
        <p:grpSpPr>
          <a:xfrm>
            <a:off x="108000" y="1557360"/>
            <a:ext cx="8986680" cy="2597040"/>
            <a:chOff x="108000" y="1557360"/>
            <a:chExt cx="8986680" cy="2597040"/>
          </a:xfrm>
        </p:grpSpPr>
        <p:sp>
          <p:nvSpPr>
            <p:cNvPr id="430" name="TextBox 1"/>
            <p:cNvSpPr/>
            <p:nvPr/>
          </p:nvSpPr>
          <p:spPr>
            <a:xfrm>
              <a:off x="108000" y="1557360"/>
              <a:ext cx="6765840" cy="21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对身体的危害主要有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（</a:t>
              </a:r>
              <a:r>
                <a:rPr b="1" lang="en-US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）大脑病变：近年来的研究证实，毒品能直接改变大脑中部分化学物质的结构，破坏、扰乱人体正常的高级神经活动，有的甚至毒害、损伤神经组织。</a:t>
              </a:r>
              <a:r>
                <a:rPr b="1" lang="en-US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2" descr=""/>
            <p:cNvPicPr/>
            <p:nvPr/>
          </p:nvPicPr>
          <p:blipFill>
            <a:blip r:embed="rId1"/>
            <a:stretch/>
          </p:blipFill>
          <p:spPr>
            <a:xfrm>
              <a:off x="6873840" y="1985760"/>
              <a:ext cx="2220840" cy="21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TextBox 1"/>
          <p:cNvSpPr/>
          <p:nvPr/>
        </p:nvSpPr>
        <p:spPr>
          <a:xfrm>
            <a:off x="1767240" y="11970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一）吸毒摧残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3"/>
          <p:cNvGrpSpPr/>
          <p:nvPr/>
        </p:nvGrpSpPr>
        <p:grpSpPr>
          <a:xfrm>
            <a:off x="108000" y="4581360"/>
            <a:ext cx="8986680" cy="1800720"/>
            <a:chOff x="108000" y="4581360"/>
            <a:chExt cx="8986680" cy="1800720"/>
          </a:xfrm>
        </p:grpSpPr>
        <p:pic>
          <p:nvPicPr>
            <p:cNvPr id="434" name="Picture 3" descr=""/>
            <p:cNvPicPr/>
            <p:nvPr/>
          </p:nvPicPr>
          <p:blipFill>
            <a:blip r:embed="rId2"/>
            <a:stretch/>
          </p:blipFill>
          <p:spPr>
            <a:xfrm>
              <a:off x="6873840" y="4581360"/>
              <a:ext cx="2220840" cy="18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Box 1"/>
            <p:cNvSpPr/>
            <p:nvPr/>
          </p:nvSpPr>
          <p:spPr>
            <a:xfrm>
              <a:off x="108000" y="4581360"/>
              <a:ext cx="6624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（</a:t>
              </a:r>
              <a:r>
                <a:rPr b="1" lang="en-US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）心脏病变：毒品毒害人体重要组织器官，对循环系统的破坏表现为血压下降心动过缓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组合 1"/>
          <p:cNvGrpSpPr/>
          <p:nvPr/>
        </p:nvGrpSpPr>
        <p:grpSpPr>
          <a:xfrm>
            <a:off x="189000" y="925560"/>
            <a:ext cx="8612280" cy="1622880"/>
            <a:chOff x="189000" y="925560"/>
            <a:chExt cx="8612280" cy="1622880"/>
          </a:xfrm>
        </p:grpSpPr>
        <p:sp>
          <p:nvSpPr>
            <p:cNvPr id="437" name="TextBox 2"/>
            <p:cNvSpPr/>
            <p:nvPr/>
          </p:nvSpPr>
          <p:spPr>
            <a:xfrm>
              <a:off x="189000" y="925560"/>
              <a:ext cx="6383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（</a:t>
              </a:r>
              <a:r>
                <a:rPr b="1" lang="en-US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3</a:t>
              </a: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）瘦弱不堪：吸毒者胃肠道平滑肌和括约肌张力提高，蠕动减弱，出现消化和吸收功能障碍，食欲不振，甚至出现营养严重不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2" descr=""/>
            <p:cNvPicPr/>
            <p:nvPr/>
          </p:nvPicPr>
          <p:blipFill>
            <a:blip r:embed="rId1"/>
            <a:stretch/>
          </p:blipFill>
          <p:spPr>
            <a:xfrm>
              <a:off x="6562800" y="1052640"/>
              <a:ext cx="2238480" cy="149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组合 2"/>
          <p:cNvGrpSpPr/>
          <p:nvPr/>
        </p:nvGrpSpPr>
        <p:grpSpPr>
          <a:xfrm>
            <a:off x="108000" y="3089160"/>
            <a:ext cx="8693280" cy="1419480"/>
            <a:chOff x="108000" y="3089160"/>
            <a:chExt cx="8693280" cy="1419480"/>
          </a:xfrm>
        </p:grpSpPr>
        <p:sp>
          <p:nvSpPr>
            <p:cNvPr id="440" name="TextBox 6"/>
            <p:cNvSpPr/>
            <p:nvPr/>
          </p:nvSpPr>
          <p:spPr>
            <a:xfrm>
              <a:off x="108000" y="3194640"/>
              <a:ext cx="63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（</a:t>
              </a:r>
              <a:r>
                <a:rPr b="1" lang="en-US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4</a:t>
              </a: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）传播疾病：毒品危害人体免疫机制，使吸毒者极易感染各种疾病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1" name="Picture 3" descr=""/>
            <p:cNvPicPr/>
            <p:nvPr/>
          </p:nvPicPr>
          <p:blipFill>
            <a:blip r:embed="rId2"/>
            <a:stretch/>
          </p:blipFill>
          <p:spPr>
            <a:xfrm>
              <a:off x="6686640" y="3089160"/>
              <a:ext cx="2114640" cy="14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组合 3"/>
          <p:cNvGrpSpPr/>
          <p:nvPr/>
        </p:nvGrpSpPr>
        <p:grpSpPr>
          <a:xfrm>
            <a:off x="108000" y="4637160"/>
            <a:ext cx="8693280" cy="2176560"/>
            <a:chOff x="108000" y="4637160"/>
            <a:chExt cx="8693280" cy="2176560"/>
          </a:xfrm>
        </p:grpSpPr>
        <p:sp>
          <p:nvSpPr>
            <p:cNvPr id="443" name="TextBox 7"/>
            <p:cNvSpPr/>
            <p:nvPr/>
          </p:nvSpPr>
          <p:spPr>
            <a:xfrm>
              <a:off x="108000" y="4637160"/>
              <a:ext cx="6382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（</a:t>
              </a:r>
              <a:r>
                <a:rPr b="1" lang="en-US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5</a:t>
              </a: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）传播爱滋病：吸毒者使用不洁的注射器，共用注射器造成人体免疫缺陷性病毒（</a:t>
              </a:r>
              <a:r>
                <a:rPr b="1" lang="en-US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HIV</a:t>
              </a: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）的直接血液传播或通过性接触感染爱滋病毒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4" descr=""/>
            <p:cNvPicPr/>
            <p:nvPr/>
          </p:nvPicPr>
          <p:blipFill>
            <a:blip r:embed="rId3"/>
            <a:stretch/>
          </p:blipFill>
          <p:spPr>
            <a:xfrm>
              <a:off x="6686640" y="4727160"/>
              <a:ext cx="2114640" cy="208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3"/>
          <p:cNvSpPr/>
          <p:nvPr/>
        </p:nvSpPr>
        <p:spPr>
          <a:xfrm>
            <a:off x="119160" y="692280"/>
            <a:ext cx="88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66ff33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）加速死亡：吸毒者为了满足毒瘾，易造成吸食（注射）过量毒品，导致呼吸中枢衰竭而死亡或毒品中混杂有毒、有害物质出现过敏性休克及各种复杂的并发症，严重者导致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组合 2"/>
          <p:cNvGrpSpPr/>
          <p:nvPr/>
        </p:nvGrpSpPr>
        <p:grpSpPr>
          <a:xfrm>
            <a:off x="271440" y="2022480"/>
            <a:ext cx="4437000" cy="2265840"/>
            <a:chOff x="271440" y="2022480"/>
            <a:chExt cx="4437000" cy="2265840"/>
          </a:xfrm>
        </p:grpSpPr>
        <p:pic>
          <p:nvPicPr>
            <p:cNvPr id="447" name="Picture 4" descr=""/>
            <p:cNvPicPr/>
            <p:nvPr/>
          </p:nvPicPr>
          <p:blipFill>
            <a:blip r:embed="rId1"/>
            <a:stretch/>
          </p:blipFill>
          <p:spPr>
            <a:xfrm>
              <a:off x="610920" y="2022480"/>
              <a:ext cx="1644480" cy="18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5" descr=""/>
            <p:cNvPicPr/>
            <p:nvPr/>
          </p:nvPicPr>
          <p:blipFill>
            <a:blip r:embed="rId2"/>
            <a:stretch/>
          </p:blipFill>
          <p:spPr>
            <a:xfrm>
              <a:off x="2517840" y="2063520"/>
              <a:ext cx="219060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Box 3"/>
            <p:cNvSpPr/>
            <p:nvPr/>
          </p:nvSpPr>
          <p:spPr>
            <a:xfrm>
              <a:off x="271440" y="3889440"/>
              <a:ext cx="443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梁蓓丽，</a:t>
              </a:r>
              <a:r>
                <a:rPr b="1" lang="en-US" sz="20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21</a:t>
              </a:r>
              <a:r>
                <a:rPr b="1" lang="zh-CN" sz="20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岁，贵州人，一个聪慧、漂亮的女孩，染上毒瘾后，靠卖淫维持吸毒，后由于吸食过量的毒品死于南宁市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3"/>
          <p:cNvGrpSpPr/>
          <p:nvPr/>
        </p:nvGrpSpPr>
        <p:grpSpPr>
          <a:xfrm>
            <a:off x="5940360" y="2063880"/>
            <a:ext cx="3170160" cy="2586600"/>
            <a:chOff x="5940360" y="2063880"/>
            <a:chExt cx="3170160" cy="2586600"/>
          </a:xfrm>
        </p:grpSpPr>
        <p:pic>
          <p:nvPicPr>
            <p:cNvPr id="451" name="Picture 6" descr=""/>
            <p:cNvPicPr/>
            <p:nvPr/>
          </p:nvPicPr>
          <p:blipFill>
            <a:blip r:embed="rId3"/>
            <a:stretch/>
          </p:blipFill>
          <p:spPr>
            <a:xfrm>
              <a:off x="6167160" y="2063880"/>
              <a:ext cx="251928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TextBox 3"/>
            <p:cNvSpPr/>
            <p:nvPr/>
          </p:nvSpPr>
          <p:spPr>
            <a:xfrm>
              <a:off x="5940360" y="3946680"/>
              <a:ext cx="3170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中央戏剧学院毕业的电影演员朱洁因吸食过量的毒品死亡，年仅</a:t>
              </a:r>
              <a:r>
                <a:rPr b="1" lang="en-US" sz="20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28</a:t>
              </a:r>
              <a:r>
                <a:rPr b="1" lang="zh-CN" sz="20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岁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4"/>
          <p:cNvGrpSpPr/>
          <p:nvPr/>
        </p:nvGrpSpPr>
        <p:grpSpPr>
          <a:xfrm>
            <a:off x="119160" y="4959360"/>
            <a:ext cx="8856720" cy="1898640"/>
            <a:chOff x="119160" y="4959360"/>
            <a:chExt cx="8856720" cy="1898640"/>
          </a:xfrm>
        </p:grpSpPr>
        <p:sp>
          <p:nvSpPr>
            <p:cNvPr id="454" name="TextBox 3"/>
            <p:cNvSpPr/>
            <p:nvPr/>
          </p:nvSpPr>
          <p:spPr>
            <a:xfrm>
              <a:off x="119160" y="5207040"/>
              <a:ext cx="54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吸毒者平均寿命是多少呢？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Box 3"/>
            <p:cNvSpPr/>
            <p:nvPr/>
          </p:nvSpPr>
          <p:spPr>
            <a:xfrm>
              <a:off x="271440" y="5732280"/>
              <a:ext cx="54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据国外的相关部门统计，吸毒者多数短命，一般寿命不超过四十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6" name="Picture 7" descr=""/>
            <p:cNvPicPr/>
            <p:nvPr/>
          </p:nvPicPr>
          <p:blipFill>
            <a:blip r:embed="rId4"/>
            <a:stretch/>
          </p:blipFill>
          <p:spPr>
            <a:xfrm>
              <a:off x="6042240" y="4959360"/>
              <a:ext cx="2933640" cy="189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3"/>
          <p:cNvSpPr/>
          <p:nvPr/>
        </p:nvSpPr>
        <p:spPr>
          <a:xfrm>
            <a:off x="360360" y="324000"/>
            <a:ext cx="58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二）吸毒毁灭家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403200" y="98100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隶书"/>
                <a:ea typeface="隶书"/>
              </a:rPr>
              <a:t>倾家荡产  妻离子散  家破人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50920" y="1989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吸毒的费用是个“无底洞”，普通的工资收入根本不能满足吸毒的需要。即使有一定的经济基础也只能维持一段时间。因为吸毒永远都不可能得到满足，结果只能是吸得一贫如洗，倾家荡产。很多吸毒者为了满足毒瘾不惜遗弃老人，出卖子女，甚至威胁妻女卖淫获取毒资，甚至妻离子散，家破人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403200" y="4297320"/>
            <a:ext cx="8632800" cy="2424240"/>
            <a:chOff x="403200" y="4297320"/>
            <a:chExt cx="8632800" cy="2424240"/>
          </a:xfrm>
        </p:grpSpPr>
        <p:sp>
          <p:nvSpPr>
            <p:cNvPr id="461" name="TextBox 4"/>
            <p:cNvSpPr/>
            <p:nvPr/>
          </p:nvSpPr>
          <p:spPr>
            <a:xfrm>
              <a:off x="403200" y="4647960"/>
              <a:ext cx="54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ff33"/>
                  </a:solidFill>
                  <a:latin typeface="黑体"/>
                  <a:ea typeface="黑体"/>
                </a:rPr>
                <a:t>图为：西宁市吸毒人员马某某夫妇因吸毒先后死亡，家中财产全部吸光，留下不满十岁的小孩和年迈的母亲，生活苦不堪言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2" name="Picture 2" descr=""/>
            <p:cNvPicPr/>
            <p:nvPr/>
          </p:nvPicPr>
          <p:blipFill>
            <a:blip r:embed="rId1"/>
            <a:stretch/>
          </p:blipFill>
          <p:spPr>
            <a:xfrm>
              <a:off x="6099120" y="4297320"/>
              <a:ext cx="2936880" cy="2424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463" name="直接箭头连接符 2"/>
          <p:cNvCxnSpPr/>
          <p:nvPr/>
        </p:nvCxnSpPr>
        <p:spPr>
          <a:xfrm>
            <a:off x="2556000" y="1412640"/>
            <a:ext cx="504000" cy="108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64" name="直接箭头连接符 9"/>
          <p:cNvCxnSpPr/>
          <p:nvPr/>
        </p:nvCxnSpPr>
        <p:spPr>
          <a:xfrm>
            <a:off x="5076720" y="1412640"/>
            <a:ext cx="504000" cy="108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3"/>
          <p:cNvSpPr/>
          <p:nvPr/>
        </p:nvSpPr>
        <p:spPr>
          <a:xfrm>
            <a:off x="179280" y="17928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三）吸毒危害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3"/>
          <p:cNvSpPr/>
          <p:nvPr/>
        </p:nvSpPr>
        <p:spPr>
          <a:xfrm>
            <a:off x="250920" y="78120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诱发刑事犯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吸毒和犯罪是一对孪生兄弟。吸毒者在耗尽个人和家族钱财后就会铤而走险，走上犯罪的道路，进行以贩并吸，贪污、诈骗、盗窃、抢劫、凶杀等犯罪活动。美国政府调查表明者用于购买海洛因的钱款中</a:t>
            </a:r>
            <a:r>
              <a:rPr b="1" lang="en-US" sz="2400" spc="-1" strike="noStrike">
                <a:solidFill>
                  <a:srgbClr val="66ff33"/>
                </a:solidFill>
                <a:latin typeface="黑体"/>
                <a:ea typeface="黑体"/>
              </a:rPr>
              <a:t>20%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来自抢劫，</a:t>
            </a:r>
            <a:r>
              <a:rPr b="1" lang="en-US" sz="2400" spc="-1" strike="noStrike">
                <a:solidFill>
                  <a:srgbClr val="66ff33"/>
                </a:solidFill>
                <a:latin typeface="黑体"/>
                <a:ea typeface="黑体"/>
              </a:rPr>
              <a:t>45%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来来自贩毒，</a:t>
            </a:r>
            <a:r>
              <a:rPr b="1" lang="en-US" sz="2400" spc="-1" strike="noStrike">
                <a:solidFill>
                  <a:srgbClr val="66ff33"/>
                </a:solidFill>
                <a:latin typeface="黑体"/>
                <a:ea typeface="黑体"/>
              </a:rPr>
              <a:t>17%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来自卖淫，</a:t>
            </a:r>
            <a:r>
              <a:rPr b="1" lang="en-US" sz="2400" spc="-1" strike="noStrike">
                <a:solidFill>
                  <a:srgbClr val="66ff33"/>
                </a:solidFill>
                <a:latin typeface="黑体"/>
                <a:ea typeface="黑体"/>
              </a:rPr>
              <a:t>12%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来自盗窃，即总计约</a:t>
            </a:r>
            <a:r>
              <a:rPr b="1" lang="en-US" sz="2400" spc="-1" strike="noStrike">
                <a:solidFill>
                  <a:srgbClr val="66ff33"/>
                </a:solidFill>
                <a:latin typeface="黑体"/>
                <a:ea typeface="黑体"/>
              </a:rPr>
              <a:t>94%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的毒资来自犯罪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3"/>
          <p:cNvSpPr/>
          <p:nvPr/>
        </p:nvSpPr>
        <p:spPr>
          <a:xfrm>
            <a:off x="324000" y="5013360"/>
            <a:ext cx="8450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影响国民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黑体"/>
                <a:ea typeface="黑体"/>
              </a:rPr>
              <a:t>吸毒影响国民素质，吸毒者都丧失正常的劳动能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3"/>
          <p:cNvSpPr/>
          <p:nvPr/>
        </p:nvSpPr>
        <p:spPr>
          <a:xfrm>
            <a:off x="349200" y="332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败坏社会风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吸毒败坏社会风气，腐蚀人的灵魂，摧毁民族精神，这已经成为全世界普遍的问题。据调查，我国</a:t>
            </a:r>
            <a:r>
              <a:rPr b="1" lang="en-US" sz="2400" spc="-1" strike="noStrike">
                <a:solidFill>
                  <a:srgbClr val="66ff33"/>
                </a:solidFill>
                <a:latin typeface="黑体"/>
                <a:ea typeface="黑体"/>
              </a:rPr>
              <a:t>80%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的女吸毒者靠卖淫维持吸毒消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"/>
          <p:cNvSpPr/>
          <p:nvPr/>
        </p:nvSpPr>
        <p:spPr>
          <a:xfrm>
            <a:off x="2561760" y="603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d3803"/>
                </a:solidFill>
                <a:latin typeface="华文隶书"/>
                <a:ea typeface="华文隶书"/>
              </a:rPr>
              <a:t>真实案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行楷"/>
                <a:ea typeface="华文行楷"/>
              </a:rPr>
              <a:t>林则徐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66ff33"/>
                </a:solidFill>
                <a:latin typeface="华文行楷"/>
                <a:ea typeface="华文行楷"/>
              </a:rPr>
              <a:t>虎门销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u=177722221,3717591612&amp;fm=51&amp;gp=0"/>
          <p:cNvPicPr/>
          <p:nvPr/>
        </p:nvPicPr>
        <p:blipFill>
          <a:blip r:embed="rId1"/>
          <a:stretch/>
        </p:blipFill>
        <p:spPr>
          <a:xfrm>
            <a:off x="468360" y="2276640"/>
            <a:ext cx="3382920" cy="34574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u=3226066068,2303271149&amp;fm=52&amp;gp=0"/>
          <p:cNvPicPr/>
          <p:nvPr/>
        </p:nvPicPr>
        <p:blipFill>
          <a:blip r:embed="rId2"/>
          <a:stretch/>
        </p:blipFill>
        <p:spPr>
          <a:xfrm>
            <a:off x="3708360" y="260280"/>
            <a:ext cx="5111640" cy="3960720"/>
          </a:xfrm>
          <a:prstGeom prst="rect">
            <a:avLst/>
          </a:prstGeom>
          <a:ln w="0">
            <a:noFill/>
          </a:ln>
        </p:spPr>
      </p:pic>
      <p:pic>
        <p:nvPicPr>
          <p:cNvPr id="370" name="矩形 1" descr=""/>
          <p:cNvPicPr/>
          <p:nvPr/>
        </p:nvPicPr>
        <p:blipFill>
          <a:blip r:embed="rId3"/>
          <a:stretch/>
        </p:blipFill>
        <p:spPr>
          <a:xfrm>
            <a:off x="152280" y="201600"/>
            <a:ext cx="36338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1680" y="259920"/>
            <a:ext cx="768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、吸毒的原因主要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66ff33"/>
                </a:solidFill>
                <a:latin typeface="隶书"/>
                <a:ea typeface="隶书"/>
              </a:rPr>
              <a:t>、年轻，缺少社会经验，好奇心驱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66ff33"/>
                </a:solidFill>
                <a:latin typeface="隶书"/>
                <a:ea typeface="隶书"/>
              </a:rPr>
              <a:t>、思想空虚，寻找刺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66ff33"/>
                </a:solidFill>
                <a:latin typeface="隶书"/>
                <a:ea typeface="隶书"/>
              </a:rPr>
              <a:t>、精神苦闷，情绪低落，寻求解脱苦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66ff33"/>
                </a:solidFill>
                <a:latin typeface="隶书"/>
                <a:ea typeface="隶书"/>
              </a:rPr>
              <a:t>、不相信吸毒会上瘾或戒不了，结果不能自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66ff33"/>
                </a:solidFill>
                <a:latin typeface="隶书"/>
                <a:ea typeface="隶书"/>
              </a:rPr>
              <a:t>、亲友的不良影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66ff33"/>
                </a:solidFill>
                <a:latin typeface="隶书"/>
                <a:ea typeface="隶书"/>
              </a:rPr>
              <a:t>、因不知情被欺骗、引诱吸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哪类青少年易沾染上毒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组合 10"/>
          <p:cNvGrpSpPr/>
          <p:nvPr/>
        </p:nvGrpSpPr>
        <p:grpSpPr>
          <a:xfrm>
            <a:off x="254160" y="2835360"/>
            <a:ext cx="4497480" cy="520560"/>
            <a:chOff x="254160" y="2835360"/>
            <a:chExt cx="4497480" cy="520560"/>
          </a:xfrm>
        </p:grpSpPr>
        <p:sp>
          <p:nvSpPr>
            <p:cNvPr id="477" name="PA_MH_Number_1">
              <a:hlinkClick r:id="rId1" action="ppaction://hlinksldjump"/>
            </p:cNvPr>
            <p:cNvSpPr/>
            <p:nvPr/>
          </p:nvSpPr>
          <p:spPr>
            <a:xfrm>
              <a:off x="254160" y="2852640"/>
              <a:ext cx="573120" cy="497160"/>
            </a:xfrm>
            <a:prstGeom prst="pie">
              <a:avLst/>
            </a:prstGeom>
            <a:solidFill>
              <a:srgbClr val="72bfc5"/>
            </a:solidFill>
            <a:ln w="38160">
              <a:solidFill>
                <a:srgbClr val="d6ec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Box 1"/>
            <p:cNvSpPr/>
            <p:nvPr/>
          </p:nvSpPr>
          <p:spPr>
            <a:xfrm>
              <a:off x="2441880" y="2835360"/>
              <a:ext cx="23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常出入网吧、</a:t>
              </a: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ktv</a:t>
              </a: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、酒吧等场所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组合 12"/>
          <p:cNvGrpSpPr/>
          <p:nvPr/>
        </p:nvGrpSpPr>
        <p:grpSpPr>
          <a:xfrm>
            <a:off x="254160" y="3627360"/>
            <a:ext cx="4336200" cy="520920"/>
            <a:chOff x="254160" y="3627360"/>
            <a:chExt cx="4336200" cy="520920"/>
          </a:xfrm>
        </p:grpSpPr>
        <p:sp>
          <p:nvSpPr>
            <p:cNvPr id="480" name="PA_MH_Number_1">
              <a:hlinkClick r:id="rId2" action="ppaction://hlinksldjump"/>
            </p:cNvPr>
            <p:cNvSpPr/>
            <p:nvPr/>
          </p:nvSpPr>
          <p:spPr>
            <a:xfrm>
              <a:off x="254160" y="3654360"/>
              <a:ext cx="572760" cy="493920"/>
            </a:xfrm>
            <a:prstGeom prst="pie">
              <a:avLst/>
            </a:prstGeom>
            <a:solidFill>
              <a:srgbClr val="72bfc5"/>
            </a:solidFill>
            <a:ln w="38160">
              <a:solidFill>
                <a:srgbClr val="d6ec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2"/>
            <p:cNvSpPr/>
            <p:nvPr/>
          </p:nvSpPr>
          <p:spPr>
            <a:xfrm>
              <a:off x="4246560" y="362736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易产生挫败感、不能够承担压力的青少年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11"/>
          <p:cNvGrpSpPr/>
          <p:nvPr/>
        </p:nvGrpSpPr>
        <p:grpSpPr>
          <a:xfrm>
            <a:off x="254160" y="4419720"/>
            <a:ext cx="6855120" cy="520560"/>
            <a:chOff x="254160" y="4419720"/>
            <a:chExt cx="6855120" cy="520560"/>
          </a:xfrm>
        </p:grpSpPr>
        <p:sp>
          <p:nvSpPr>
            <p:cNvPr id="483" name="PA_MH_Number_1">
              <a:hlinkClick r:id="rId3" action="ppaction://hlinksldjump"/>
            </p:cNvPr>
            <p:cNvSpPr/>
            <p:nvPr/>
          </p:nvSpPr>
          <p:spPr>
            <a:xfrm>
              <a:off x="254160" y="4446360"/>
              <a:ext cx="572760" cy="493560"/>
            </a:xfrm>
            <a:prstGeom prst="pie">
              <a:avLst/>
            </a:prstGeom>
            <a:solidFill>
              <a:srgbClr val="72bfc5"/>
            </a:solidFill>
            <a:ln w="38160">
              <a:solidFill>
                <a:srgbClr val="d6ec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Box 7"/>
            <p:cNvSpPr/>
            <p:nvPr/>
          </p:nvSpPr>
          <p:spPr>
            <a:xfrm>
              <a:off x="2448000" y="4419720"/>
              <a:ext cx="466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警惕性差，随意结交网友、社会朋友的青少年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9"/>
          <p:cNvGrpSpPr/>
          <p:nvPr/>
        </p:nvGrpSpPr>
        <p:grpSpPr>
          <a:xfrm>
            <a:off x="254160" y="1969920"/>
            <a:ext cx="3434400" cy="595440"/>
            <a:chOff x="254160" y="1969920"/>
            <a:chExt cx="3434400" cy="595440"/>
          </a:xfrm>
        </p:grpSpPr>
        <p:sp>
          <p:nvSpPr>
            <p:cNvPr id="486" name="PA_MH_Number_1">
              <a:hlinkClick r:id="rId4" action="ppaction://hlinksldjump"/>
            </p:cNvPr>
            <p:cNvSpPr/>
            <p:nvPr/>
          </p:nvSpPr>
          <p:spPr>
            <a:xfrm>
              <a:off x="254160" y="2066760"/>
              <a:ext cx="572760" cy="498600"/>
            </a:xfrm>
            <a:prstGeom prst="pie">
              <a:avLst/>
            </a:prstGeom>
            <a:solidFill>
              <a:srgbClr val="72bfc5"/>
            </a:solidFill>
            <a:ln w="38160">
              <a:solidFill>
                <a:srgbClr val="d6ec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Box 8"/>
            <p:cNvSpPr/>
            <p:nvPr/>
          </p:nvSpPr>
          <p:spPr>
            <a:xfrm>
              <a:off x="3344760" y="19699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ff33"/>
                  </a:solidFill>
                  <a:latin typeface="Arial"/>
                  <a:ea typeface="楷体_GB2312"/>
                </a:rPr>
                <a:t>与社会无业、不良人士接触者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01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四、青少年如何防止吸毒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0666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lhh_15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609624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牢记“四知道”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95280" y="2205000"/>
            <a:ext cx="914400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知道什么是毒品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知道吸毒极易成瘾，难以戒断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知道毒品的危害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知道如何预防毒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684360" y="7318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青少年如何拒绝毒品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个方法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2829240" y="2460600"/>
            <a:ext cx="309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）构筑拒毒心理防线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①正确把握好奇心，抵制不良诱惑。 </a:t>
            </a:r>
            <a:br>
              <a:rPr sz="2800"/>
            </a:b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          ②正确对待挫折和困难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2616120" y="4005360"/>
            <a:ext cx="31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）养成良好的行为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   ①不吸烟、不喝酒。</a:t>
            </a:r>
            <a:br>
              <a:rPr sz="2800"/>
            </a:b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          ②慎重交友。</a:t>
            </a:r>
            <a:br>
              <a:rPr sz="2800"/>
            </a:b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          ③不涉足青少年不宜进入的场所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"/>
          <p:cNvSpPr/>
          <p:nvPr/>
        </p:nvSpPr>
        <p:spPr>
          <a:xfrm>
            <a:off x="1555200" y="174456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楷体_GB2312"/>
              </a:rPr>
              <a:t>）树立正确的人生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2"/>
          <p:cNvSpPr/>
          <p:nvPr/>
        </p:nvSpPr>
        <p:spPr>
          <a:xfrm>
            <a:off x="16200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图片 4" descr="u=3962667435,2256256442&amp;fm=21&amp;gp=0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581720"/>
          </a:xfrm>
          <a:prstGeom prst="rect">
            <a:avLst/>
          </a:prstGeom>
          <a:ln w="0">
            <a:noFill/>
          </a:ln>
        </p:spPr>
      </p:pic>
      <p:sp>
        <p:nvSpPr>
          <p:cNvPr id="499" name="TextBox 1"/>
          <p:cNvSpPr/>
          <p:nvPr/>
        </p:nvSpPr>
        <p:spPr>
          <a:xfrm>
            <a:off x="138240" y="333360"/>
            <a:ext cx="40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夷陵区东湖高中特别提醒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林则徐与虎门销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8920" y="1628640"/>
            <a:ext cx="85186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1839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年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月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日（即清宣宗道光十九年岁次己亥四月廿二），林则徐下令在虎门海滩当众销毁鸦片，至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月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25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日结束，共历时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23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天，销毁鸦片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19,187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箱和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2119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袋，总重量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2,376,254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斤。虎门销烟开始的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月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日，民国时被定为不放假的禁烟节，而销烟结束翌日即</a:t>
            </a:r>
            <a:r>
              <a:rPr b="1" lang="zh-CN" sz="4000" spc="-1" strike="noStrike">
                <a:solidFill>
                  <a:srgbClr val="fd3803"/>
                </a:solidFill>
                <a:latin typeface="华文隶书"/>
                <a:ea typeface="华文隶书"/>
              </a:rPr>
              <a:t>6</a:t>
            </a:r>
            <a:r>
              <a:rPr b="1" lang="zh-CN" sz="4000" spc="-1" strike="noStrike">
                <a:solidFill>
                  <a:srgbClr val="fd3803"/>
                </a:solidFill>
                <a:latin typeface="华文隶书"/>
                <a:ea typeface="华文隶书"/>
              </a:rPr>
              <a:t>月</a:t>
            </a:r>
            <a:r>
              <a:rPr b="1" lang="zh-CN" sz="4000" spc="-1" strike="noStrike">
                <a:solidFill>
                  <a:srgbClr val="fd3803"/>
                </a:solidFill>
                <a:latin typeface="华文隶书"/>
                <a:ea typeface="华文隶书"/>
              </a:rPr>
              <a:t>26</a:t>
            </a:r>
            <a:r>
              <a:rPr b="1" lang="zh-CN" sz="4000" spc="-1" strike="noStrike">
                <a:solidFill>
                  <a:srgbClr val="fd3803"/>
                </a:solidFill>
                <a:latin typeface="华文隶书"/>
                <a:ea typeface="华文隶书"/>
              </a:rPr>
              <a:t>日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也正好是</a:t>
            </a:r>
            <a:r>
              <a:rPr b="1" lang="zh-CN" sz="4400" spc="-1" strike="noStrike">
                <a:solidFill>
                  <a:srgbClr val="fd3803"/>
                </a:solidFill>
                <a:latin typeface="华文隶书"/>
                <a:ea typeface="华文隶书"/>
              </a:rPr>
              <a:t>国际禁毒日</a:t>
            </a: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1"/>
          <p:cNvSpPr/>
          <p:nvPr/>
        </p:nvSpPr>
        <p:spPr>
          <a:xfrm>
            <a:off x="395280" y="16286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楷体_GB2312"/>
              </a:rPr>
              <a:t>、毒品的定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根据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刑法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357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条的规定：毒品是指鸦片、海洛因、甲基苯丙胺（冰毒）、吗啡、大麻、可卡因以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国家规定管制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的其它能够使人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成瘾癖的麻醉药品和精神药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324000" y="333360"/>
            <a:ext cx="54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一、毒品常识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324000" y="4076640"/>
            <a:ext cx="849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楷体_GB2312"/>
              </a:rPr>
              <a:t>、毒品的种类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66ff33"/>
                </a:solidFill>
                <a:latin typeface="黑体"/>
                <a:ea typeface="黑体"/>
              </a:rPr>
              <a:t>毒品有传统毒品（</a:t>
            </a:r>
            <a:r>
              <a:rPr b="0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鸦片、海洛因、大麻、杜冷丁 </a:t>
            </a:r>
            <a:r>
              <a:rPr b="0" lang="zh-CN" sz="3200" spc="-1" strike="noStrike">
                <a:solidFill>
                  <a:srgbClr val="66ff33"/>
                </a:solidFill>
                <a:latin typeface="黑体"/>
                <a:ea typeface="黑体"/>
              </a:rPr>
              <a:t>）和新型毒品（</a:t>
            </a:r>
            <a:r>
              <a:rPr b="0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冰毒、摇头丸、 </a:t>
            </a:r>
            <a:r>
              <a:rPr b="0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K</a:t>
            </a:r>
            <a:r>
              <a:rPr b="0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粉等）</a:t>
            </a:r>
            <a:r>
              <a:rPr b="0" lang="zh-CN" sz="3200" spc="-1" strike="noStrike">
                <a:solidFill>
                  <a:srgbClr val="66ff33"/>
                </a:solidFill>
                <a:latin typeface="黑体"/>
                <a:ea typeface="黑体"/>
              </a:rPr>
              <a:t>两大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2655720" y="3381480"/>
            <a:ext cx="972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2655720" y="3381480"/>
            <a:ext cx="972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2655720" y="3381480"/>
            <a:ext cx="972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2655720" y="3381480"/>
            <a:ext cx="9720" cy="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63600" y="2040120"/>
            <a:ext cx="46400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鸦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9e9b"/>
                </a:solidFill>
                <a:latin typeface="Arial"/>
                <a:ea typeface="楷体_GB2312"/>
              </a:rPr>
              <a:t>通用名称：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俗称大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是罂粟果实中流出的乳液经干燥凝结而成，含鸦片生物碱约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25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9e9b"/>
                </a:solidFill>
                <a:latin typeface="楷体_GB2312"/>
                <a:ea typeface="楷体_GB2312"/>
              </a:rPr>
              <a:t>性状：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因产地不同而呈黑色或褐色，味苦。生鸦片经过烧煮和发酵，可制成精制鸦片，吸食时有一种强烈的香甜气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9e9b"/>
                </a:solidFill>
                <a:latin typeface="楷体_GB2312"/>
                <a:ea typeface="楷体_GB2312"/>
              </a:rPr>
              <a:t>吸食危害：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吸食者初吸时会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到头晕目眩、恶心或头痛，多次吸食就会上瘾，极难戒断。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  <a:ea typeface="黑体"/>
              </a:rPr>
              <a:t>长期使用后停药会发生强烈的戒断症状。过量使用会造成急性中毒，症状包括昏迷、呼吸抑制、低血压、瞳孔变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8" descr="n1227443"/>
          <p:cNvPicPr/>
          <p:nvPr/>
        </p:nvPicPr>
        <p:blipFill>
          <a:blip r:embed="rId1"/>
          <a:stretch/>
        </p:blipFill>
        <p:spPr>
          <a:xfrm>
            <a:off x="5219640" y="3860640"/>
            <a:ext cx="3600360" cy="2803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3600360" cy="2776680"/>
          </a:xfrm>
          <a:prstGeom prst="rect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383" name="Text Box 10"/>
          <p:cNvSpPr/>
          <p:nvPr/>
        </p:nvSpPr>
        <p:spPr>
          <a:xfrm>
            <a:off x="1003320" y="0"/>
            <a:ext cx="66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传统毒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293760" y="2136960"/>
            <a:ext cx="4635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洛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9e9b"/>
                </a:solidFill>
                <a:latin typeface="Arial"/>
                <a:ea typeface="楷体_GB2312"/>
              </a:rPr>
              <a:t>通用名称</a:t>
            </a:r>
            <a:r>
              <a:rPr b="0" lang="zh-CN" sz="2800" spc="-1" strike="noStrike">
                <a:solidFill>
                  <a:srgbClr val="2e9e9b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二乙酰吗啡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，俗称白粉，由吗啡加工制作而成，镇痛作用是吗啡的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  <a:ea typeface="黑体"/>
              </a:rPr>
              <a:t>—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倍，医学上曾广泛用于麻醉镇痛，但成瘾快，极难戒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9e9b"/>
                </a:solidFill>
                <a:latin typeface="楷体_GB2312"/>
                <a:ea typeface="楷体_GB2312"/>
              </a:rPr>
              <a:t>吸食危害：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长期使用会破坏人的免疫功能，并导致心、肝、肾等主要脏器的损害。注射吸食还能传播艾滋病等疾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5062680" y="1943280"/>
            <a:ext cx="3751200" cy="3457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411120" y="2277000"/>
            <a:ext cx="49370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大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9e9b"/>
                </a:solidFill>
                <a:latin typeface="楷体_GB2312"/>
                <a:ea typeface="楷体_GB2312"/>
              </a:rPr>
              <a:t>原植物：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是一种粗大、直立、芳香的一年生雌雄异株的灌木。大麻原产于中亚，在北温带地区种植较为广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9e9b"/>
                </a:solidFill>
                <a:latin typeface="楷体_GB2312"/>
                <a:ea typeface="楷体_GB2312"/>
              </a:rPr>
              <a:t>主要成分：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大麻里含有大麻酚、大麻二酚和四氢大麻酚等数种生物碱。其中四氢大麻酚是服用大麻后产生致幻作用的主要成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9e9b"/>
                </a:solidFill>
                <a:latin typeface="楷体_GB2312"/>
                <a:ea typeface="楷体_GB2312"/>
              </a:rPr>
              <a:t>吸食危害：</a:t>
            </a:r>
            <a:r>
              <a:rPr b="1" lang="zh-CN" sz="2400" spc="-1" strike="noStrike">
                <a:solidFill>
                  <a:srgbClr val="66ff33"/>
                </a:solidFill>
                <a:latin typeface="黑体"/>
                <a:ea typeface="黑体"/>
              </a:rPr>
              <a:t>大麻服用后可影响中枢神经系统，引起欣快感，并引起倦睡。大剂量服用可出现幻视、焦虑、抑郁、情绪突变、妄想狂样的反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5653080" y="1343160"/>
            <a:ext cx="3111480" cy="25318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5668920" y="4046400"/>
            <a:ext cx="3111480" cy="25131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4716360" y="2718720"/>
            <a:ext cx="4200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杜冷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 </a:t>
            </a:r>
            <a:r>
              <a:rPr b="0" lang="zh-CN" sz="3000" spc="-1" strike="noStrike">
                <a:solidFill>
                  <a:srgbClr val="66ff33"/>
                </a:solidFill>
                <a:latin typeface="黑体"/>
                <a:ea typeface="黑体"/>
              </a:rPr>
              <a:t>即盐酸哌替啶，是一种临床应用的合成镇痛药，为白色结晶性粉末，味微苦，无臭，其作用和机理与吗啡相似，但镇静、麻醉作用较小，仅相当于吗啡的</a:t>
            </a:r>
            <a:r>
              <a:rPr b="0" lang="zh-CN" sz="3000" spc="-1" strike="noStrike">
                <a:solidFill>
                  <a:srgbClr val="66ff33"/>
                </a:solidFill>
                <a:latin typeface="黑体"/>
                <a:ea typeface="黑体"/>
              </a:rPr>
              <a:t>1/10</a:t>
            </a:r>
            <a:r>
              <a:rPr b="0" lang="zh-CN" sz="3000" spc="-1" strike="noStrike">
                <a:solidFill>
                  <a:srgbClr val="66ff33"/>
                </a:solidFill>
                <a:latin typeface="Arial"/>
                <a:ea typeface="黑体"/>
              </a:rPr>
              <a:t>—</a:t>
            </a:r>
            <a:r>
              <a:rPr b="0" lang="zh-CN" sz="3000" spc="-1" strike="noStrike">
                <a:solidFill>
                  <a:srgbClr val="66ff33"/>
                </a:solidFill>
                <a:latin typeface="黑体"/>
                <a:ea typeface="黑体"/>
              </a:rPr>
              <a:t>1/8</a:t>
            </a:r>
            <a:r>
              <a:rPr b="0" lang="zh-CN" sz="3000" spc="-1" strike="noStrike">
                <a:solidFill>
                  <a:srgbClr val="66ff33"/>
                </a:solidFill>
                <a:latin typeface="黑体"/>
                <a:ea typeface="黑体"/>
              </a:rPr>
              <a:t>。长期使用会产生依赖性，被列为严格管制的麻醉药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36600" y="1979640"/>
            <a:ext cx="4098960" cy="3247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4343400" y="2978280"/>
            <a:ext cx="46245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冰毒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66ff33"/>
                </a:solidFill>
                <a:latin typeface="黑体"/>
                <a:ea typeface="黑体"/>
              </a:rPr>
              <a:t>即</a:t>
            </a:r>
            <a:r>
              <a:rPr b="1" lang="zh-CN" sz="2600" spc="-1" strike="noStrike">
                <a:solidFill>
                  <a:srgbClr val="66ff33"/>
                </a:solidFill>
                <a:latin typeface="Arial"/>
                <a:ea typeface="黑体"/>
              </a:rPr>
              <a:t>“</a:t>
            </a:r>
            <a:r>
              <a:rPr b="1" lang="zh-CN" sz="2600" spc="-1" strike="noStrike">
                <a:solidFill>
                  <a:srgbClr val="66ff33"/>
                </a:solidFill>
                <a:latin typeface="黑体"/>
                <a:ea typeface="黑体"/>
              </a:rPr>
              <a:t>甲基苯丙胺</a:t>
            </a:r>
            <a:r>
              <a:rPr b="1" lang="zh-CN" sz="2600" spc="-1" strike="noStrike">
                <a:solidFill>
                  <a:srgbClr val="66ff33"/>
                </a:solidFill>
                <a:latin typeface="Arial"/>
                <a:ea typeface="黑体"/>
              </a:rPr>
              <a:t>”</a:t>
            </a:r>
            <a:r>
              <a:rPr b="1" lang="zh-CN" sz="2600" spc="-1" strike="noStrike">
                <a:solidFill>
                  <a:srgbClr val="66ff33"/>
                </a:solidFill>
                <a:latin typeface="黑体"/>
                <a:ea typeface="黑体"/>
              </a:rPr>
              <a:t>，外观为纯白结晶体，故被称为</a:t>
            </a:r>
            <a:r>
              <a:rPr b="1" lang="zh-CN" sz="2600" spc="-1" strike="noStrike">
                <a:solidFill>
                  <a:srgbClr val="66ff33"/>
                </a:solidFill>
                <a:latin typeface="Arial"/>
                <a:ea typeface="黑体"/>
              </a:rPr>
              <a:t>“</a:t>
            </a:r>
            <a:r>
              <a:rPr b="1" lang="zh-CN" sz="2600" spc="-1" strike="noStrike">
                <a:solidFill>
                  <a:srgbClr val="66ff33"/>
                </a:solidFill>
                <a:latin typeface="黑体"/>
                <a:ea typeface="黑体"/>
              </a:rPr>
              <a:t>冰</a:t>
            </a:r>
            <a:r>
              <a:rPr b="1" lang="zh-CN" sz="2600" spc="-1" strike="noStrike">
                <a:solidFill>
                  <a:srgbClr val="66ff33"/>
                </a:solidFill>
                <a:latin typeface="Arial"/>
                <a:ea typeface="黑体"/>
              </a:rPr>
              <a:t>”</a:t>
            </a:r>
            <a:r>
              <a:rPr b="1" lang="zh-CN" sz="2600" spc="-1" strike="noStrike">
                <a:solidFill>
                  <a:srgbClr val="66ff33"/>
                </a:solidFill>
                <a:latin typeface="黑体"/>
                <a:ea typeface="黑体"/>
              </a:rPr>
              <a:t>（</a:t>
            </a:r>
            <a:r>
              <a:rPr b="1" lang="zh-CN" sz="2600" spc="-1" strike="noStrike">
                <a:solidFill>
                  <a:srgbClr val="66ff33"/>
                </a:solidFill>
                <a:latin typeface="黑体"/>
                <a:ea typeface="黑体"/>
              </a:rPr>
              <a:t>Ice</a:t>
            </a:r>
            <a:r>
              <a:rPr b="1" lang="zh-CN" sz="2600" spc="-1" strike="noStrike">
                <a:solidFill>
                  <a:srgbClr val="66ff33"/>
                </a:solidFill>
                <a:latin typeface="黑体"/>
                <a:ea typeface="黑体"/>
              </a:rPr>
              <a:t>）。对人体中枢神经系统具有极强的刺激作用，且毒性强烈。该药小剂量时有短暂的兴奋抗疲劳作用，故其丸剂又有</a:t>
            </a:r>
            <a:r>
              <a:rPr b="1" lang="zh-CN" sz="2600" spc="-1" strike="noStrike">
                <a:solidFill>
                  <a:srgbClr val="66ff33"/>
                </a:solidFill>
                <a:latin typeface="Arial"/>
                <a:ea typeface="黑体"/>
              </a:rPr>
              <a:t>“</a:t>
            </a:r>
            <a:r>
              <a:rPr b="1" lang="zh-CN" sz="2600" spc="-1" strike="noStrike">
                <a:solidFill>
                  <a:srgbClr val="66ff33"/>
                </a:solidFill>
                <a:latin typeface="黑体"/>
                <a:ea typeface="黑体"/>
              </a:rPr>
              <a:t>大力丸</a:t>
            </a:r>
            <a:r>
              <a:rPr b="1" lang="zh-CN" sz="2600" spc="-1" strike="noStrike">
                <a:solidFill>
                  <a:srgbClr val="66ff33"/>
                </a:solidFill>
                <a:latin typeface="Arial"/>
                <a:ea typeface="黑体"/>
              </a:rPr>
              <a:t>”</a:t>
            </a:r>
            <a:r>
              <a:rPr b="1" lang="zh-CN" sz="2600" spc="-1" strike="noStrike">
                <a:solidFill>
                  <a:srgbClr val="66ff33"/>
                </a:solidFill>
                <a:latin typeface="黑体"/>
                <a:ea typeface="黑体"/>
              </a:rPr>
              <a:t>。冰毒的精神依赖性很强，吸食后会产生强烈的生理兴奋，大量消耗人的体力和降低免疫功能，严重损害心脏、大脑组织甚至导致死亡。还会造成精神障碍，表现出妄想、好斗、错觉，从而引发暴力行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517680" y="932040"/>
            <a:ext cx="3573360" cy="2743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501480" y="3770280"/>
            <a:ext cx="3595680" cy="2701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003320" y="0"/>
            <a:ext cx="66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新型毒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9:35:08Z</dcterms:created>
  <dc:creator>xuyuan</dc:creator>
  <dc:description/>
  <cp:keywords/>
  <dc:language>en-US</dc:language>
  <cp:lastModifiedBy>User</cp:lastModifiedBy>
  <dcterms:modified xsi:type="dcterms:W3CDTF">2018-05-16T09:57:13Z</dcterms:modified>
  <cp:revision>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