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691-A06C-40D1-BC42-DF7B3A9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1E6-4E41-407F-8FD6-342E6782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132-3A2E-4EC3-8B84-189294BC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43C-1785-4F01-958E-08ACE2C5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E80-B510-40E6-8144-0485E6A8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2BE-4178-4461-997A-7B59714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FE7-0F5B-4112-98E8-BEA797DC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3BB-09C7-488F-96F3-00D1225C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54E-9D16-4E05-909E-374EB2E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071-4F3F-4AEF-B9D4-EF6E524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644-8F2D-4EF6-9E91-3717803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163-63E9-4FC1-AF9C-626D0AA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3C6-5BF5-479E-A5BA-146DA7D69771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352849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青骄课堂的由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304920" y="1828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青骄课堂”是全国青少年毒品预防教育数字化平台的简称，数字化平台是推进青少年毒品预防教育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·27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工程的创新举措，是宣传禁毒政策、传播学习禁毒知识、推广禁毒教育经验的新载体、新阵地，在整体促进全国学校毒品预防教育理念、教学方式的转变，全面提升各级各类学校毒品预防教育水平，实现全国毒品预防教育一体化、规范化、科学化发展等方面具有十分重要的意义。目前，全市的“青骄课堂”推广工作正在进一步推广落实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timg7YIXYQNQ.jpg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Calibri"/>
                <a:ea typeface="宋体"/>
              </a:rPr>
              <a:t>禁毒措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u=3626796010,3703290873&amp;fm=26&amp;gp=0.jpg"/>
          <p:cNvPicPr/>
          <p:nvPr/>
        </p:nvPicPr>
        <p:blipFill>
          <a:blip r:embed="rId1"/>
          <a:stretch/>
        </p:blipFill>
        <p:spPr>
          <a:xfrm>
            <a:off x="0" y="99072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禁毒决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u=2446164260,2549319308&amp;fm=26&amp;gp=0.jpg"/>
          <p:cNvPicPr/>
          <p:nvPr/>
        </p:nvPicPr>
        <p:blipFill>
          <a:blip r:embed="rId1"/>
          <a:stretch/>
        </p:blipFill>
        <p:spPr>
          <a:xfrm>
            <a:off x="1447920" y="1752480"/>
            <a:ext cx="595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各方的禁毒努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3" descr="A8B633CE2FA245D0926F4CED0765AFCE-6-2.jpg"/>
          <p:cNvPicPr/>
          <p:nvPr/>
        </p:nvPicPr>
        <p:blipFill>
          <a:blip r:embed="rId1"/>
          <a:stretch/>
        </p:blipFill>
        <p:spPr>
          <a:xfrm>
            <a:off x="1447920" y="1523880"/>
            <a:ext cx="6705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内容占位符 3" descr="u=2636805235,3862380180&amp;fm=26&amp;gp=0.jpg"/>
          <p:cNvPicPr/>
          <p:nvPr/>
        </p:nvPicPr>
        <p:blipFill>
          <a:blip r:embed="rId1"/>
          <a:stretch/>
        </p:blipFill>
        <p:spPr>
          <a:xfrm>
            <a:off x="3429000" y="1752480"/>
            <a:ext cx="3867120" cy="4835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u=1095897003,2420265007&amp;fm=26&amp;gp=0.jpg"/>
          <p:cNvPicPr/>
          <p:nvPr/>
        </p:nvPicPr>
        <p:blipFill>
          <a:blip r:embed="rId2"/>
          <a:stretch/>
        </p:blipFill>
        <p:spPr>
          <a:xfrm>
            <a:off x="0" y="-380880"/>
            <a:ext cx="344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青少年一定要对毒品说“不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3" descr="u=1619116952,952274751&amp;fm=26&amp;gp=0.jpg"/>
          <p:cNvPicPr/>
          <p:nvPr/>
        </p:nvPicPr>
        <p:blipFill>
          <a:blip r:embed="rId1"/>
          <a:stretch/>
        </p:blipFill>
        <p:spPr>
          <a:xfrm>
            <a:off x="1143000" y="1752480"/>
            <a:ext cx="667872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3" descr="u=2619396875,1983407148&amp;fm=26&amp;gp=0.jpg"/>
          <p:cNvPicPr/>
          <p:nvPr/>
        </p:nvPicPr>
        <p:blipFill>
          <a:blip r:embed="rId1"/>
          <a:stretch/>
        </p:blipFill>
        <p:spPr>
          <a:xfrm>
            <a:off x="639720" y="685800"/>
            <a:ext cx="76662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Calibri"/>
                <a:ea typeface="宋体"/>
              </a:rPr>
              <a:t>活动园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同学们查找下毒品危害的资料或者观看禁毒教育宣传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352849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仿宋"/>
                <a:ea typeface="仿宋"/>
              </a:rPr>
              <a:t>同学们，为了自己和家人，请（在倡议书上签名）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华文中宋"/>
              </a:rPr>
              <a:t>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华文中宋"/>
              </a:rPr>
              <a:t>珍爱生命，拒绝毒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alibri"/>
                <a:ea typeface="宋体"/>
              </a:rPr>
              <a:t>总结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　毒品是人类社会的公害，它不仅危害人民群众特别是广大青少年的身心健康，而且严重威胁着社会安定，影响经济发展和社会进步。在中国的近代，毒品曾给中华民族带来深重的灾难。如今，毒品问题已成为全球性问题，它与恐怖主义、艾滋病并称为当今世界三大公害。中小学生从小要又防毒意识，珍爱生命，拒绝毒品，塑造美好人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Calibri"/>
                <a:ea typeface="宋体"/>
              </a:rPr>
              <a:t>课堂重点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  <a:ea typeface="宋体"/>
              </a:rPr>
              <a:t>——</a:t>
            </a:r>
            <a:r>
              <a:rPr b="0" lang="zh-CN" sz="4400" spc="-1" strike="noStrike">
                <a:solidFill>
                  <a:srgbClr val="7030a0"/>
                </a:solidFill>
                <a:latin typeface="Calibri"/>
                <a:ea typeface="宋体"/>
              </a:rPr>
              <a:t>禁毒知识教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timg.jpg"/>
          <p:cNvPicPr/>
          <p:nvPr/>
        </p:nvPicPr>
        <p:blipFill>
          <a:blip r:embed="rId1"/>
          <a:stretch/>
        </p:blipFill>
        <p:spPr>
          <a:xfrm>
            <a:off x="1523880" y="1676520"/>
            <a:ext cx="5943600" cy="396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担山中学：刘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4" descr="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二、毒品的种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u=80563653,1994570135&amp;fm=26&amp;gp=0.jpg"/>
          <p:cNvPicPr/>
          <p:nvPr/>
        </p:nvPicPr>
        <p:blipFill>
          <a:blip r:embed="rId1"/>
          <a:stretch/>
        </p:blipFill>
        <p:spPr>
          <a:xfrm>
            <a:off x="68580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timg.jpg"/>
          <p:cNvPicPr/>
          <p:nvPr/>
        </p:nvPicPr>
        <p:blipFill>
          <a:blip r:embed="rId1"/>
          <a:stretch/>
        </p:blipFill>
        <p:spPr>
          <a:xfrm>
            <a:off x="228600" y="762120"/>
            <a:ext cx="8659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三、毒品的危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4" descr="1482395253286.jpg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具体危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7521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吸食毒品会引起诸如消化系统、血液系统呼吸系统、生殖系统等诸多脏器的严重损伤，引起精神疾病、口腔疾病、消化功能的严重下降、 增加患癌的几率，如口腔癌、消化道癌、 传染性疾病、皮肤类疾病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3" descr="u=50864601,1547629394&amp;fm=26&amp;gp=0.jpg"/>
          <p:cNvPicPr/>
          <p:nvPr/>
        </p:nvPicPr>
        <p:blipFill>
          <a:blip r:embed="rId1"/>
          <a:stretch/>
        </p:blipFill>
        <p:spPr>
          <a:xfrm>
            <a:off x="228600" y="1143000"/>
            <a:ext cx="4094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触目惊心的案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3" descr="u=2881924088,848004672&amp;fm=26&amp;gp=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3" descr="timgSEWNY22S.jpg"/>
          <p:cNvPicPr/>
          <p:nvPr/>
        </p:nvPicPr>
        <p:blipFill>
          <a:blip r:embed="rId1"/>
          <a:stretch/>
        </p:blipFill>
        <p:spPr>
          <a:xfrm>
            <a:off x="955800" y="1600200"/>
            <a:ext cx="72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1T03:02:48Z</dcterms:created>
  <dc:creator>Administrator</dc:creator>
  <dc:description/>
  <dc:language>en-US</dc:language>
  <cp:lastModifiedBy>AutoBVT</cp:lastModifiedBy>
  <dcterms:modified xsi:type="dcterms:W3CDTF">2019-10-31T08:30:5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