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716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E70-62DE-4E0C-AE35-9C15FEE5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372-071F-4FB3-9A4C-1C650B20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071-5333-4EDA-BBFB-B532F304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8F8-D555-40B9-87A8-CBA199D7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029-3891-4955-879A-17738309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877-81D1-449C-AB8E-AC062B5A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568-2B22-4EC5-8E72-33D8616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FCB-D7A0-48A8-96BE-89E28A0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D6F-5906-4E7B-A511-38614AE3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67F-B625-42C3-A52B-D0ADDC9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642-3D31-4156-9DE3-66276FE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EAD-AAB3-418F-8288-2A2ED33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7096-7463-4065-9B83-77B259FC13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43000" y="876240"/>
            <a:ext cx="11883960" cy="6324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429000" y="796284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枝江市安福寺中学     王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istrator\桌面\dce6c6f90eb84aa0bb74b9e0bd976452.jpeg"/>
          <p:cNvPicPr/>
          <p:nvPr/>
        </p:nvPicPr>
        <p:blipFill>
          <a:blip r:embed="rId1"/>
          <a:srcRect l="0" t="31196" r="0" b="0"/>
          <a:stretch/>
        </p:blipFill>
        <p:spPr>
          <a:xfrm>
            <a:off x="3124080" y="0"/>
            <a:ext cx="7070760" cy="9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295280" y="3390840"/>
            <a:ext cx="115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5400" spc="-1" strike="noStrike">
                <a:solidFill>
                  <a:srgbClr val="00b0f0"/>
                </a:solidFill>
                <a:latin typeface="Calibri"/>
                <a:ea typeface="宋体"/>
              </a:rPr>
              <a:t>各小组成员合作设计以“拒绝毒品”为主题的一幅宣传画、一个宣传口号。 完成后，老师将大家的作品在黑板上进行展示，评出优胜小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3880" y="1181160"/>
            <a:ext cx="1072044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istrator\桌面\d3df7b38fbdf4c389ab399303bee05a9_th.jpg"/>
          <p:cNvPicPr/>
          <p:nvPr/>
        </p:nvPicPr>
        <p:blipFill>
          <a:blip r:embed="rId1"/>
          <a:stretch/>
        </p:blipFill>
        <p:spPr>
          <a:xfrm>
            <a:off x="2971800" y="723960"/>
            <a:ext cx="7620120" cy="868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914400" y="2095560"/>
            <a:ext cx="1158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380880" y="2423520"/>
            <a:ext cx="1272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通过实例，了解毒品的种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了解预防毒品的一些基本常识，知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毒品对社会和个人的危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通过学习，提高学生对毒品的防范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识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；增强学生在现实生活中预防毒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的基本能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09480" y="95256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教学目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1028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1257480"/>
            <a:ext cx="4368960" cy="902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-63360" y="1257480"/>
            <a:ext cx="4483080" cy="9029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84280" y="9575640"/>
            <a:ext cx="153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2017/11/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13716000" cy="1027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3080960" y="9575640"/>
            <a:ext cx="5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1028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1257480"/>
            <a:ext cx="4368960" cy="902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63360" y="1257480"/>
            <a:ext cx="4483080" cy="9029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84280" y="9575640"/>
            <a:ext cx="153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2017/11/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13716000" cy="10274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3080960" y="9575640"/>
            <a:ext cx="5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23960" y="1778040"/>
            <a:ext cx="125856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罂粟花也叫英雄花、虞美人，是制鸦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23960" y="2692440"/>
            <a:ext cx="125856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片的原材料，也是世界上最美丽的花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23960" y="3606840"/>
            <a:ext cx="2666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之一。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1028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1257480"/>
            <a:ext cx="4368960" cy="902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-63360" y="1257480"/>
            <a:ext cx="4483080" cy="9029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84280" y="9575640"/>
            <a:ext cx="153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2017/11/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0" y="1409760"/>
            <a:ext cx="13716000" cy="8864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3080960" y="9575640"/>
            <a:ext cx="5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0" y="1447920"/>
            <a:ext cx="13716000" cy="8826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8915400" y="57168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  <a:ea typeface="宋体"/>
              </a:rPr>
              <a:t>杜冷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349360" y="584280"/>
            <a:ext cx="1143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ff"/>
                </a:solidFill>
                <a:latin typeface="宋体"/>
                <a:ea typeface="宋体"/>
              </a:rPr>
              <a:t>K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111480" y="584280"/>
            <a:ext cx="11304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粉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1028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0" y="1257480"/>
            <a:ext cx="4368960" cy="902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-63360" y="1257480"/>
            <a:ext cx="4483080" cy="9029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84280" y="9575640"/>
            <a:ext cx="153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2017/11/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1371600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5"/>
          <a:stretch/>
        </p:blipFill>
        <p:spPr>
          <a:xfrm>
            <a:off x="0" y="5118120"/>
            <a:ext cx="13716000" cy="515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6"/>
          <a:stretch/>
        </p:blipFill>
        <p:spPr>
          <a:xfrm>
            <a:off x="0" y="0"/>
            <a:ext cx="13716000" cy="515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7"/>
          <a:stretch/>
        </p:blipFill>
        <p:spPr>
          <a:xfrm>
            <a:off x="0" y="5130720"/>
            <a:ext cx="13716000" cy="5156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13080960" y="9575640"/>
            <a:ext cx="5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-12600" y="368280"/>
            <a:ext cx="19047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大麻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-241200" y="5562720"/>
            <a:ext cx="19047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鸦片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099200" y="190440"/>
            <a:ext cx="19051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冰毒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769080" y="5765760"/>
            <a:ext cx="2666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摇头丸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0" cy="1028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63360" y="1257480"/>
            <a:ext cx="4483080" cy="902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716000" cy="408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0" y="3390840"/>
            <a:ext cx="1371600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0" y="6146640"/>
            <a:ext cx="13716000" cy="351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6"/>
          <a:stretch/>
        </p:blipFill>
        <p:spPr>
          <a:xfrm>
            <a:off x="0" y="9435960"/>
            <a:ext cx="436896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13080960" y="9575640"/>
            <a:ext cx="5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898"/>
                </a:solidFill>
                <a:latin typeface="Arial"/>
                <a:ea typeface="宋体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451560" y="1346040"/>
            <a:ext cx="2666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海洛因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723960" y="5232240"/>
            <a:ext cx="2666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可卡因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048440" y="7823160"/>
            <a:ext cx="19051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0000ff"/>
                </a:solidFill>
                <a:latin typeface="宋体"/>
                <a:ea typeface="宋体"/>
              </a:rPr>
              <a:t>吗啡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04920" y="4522320"/>
            <a:ext cx="125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毒品是指能使人形成瘾癖的麻醉药品和精神药品，目前最常见、最主要的毒品有鸦片、海洛因、吗啡、大麻、杜冷丁、甲基苯丙胺（冰毒）、可卡因、摇头丸、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宋体"/>
              </a:rPr>
              <a:t>K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粉等。</a:t>
            </a:r>
            <a:r>
              <a:rPr b="1" lang="zh-CN" sz="1400" spc="-1" strike="noStrike">
                <a:solidFill>
                  <a:srgbClr val="ff0000"/>
                </a:solidFill>
                <a:latin typeface="Calibri"/>
                <a:ea typeface="宋体"/>
              </a:rPr>
              <a:t>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62120" y="343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毒品的危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istrator\桌面\30689d278bca489e9e84d6e670f32748_th.jpg"/>
          <p:cNvPicPr/>
          <p:nvPr/>
        </p:nvPicPr>
        <p:blipFill>
          <a:blip r:embed="rId1"/>
          <a:srcRect l="0" t="0" r="0" b="5745"/>
          <a:stretch/>
        </p:blipFill>
        <p:spPr>
          <a:xfrm>
            <a:off x="2057400" y="1104840"/>
            <a:ext cx="9220320" cy="883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0-30T02:28:5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