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6.jpeg" ContentType="image/jpeg"/>
  <Override PartName="/ppt/media/applause.wav" ContentType="audio/x-wav"/>
  <Override PartName="/ppt/media/image27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wmf" ContentType="image/x-wmf"/>
  <Override PartName="/ppt/media/image15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image6.jpeg" ContentType="image/jpeg"/>
  <Override PartName="/ppt/media/type.wav" ContentType="audio/x-wav"/>
  <Override PartName="/ppt/media/carbrake.wav" ContentType="audio/x-wav"/>
  <Override PartName="/ppt/media/image17.jpeg" ContentType="image/jpeg"/>
  <Override PartName="/ppt/media/image1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BA2-D9A6-46AB-AFB2-6F52F4DF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C2C-1C55-46D3-809A-4ACCEC05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9D7-C9ED-4DB9-8862-EF001FC2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246-3385-4A0E-A011-AF52BE68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BD2C-2848-44DF-B2E8-211AB656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0050-4629-4FFB-87BC-9BE384D2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B93B-16D2-4ABE-A7B9-4D7501D5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678D-6C0A-4656-9867-6221FFDC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0270-7EC4-475F-9D9D-A7293EF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CDB1-E6CB-432C-995D-821C4101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3DE4-E4D8-4984-9259-1071FC0B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870-E570-459F-9BF1-6FAC31A1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3449-C402-4A05-A6CE-079B7851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3C26-26AF-47AD-BDEA-AF3DAE9F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F621-D273-4402-A241-EFF80A57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A948-8E4E-4B5C-960F-2AB5A70B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C1A4-859D-49C8-92C6-0AF493E8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EA1E-67DF-436E-9EE1-AE3FFF64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BCD9-B1D1-4537-9DAF-1D6D6DB4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F364-12E3-4D49-9748-6F59A333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C465-60A9-42A6-8B26-16523A7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B880-6416-433F-AA1E-552F518A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63F-7313-482D-AE80-DA592CD3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0A648-B78F-461E-96D0-99CCA7A7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D71F8-A804-4D20-B064-8227300D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96A8-876E-459B-8F9E-55B6F906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7AEE-166D-42E3-9896-601D4C05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0878-F9F9-4FFB-A55F-0E64CB29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7997-4E3D-48F2-8525-282D562F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1A33-176A-4806-A231-8934BD89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236-E3A1-4240-BD90-31AED503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1D9-F633-46AE-B0EA-02D1EFA2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FDD-E52F-47F1-B28E-E9F279DB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DBD-DBF1-4252-9558-EE3C4F2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48D-2957-40D5-B769-B4D3100C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FF9-B3BC-4980-868A-DAAC2348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307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22F1-434F-4450-AA56-AE4A99BBD495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1FA3-D04B-4803-8C63-65BD402C2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1262-EFE7-4716-8238-1F96C654D198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5C69-BD68-48E5-861C-2F92495E9D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直接连接符 4097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任意多边形 4098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4E8E-652B-44CA-9E47-B283104CA702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913-D28A-4344-9434-92FA29F1AB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珍爱生命   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远离毒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763280" y="4797360"/>
            <a:ext cx="73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----604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班禁毒教育知识宣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矩形 68611"/>
          <p:cNvSpPr/>
          <p:nvPr/>
        </p:nvSpPr>
        <p:spPr>
          <a:xfrm>
            <a:off x="324000" y="6237360"/>
            <a:ext cx="136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0CAA-7DD5-4E1D-80A6-A63C4556B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22531" descr="lhh_4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2533"/>
          <p:cNvSpPr/>
          <p:nvPr/>
        </p:nvSpPr>
        <p:spPr>
          <a:xfrm>
            <a:off x="179280" y="18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染上毒品的人有什么表现？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A0DB-1CB5-4B42-A378-9084436014E2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312E-F8C1-40FD-91F5-0B55B0DC28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55299" descr="lhh_5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55300"/>
          <p:cNvSpPr/>
          <p:nvPr/>
        </p:nvSpPr>
        <p:spPr>
          <a:xfrm>
            <a:off x="4295880" y="1557360"/>
            <a:ext cx="3371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摧毁健康，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心理变态，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神经失常，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备受歧视，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走上绝路。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矩形 55301"/>
          <p:cNvSpPr/>
          <p:nvPr/>
        </p:nvSpPr>
        <p:spPr>
          <a:xfrm>
            <a:off x="3780000" y="54936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吸毒对个人的危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058C-D07C-4CB9-BB5E-317552A676D3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6B5D-10E7-40F8-AC00-EABD92D657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56323" descr="2009020519123805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6324" descr="20071116074638367"/>
          <p:cNvPicPr/>
          <p:nvPr/>
        </p:nvPicPr>
        <p:blipFill>
          <a:blip r:embed="rId2"/>
          <a:stretch/>
        </p:blipFill>
        <p:spPr>
          <a:xfrm>
            <a:off x="4363920" y="0"/>
            <a:ext cx="478008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56325"/>
          <p:cNvSpPr/>
          <p:nvPr/>
        </p:nvSpPr>
        <p:spPr>
          <a:xfrm>
            <a:off x="3132000" y="62064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宋体"/>
              </a:rPr>
              <a:t>吸毒前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文本框 56326"/>
          <p:cNvSpPr/>
          <p:nvPr/>
        </p:nvSpPr>
        <p:spPr>
          <a:xfrm>
            <a:off x="8028000" y="692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宋体"/>
              </a:rPr>
              <a:t>吸毒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4C28-F116-4E7E-AB18-0894176C6E4F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EC8F-7C08-4A6A-8E06-038EBC7A6E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54275" descr="lhh_6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矩形 54276"/>
          <p:cNvSpPr/>
          <p:nvPr/>
        </p:nvSpPr>
        <p:spPr>
          <a:xfrm>
            <a:off x="4140360" y="1700280"/>
            <a:ext cx="44956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倾家荡产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妻离子散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家破人亡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危及后代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矩形 54277"/>
          <p:cNvSpPr/>
          <p:nvPr/>
        </p:nvSpPr>
        <p:spPr>
          <a:xfrm>
            <a:off x="4211640" y="692280"/>
            <a:ext cx="460836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对家庭造成的危害</a:t>
            </a:r>
            <a:br>
              <a:rPr sz="4400"/>
            </a:b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70F4-015F-485D-8863-304233A7FA57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72FF-CEF5-4136-984C-9D178FE3A7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33796" descr="lhh_7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矩形 33798"/>
          <p:cNvSpPr/>
          <p:nvPr/>
        </p:nvSpPr>
        <p:spPr>
          <a:xfrm>
            <a:off x="5022000" y="498600"/>
            <a:ext cx="31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宋体"/>
              </a:rPr>
              <a:t>对社会造成的危害</a:t>
            </a:r>
            <a:r>
              <a:rPr b="1" lang="en-US" sz="4400" spc="-1" strike="noStrike">
                <a:solidFill>
                  <a:srgbClr val="009999"/>
                </a:solidFill>
                <a:latin typeface="宋体"/>
              </a:rPr>
              <a:t>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矩形 33799"/>
          <p:cNvSpPr/>
          <p:nvPr/>
        </p:nvSpPr>
        <p:spPr>
          <a:xfrm>
            <a:off x="3635280" y="15573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偷盗抢劫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杀人放火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         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宋体"/>
              </a:rPr>
              <a:t>传播疾病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累及他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560F-AC4B-4DA4-985B-93C692AA7811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4753-82FE-4EBC-98A5-92212FF845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59393" descr="吸毒社会危害画2"/>
          <p:cNvPicPr/>
          <p:nvPr/>
        </p:nvPicPr>
        <p:blipFill>
          <a:blip r:embed="rId2"/>
          <a:stretch/>
        </p:blipFill>
        <p:spPr>
          <a:xfrm>
            <a:off x="755640" y="1413000"/>
            <a:ext cx="7777080" cy="5065560"/>
          </a:xfrm>
          <a:prstGeom prst="rect">
            <a:avLst/>
          </a:prstGeom>
          <a:ln w="0">
            <a:noFill/>
          </a:ln>
        </p:spPr>
      </p:pic>
      <p:sp>
        <p:nvSpPr>
          <p:cNvPr id="211" name="矩形 59394"/>
          <p:cNvSpPr/>
          <p:nvPr/>
        </p:nvSpPr>
        <p:spPr>
          <a:xfrm>
            <a:off x="324000" y="6165720"/>
            <a:ext cx="1152360" cy="4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2431-15AE-4BE4-BA36-98D05FAD5080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7D75-3650-4E91-BB1C-04C0563485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60417"/>
          <p:cNvSpPr/>
          <p:nvPr/>
        </p:nvSpPr>
        <p:spPr>
          <a:xfrm>
            <a:off x="1044720" y="333360"/>
            <a:ext cx="62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毒品离我们有多远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对象 60418"/>
          <p:cNvGraphicFramePr/>
          <p:nvPr/>
        </p:nvGraphicFramePr>
        <p:xfrm>
          <a:off x="2158920" y="1052640"/>
          <a:ext cx="6985080" cy="34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对象 604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8920" y="1052640"/>
                    <a:ext cx="698508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文本框 60419"/>
          <p:cNvSpPr/>
          <p:nvPr/>
        </p:nvSpPr>
        <p:spPr>
          <a:xfrm>
            <a:off x="2987640" y="4508640"/>
            <a:ext cx="474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青少年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75%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左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文本框 60422"/>
          <p:cNvSpPr/>
          <p:nvPr/>
        </p:nvSpPr>
        <p:spPr>
          <a:xfrm>
            <a:off x="3132000" y="5445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青少年是吸毒人员的“猎物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矩形 60423"/>
          <p:cNvSpPr/>
          <p:nvPr/>
        </p:nvSpPr>
        <p:spPr>
          <a:xfrm>
            <a:off x="395280" y="6165720"/>
            <a:ext cx="129708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1C49-65E5-47EE-9B7C-F72E20B855FB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B020-47DC-480B-A0A4-10E33E5BBB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336699"/>
                </a:solidFill>
                <a:latin typeface="Times New Roman"/>
              </a:rPr>
              <a:t>冷水滩区召开禁毒工作推进会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830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2017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年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月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28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日下午，冷水滩区召开禁毒工作推进会暨禁毒工作联席会。会议通报了上半年该区禁毒工作开展情况，总结分析了工作中存在的突出问题，宣读了《社区戒毒社区康复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8.31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工程》《吸毒人员网格化服务管理》《易制毒化学品管理》等工作方案，全面安排部署下半年禁毒工作。会上，各禁毒委成员单位主要负责人向去禁毒委述职并提交述职报告。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同学们：毒品离我们很近，要高度警惕！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矩形 69635"/>
          <p:cNvSpPr/>
          <p:nvPr/>
        </p:nvSpPr>
        <p:spPr>
          <a:xfrm>
            <a:off x="395280" y="6165720"/>
            <a:ext cx="108108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F2C5-3370-4E82-82A0-566D05FCAFDD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9ECF-BABA-4282-884E-DB3BE6EA3F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d3803"/>
                </a:solidFill>
                <a:latin typeface="Times New Roman"/>
              </a:rPr>
              <a:t>哪类青少年易沾染上毒品？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92000" y="1557000"/>
            <a:ext cx="66596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与社会无业、不良人士接触者；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出入网吧、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tv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酒吧等不合时宜的场所；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易产生挫败感、不能够够承担压力的青少年；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警惕性差，随意结交网友、社会朋友的青少年。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D94D-F4C8-4A1B-B045-C75E48E5D3FC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03B7-B753-4556-9711-BD9B813D15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r>
              <a:rPr b="0" lang="en-US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1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33" name="图片 34819" descr="lhh_11"/>
          <p:cNvPicPr/>
          <p:nvPr/>
        </p:nvPicPr>
        <p:blipFill>
          <a:blip r:embed="rId1"/>
          <a:stretch/>
        </p:blipFill>
        <p:spPr>
          <a:xfrm>
            <a:off x="1042920" y="1700280"/>
            <a:ext cx="8101080" cy="4681440"/>
          </a:xfrm>
          <a:prstGeom prst="rect">
            <a:avLst/>
          </a:prstGeom>
          <a:ln w="0">
            <a:noFill/>
          </a:ln>
        </p:spPr>
      </p:pic>
      <p:sp>
        <p:nvSpPr>
          <p:cNvPr id="234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A789-5E39-4CEB-889D-A3274253E73E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724E-AF71-4BCC-9E08-C810DC9B4E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53251" descr="0f59727bcc92f54c29388af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53252"/>
          <p:cNvSpPr/>
          <p:nvPr/>
        </p:nvSpPr>
        <p:spPr>
          <a:xfrm>
            <a:off x="971640" y="914400"/>
            <a:ext cx="223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文本框 53255"/>
          <p:cNvSpPr/>
          <p:nvPr/>
        </p:nvSpPr>
        <p:spPr>
          <a:xfrm>
            <a:off x="395280" y="1052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罂粟花也叫英雄花、虞美人，是制鸦片的原材料，也是世界上最美丽的花之一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C835-FC39-4DDB-9B66-5992CA48F93A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2726-4937-4E93-8285-8DCD1E8B7E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6096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牢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四知道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”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638840" cy="40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知道什么是毒品；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知道吸毒极易成瘾，难以戒断；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知道毒品的危害；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知道毒品违法犯罪要受到法律制裁。</a:t>
            </a:r>
            <a:br>
              <a:rPr sz="3600"/>
            </a:b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矩形 35843"/>
          <p:cNvSpPr/>
          <p:nvPr/>
        </p:nvSpPr>
        <p:spPr>
          <a:xfrm>
            <a:off x="324000" y="6165720"/>
            <a:ext cx="122364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A9EC-CB57-4E52-A4A0-D9D3171423F9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2B27-447E-4C56-BFA1-C6A9AE493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r>
              <a:rPr b="0" lang="en-US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2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2481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3" name="图片 36867" descr="lhh_13"/>
          <p:cNvPicPr/>
          <p:nvPr/>
        </p:nvPicPr>
        <p:blipFill>
          <a:blip r:embed="rId1"/>
          <a:stretch/>
        </p:blipFill>
        <p:spPr>
          <a:xfrm>
            <a:off x="838080" y="1219320"/>
            <a:ext cx="7162920" cy="5410080"/>
          </a:xfrm>
          <a:prstGeom prst="rect">
            <a:avLst/>
          </a:prstGeom>
          <a:ln w="0">
            <a:noFill/>
          </a:ln>
        </p:spPr>
      </p:pic>
      <p:sp>
        <p:nvSpPr>
          <p:cNvPr id="244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5DE8-1C6D-4242-A029-5B903D964FB3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469E-E113-438A-A8A2-B62EA5A6B6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683560" cy="554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、树立正确的人生观，不盲目追求享受，不以好奇心为由侥幸去尝试，不受不良诱惑的影响。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、不听信毒品能治病，毒品能解脱烦恼和痛苦，毒品能给人带来快乐等各种花言巧语。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、不结交有吸毒、贩毒行为的人。如发现亲朋好友有吸、贩毒行为的人，一要劝阻，二要远离，三要报告公安机关。</a:t>
            </a:r>
            <a:br>
              <a:rPr sz="3600"/>
            </a:b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矩形 37892"/>
          <p:cNvSpPr/>
          <p:nvPr/>
        </p:nvSpPr>
        <p:spPr>
          <a:xfrm>
            <a:off x="324000" y="6237360"/>
            <a:ext cx="122364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6A5C-B727-41CC-90FB-2A69D1C88EF5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EBC8-503F-4017-8F3F-D2DCC5346D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r>
              <a:rPr b="0" lang="en-US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3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2" name="图片 38915" descr="lhh_15"/>
          <p:cNvPicPr/>
          <p:nvPr/>
        </p:nvPicPr>
        <p:blipFill>
          <a:blip r:embed="rId1"/>
          <a:stretch/>
        </p:blipFill>
        <p:spPr>
          <a:xfrm>
            <a:off x="0" y="1143000"/>
            <a:ext cx="8610480" cy="5715000"/>
          </a:xfrm>
          <a:prstGeom prst="rect">
            <a:avLst/>
          </a:prstGeom>
          <a:ln w="0">
            <a:noFill/>
          </a:ln>
        </p:spPr>
      </p:pic>
      <p:sp>
        <p:nvSpPr>
          <p:cNvPr id="253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A80F-782C-4D25-BBBB-42E2C6E32B80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8896-9D26-4157-8C89-D7B9BBD1D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养成良好的行为，杜绝吸烟饮酒等不良嗜好，不涉足青少年不宜进入的场所，决不吸食摇头丸、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粉等兴奋剂。</a:t>
            </a:r>
            <a:br>
              <a:rPr sz="3600"/>
            </a:b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即使自己在不知情的情况下，被引诱、欺骗吸毒一次，也要珍惜自己的生命，坚决不再吸第二次。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矩形 39939"/>
          <p:cNvSpPr/>
          <p:nvPr/>
        </p:nvSpPr>
        <p:spPr>
          <a:xfrm>
            <a:off x="395280" y="6237360"/>
            <a:ext cx="10810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4ABC-6A98-4B2C-8FE0-EF8C7B22C0F0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4EB-9F1D-40D0-8AEA-88AC42B4F7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全国人大关于禁毒的决定</a:t>
            </a:r>
            <a:br>
              <a:rPr sz="4400"/>
            </a:b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吸食、注射毒品的，由公安机关处十五日以下拘留，可以单处或者并处二千元以下罚款，并没收毒品和吸食、注射器具。 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吸食、注射毒品成瘾的，除依照规定处罚外，予以强制戒除，进行治疗、教育。强制戒除后又吸食、注射毒品的，可以实行劳动教养，并在劳动教养中强制戒除。 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矩形 40963"/>
          <p:cNvSpPr/>
          <p:nvPr/>
        </p:nvSpPr>
        <p:spPr>
          <a:xfrm>
            <a:off x="250920" y="6237360"/>
            <a:ext cx="151272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B6B2-1FED-4A44-9D3F-29F03FFD881F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5761-6387-460B-A88B-2DE2778304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45058" descr="03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矩形 45060"/>
          <p:cNvSpPr/>
          <p:nvPr/>
        </p:nvSpPr>
        <p:spPr>
          <a:xfrm>
            <a:off x="179280" y="6237360"/>
            <a:ext cx="172872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文本框 45061"/>
          <p:cNvSpPr/>
          <p:nvPr/>
        </p:nvSpPr>
        <p:spPr>
          <a:xfrm>
            <a:off x="1023840" y="771480"/>
            <a:ext cx="110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文本框 45062"/>
          <p:cNvSpPr/>
          <p:nvPr/>
        </p:nvSpPr>
        <p:spPr>
          <a:xfrm>
            <a:off x="332640" y="260280"/>
            <a:ext cx="139932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牢记：珍爱生命，拒绝毒品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C008-2C79-4F6E-B42E-E72FA6A7F0BE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6C32-BB55-47DA-90EC-D27EE92FDE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52227" descr="89e4ec1b9e9507c2ac6e7517"/>
          <p:cNvPicPr/>
          <p:nvPr/>
        </p:nvPicPr>
        <p:blipFill>
          <a:blip r:embed="rId1"/>
          <a:stretch/>
        </p:blipFill>
        <p:spPr>
          <a:xfrm>
            <a:off x="0" y="-892080"/>
            <a:ext cx="8991720" cy="7986600"/>
          </a:xfrm>
          <a:prstGeom prst="rect">
            <a:avLst/>
          </a:prstGeom>
          <a:ln w="0">
            <a:noFill/>
          </a:ln>
        </p:spPr>
      </p:pic>
      <p:sp>
        <p:nvSpPr>
          <p:cNvPr id="136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45D8-C9F0-4052-BCCD-6DA241378565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3BD2-290C-4779-A0E8-1B5A7E83D0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51203" descr="20090626_ba2933b966ffafd3ef4aXPl1NM7n766O"/>
          <p:cNvPicPr/>
          <p:nvPr/>
        </p:nvPicPr>
        <p:blipFill>
          <a:blip r:embed="rId1"/>
          <a:stretch/>
        </p:blipFill>
        <p:spPr>
          <a:xfrm>
            <a:off x="0" y="0"/>
            <a:ext cx="44496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51204" descr="xinsrc_0910023110274681566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51205"/>
          <p:cNvSpPr/>
          <p:nvPr/>
        </p:nvSpPr>
        <p:spPr>
          <a:xfrm>
            <a:off x="5272200" y="627120"/>
            <a:ext cx="333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文本框 51206"/>
          <p:cNvSpPr/>
          <p:nvPr/>
        </p:nvSpPr>
        <p:spPr>
          <a:xfrm>
            <a:off x="5940360" y="69228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矩形 51208"/>
          <p:cNvSpPr/>
          <p:nvPr/>
        </p:nvSpPr>
        <p:spPr>
          <a:xfrm>
            <a:off x="0" y="6021360"/>
            <a:ext cx="698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文本框 51209"/>
          <p:cNvSpPr/>
          <p:nvPr/>
        </p:nvSpPr>
        <p:spPr>
          <a:xfrm>
            <a:off x="611280" y="18900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吸毒者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6837-9681-49FE-8333-E60B1D3D3F98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6B09-02A1-4110-B394-ED747EDF70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99"/>
                </a:solidFill>
                <a:latin typeface="宋体"/>
              </a:rPr>
              <a:t>图</a:t>
            </a:r>
            <a:r>
              <a:rPr b="0" lang="en-US" sz="4800" spc="-1" strike="noStrike">
                <a:solidFill>
                  <a:srgbClr val="336699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宋体"/>
            </a:endParaRPr>
          </a:p>
        </p:txBody>
      </p:sp>
      <p:pic>
        <p:nvPicPr>
          <p:cNvPr id="148" name="图片 10243" descr="lhh_1"/>
          <p:cNvPicPr/>
          <p:nvPr/>
        </p:nvPicPr>
        <p:blipFill>
          <a:blip r:embed="rId1"/>
          <a:stretch/>
        </p:blipFill>
        <p:spPr>
          <a:xfrm>
            <a:off x="0" y="-263520"/>
            <a:ext cx="9144000" cy="7527960"/>
          </a:xfrm>
          <a:prstGeom prst="rect">
            <a:avLst/>
          </a:prstGeom>
          <a:ln w="0">
            <a:noFill/>
          </a:ln>
        </p:spPr>
      </p:pic>
      <p:sp>
        <p:nvSpPr>
          <p:cNvPr id="149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FA74-04F7-4D8C-BD42-2776D4C3E422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B46C-D4EE-48CC-9342-57EACF0CBB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15040" y="-3545280"/>
            <a:ext cx="228600" cy="93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19640" y="188640"/>
            <a:ext cx="2438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杜冷丁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3" name="图片 14339" descr="杜冷丁"/>
          <p:cNvPicPr/>
          <p:nvPr/>
        </p:nvPicPr>
        <p:blipFill>
          <a:blip r:embed="rId1"/>
          <a:stretch/>
        </p:blipFill>
        <p:spPr>
          <a:xfrm>
            <a:off x="4500720" y="954000"/>
            <a:ext cx="4643280" cy="59040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4340" descr="K粉"/>
          <p:cNvPicPr/>
          <p:nvPr/>
        </p:nvPicPr>
        <p:blipFill>
          <a:blip r:embed="rId2"/>
          <a:stretch/>
        </p:blipFill>
        <p:spPr>
          <a:xfrm>
            <a:off x="0" y="981000"/>
            <a:ext cx="4500720" cy="5915160"/>
          </a:xfrm>
          <a:prstGeom prst="rect">
            <a:avLst/>
          </a:prstGeom>
          <a:ln w="0">
            <a:noFill/>
          </a:ln>
        </p:spPr>
      </p:pic>
      <p:sp>
        <p:nvSpPr>
          <p:cNvPr id="155" name="矩形 14341"/>
          <p:cNvSpPr/>
          <p:nvPr/>
        </p:nvSpPr>
        <p:spPr>
          <a:xfrm>
            <a:off x="1476360" y="26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K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DE94-2227-4153-B316-6302DC5E91DC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D3A1-342F-46D0-A0CF-D91FAABF20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76320" y="-3698280"/>
            <a:ext cx="76320" cy="93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cc"/>
              </a:solidFill>
              <a:latin typeface="宋体"/>
            </a:endParaRPr>
          </a:p>
        </p:txBody>
      </p:sp>
      <p:pic>
        <p:nvPicPr>
          <p:cNvPr id="160" name="图片 16387" descr="大麻"/>
          <p:cNvPicPr/>
          <p:nvPr/>
        </p:nvPicPr>
        <p:blipFill>
          <a:blip r:embed="rId1"/>
          <a:stretch/>
        </p:blipFill>
        <p:spPr>
          <a:xfrm>
            <a:off x="-533520" y="0"/>
            <a:ext cx="4889520" cy="34225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6388" descr="鸦片"/>
          <p:cNvPicPr/>
          <p:nvPr/>
        </p:nvPicPr>
        <p:blipFill>
          <a:blip r:embed="rId2"/>
          <a:stretch/>
        </p:blipFill>
        <p:spPr>
          <a:xfrm>
            <a:off x="-609480" y="342900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6389" descr="冰毒"/>
          <p:cNvPicPr/>
          <p:nvPr/>
        </p:nvPicPr>
        <p:blipFill>
          <a:blip r:embed="rId3"/>
          <a:stretch/>
        </p:blipFill>
        <p:spPr>
          <a:xfrm>
            <a:off x="4356000" y="0"/>
            <a:ext cx="455940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6390" descr="摇头丸"/>
          <p:cNvPicPr/>
          <p:nvPr/>
        </p:nvPicPr>
        <p:blipFill>
          <a:blip r:embed="rId4"/>
          <a:stretch/>
        </p:blipFill>
        <p:spPr>
          <a:xfrm>
            <a:off x="4356000" y="3429000"/>
            <a:ext cx="4537080" cy="3429000"/>
          </a:xfrm>
          <a:prstGeom prst="rect">
            <a:avLst/>
          </a:prstGeom>
          <a:ln w="0">
            <a:noFill/>
          </a:ln>
        </p:spPr>
      </p:pic>
      <p:sp>
        <p:nvSpPr>
          <p:cNvPr id="164" name="矩形 16391"/>
          <p:cNvSpPr/>
          <p:nvPr/>
        </p:nvSpPr>
        <p:spPr>
          <a:xfrm>
            <a:off x="-108000" y="11592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大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文本框 16392"/>
          <p:cNvSpPr/>
          <p:nvPr/>
        </p:nvSpPr>
        <p:spPr>
          <a:xfrm>
            <a:off x="-252360" y="3573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鸦片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16393"/>
          <p:cNvSpPr/>
          <p:nvPr/>
        </p:nvSpPr>
        <p:spPr>
          <a:xfrm>
            <a:off x="7391520" y="2630520"/>
            <a:ext cx="1447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文本框 16394"/>
          <p:cNvSpPr/>
          <p:nvPr/>
        </p:nvSpPr>
        <p:spPr>
          <a:xfrm>
            <a:off x="464328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冰毒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文本框 16395"/>
          <p:cNvSpPr/>
          <p:nvPr/>
        </p:nvSpPr>
        <p:spPr>
          <a:xfrm>
            <a:off x="4427640" y="3716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摇头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C611-32BB-4602-AD7E-D73DAFCFC895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5D87-7ACB-4A72-B5FA-A548F22159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8435" descr="海洛因"/>
          <p:cNvPicPr/>
          <p:nvPr/>
        </p:nvPicPr>
        <p:blipFill>
          <a:blip r:embed="rId1"/>
          <a:stretch/>
        </p:blipFill>
        <p:spPr>
          <a:xfrm>
            <a:off x="228600" y="0"/>
            <a:ext cx="3494160" cy="271764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18436"/>
          <p:cNvSpPr/>
          <p:nvPr/>
        </p:nvSpPr>
        <p:spPr>
          <a:xfrm>
            <a:off x="3962520" y="765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海洛因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图片 18437" descr="可卡因"/>
          <p:cNvPicPr/>
          <p:nvPr/>
        </p:nvPicPr>
        <p:blipFill>
          <a:blip r:embed="rId2"/>
          <a:stretch/>
        </p:blipFill>
        <p:spPr>
          <a:xfrm>
            <a:off x="2590920" y="2270160"/>
            <a:ext cx="4357440" cy="24224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18438"/>
          <p:cNvSpPr/>
          <p:nvPr/>
        </p:nvSpPr>
        <p:spPr>
          <a:xfrm>
            <a:off x="395280" y="3357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可卡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图片 18439" descr="吗啡"/>
          <p:cNvPicPr/>
          <p:nvPr/>
        </p:nvPicPr>
        <p:blipFill>
          <a:blip r:embed="rId3"/>
          <a:stretch/>
        </p:blipFill>
        <p:spPr>
          <a:xfrm>
            <a:off x="5486400" y="4114800"/>
            <a:ext cx="3124080" cy="23223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8440"/>
          <p:cNvSpPr/>
          <p:nvPr/>
        </p:nvSpPr>
        <p:spPr>
          <a:xfrm>
            <a:off x="4356000" y="5084640"/>
            <a:ext cx="161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吗啡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8441"/>
          <p:cNvSpPr/>
          <p:nvPr/>
        </p:nvSpPr>
        <p:spPr>
          <a:xfrm>
            <a:off x="250920" y="6308640"/>
            <a:ext cx="1368360" cy="433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0E81-9A1C-4555-9CED-A39EFAED75BA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F077-2079-4656-8789-49CC6D9FE1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20484" descr="lhh_2"/>
          <p:cNvPicPr/>
          <p:nvPr/>
        </p:nvPicPr>
        <p:blipFill>
          <a:blip r:embed="rId1"/>
          <a:stretch/>
        </p:blipFill>
        <p:spPr>
          <a:xfrm>
            <a:off x="0" y="0"/>
            <a:ext cx="8305920" cy="678348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20485"/>
          <p:cNvSpPr/>
          <p:nvPr/>
        </p:nvSpPr>
        <p:spPr>
          <a:xfrm>
            <a:off x="990720" y="380880"/>
            <a:ext cx="635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文本框 20486"/>
          <p:cNvSpPr/>
          <p:nvPr/>
        </p:nvSpPr>
        <p:spPr>
          <a:xfrm>
            <a:off x="533520" y="115920"/>
            <a:ext cx="80769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哪些行为是吸毒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常见的吸毒行为有：烟吸、烫吸、鼻嗅、口服、注射五种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9C1C-5E46-4A26-B180-832FC2A67F11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713F-7501-4C2A-9ADB-4F52C286F0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6T05:07:22Z</dcterms:created>
  <dc:creator/>
  <dc:description/>
  <cp:keywords/>
  <dc:language>en-US</dc:language>
  <cp:lastModifiedBy>Administrator</cp:lastModifiedBy>
  <dcterms:modified xsi:type="dcterms:W3CDTF">2019-10-15T00:57:31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