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27.png" ContentType="image/png"/>
  <Override PartName="/ppt/media/image14.jpeg" ContentType="image/jpeg"/>
  <Override PartName="/ppt/media/image15.jpeg" ContentType="image/jpeg"/>
  <Override PartName="/ppt/media/image6.jpeg" ContentType="image/jpeg"/>
  <Override PartName="/ppt/media/type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C621-9CF8-405F-90AB-B767626E3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702-E2B6-4BEF-A19B-F7CB52DA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68E8-7355-4068-91C1-F5168834A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DCFB-4807-4661-9025-23A15D70C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E31-6E0E-408B-A16C-0F96CEA50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7B15-22D0-43C1-A7DF-4A8CC36F5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424F-9225-4487-9F20-982867383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BFD9-227F-49B9-8EF3-A01C918FF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5CE3-01F3-49D4-B078-E7F8FE790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CF14-4F8F-45E8-B908-F1508A056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1815-F367-4DC0-9617-9504681FB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BF77-60CF-4099-A9E3-68D7DC241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  <a:ea typeface="宋体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29A-4352-46AA-8B9B-7857670C2AE7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900000" y="2852640"/>
            <a:ext cx="754380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拒绝毒品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1332000" y="909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黑体"/>
              </a:rPr>
              <a:t>禁毒知识教育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49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56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3" descr="rose3[1]"/>
            <p:cNvPicPr/>
            <p:nvPr/>
          </p:nvPicPr>
          <p:blipFill>
            <a:blip r:embed="rId16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4" descr="rose3[1]"/>
            <p:cNvPicPr/>
            <p:nvPr/>
          </p:nvPicPr>
          <p:blipFill>
            <a:blip r:embed="rId17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5" descr="rose3[1]"/>
            <p:cNvPicPr/>
            <p:nvPr/>
          </p:nvPicPr>
          <p:blipFill>
            <a:blip r:embed="rId18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6"/>
          <p:cNvSpPr/>
          <p:nvPr/>
        </p:nvSpPr>
        <p:spPr>
          <a:xfrm>
            <a:off x="3059280" y="4292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宜昌市青岛路小学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六年级（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）班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宋体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1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5920" y="593640"/>
            <a:ext cx="85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97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100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02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360" y="126828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交流课前社会调查的情况交流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小组一：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小组二：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小组三：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小组四：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6699"/>
                </a:solidFill>
                <a:latin typeface="Arial Narrow"/>
                <a:ea typeface="宋体"/>
              </a:rPr>
              <a:t>         </a:t>
            </a:r>
            <a:endParaRPr b="0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7408" descr="lhh_2"/>
          <p:cNvPicPr/>
          <p:nvPr/>
        </p:nvPicPr>
        <p:blipFill>
          <a:blip r:embed="rId1"/>
          <a:stretch/>
        </p:blipFill>
        <p:spPr>
          <a:xfrm>
            <a:off x="5472000" y="419400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17409"/>
          <p:cNvSpPr/>
          <p:nvPr/>
        </p:nvSpPr>
        <p:spPr>
          <a:xfrm>
            <a:off x="250920" y="18720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初步认识毒品对我们的危害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对个人的危害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、吸毒对身体的毒性作用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、戒断反应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、精神障碍与变态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对家庭的危害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对社会生产力的巨大破坏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毒品活动扰乱社会治安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8432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矩形 18433"/>
          <p:cNvSpPr/>
          <p:nvPr/>
        </p:nvSpPr>
        <p:spPr>
          <a:xfrm>
            <a:off x="831204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ED6-8D18-48BE-B628-746E5338EC34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图片 18434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4" name="矩形 18435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45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图片 19457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19458"/>
          <p:cNvSpPr/>
          <p:nvPr/>
        </p:nvSpPr>
        <p:spPr>
          <a:xfrm>
            <a:off x="4500720" y="1916280"/>
            <a:ext cx="337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摧毁健康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心理变态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神经失常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备受歧视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走上绝路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矩形 19459"/>
          <p:cNvSpPr/>
          <p:nvPr/>
        </p:nvSpPr>
        <p:spPr>
          <a:xfrm>
            <a:off x="3780000" y="977040"/>
            <a:ext cx="5027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吸毒对个人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2048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图片 20481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0482"/>
          <p:cNvSpPr/>
          <p:nvPr/>
        </p:nvSpPr>
        <p:spPr>
          <a:xfrm>
            <a:off x="4859280" y="2205000"/>
            <a:ext cx="30243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倾家荡产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妻离子散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家破人亡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危及后代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矩形 20483"/>
          <p:cNvSpPr/>
          <p:nvPr/>
        </p:nvSpPr>
        <p:spPr>
          <a:xfrm>
            <a:off x="4211640" y="1053360"/>
            <a:ext cx="439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对家庭造成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150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4" name="图片 21505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21506"/>
          <p:cNvSpPr/>
          <p:nvPr/>
        </p:nvSpPr>
        <p:spPr>
          <a:xfrm>
            <a:off x="4966560" y="83664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社会造成的危害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矩形 21507"/>
          <p:cNvSpPr/>
          <p:nvPr/>
        </p:nvSpPr>
        <p:spPr>
          <a:xfrm>
            <a:off x="5021280" y="2205000"/>
            <a:ext cx="323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偷盗抢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杀人放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传播疾病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累及他人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6F78-C6CA-4B0B-91D5-A53ED5676BA4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4605120" cy="2889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1736640" y="1444680"/>
            <a:ext cx="616608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4294080" y="3794040"/>
            <a:ext cx="4849920" cy="306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0280" y="5622840"/>
            <a:ext cx="355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虎门销烟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29" name="图片 3" descr="97491acc3186bceb19e8bba2"/>
          <p:cNvPicPr/>
          <p:nvPr/>
        </p:nvPicPr>
        <p:blipFill>
          <a:blip r:embed="rId1"/>
          <a:stretch/>
        </p:blipFill>
        <p:spPr>
          <a:xfrm>
            <a:off x="28116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457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图片 24577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132" name="矩形 24578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667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3803"/>
                </a:solidFill>
                <a:latin typeface="宋体"/>
                <a:ea typeface="宋体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15280" cy="3743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出入网吧、</a:t>
            </a: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ktv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7" name="图片 27650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474480"/>
            <a:ext cx="60962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40" name="图片 28674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969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05920" y="549000"/>
            <a:ext cx="8683560" cy="5545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接受毒品基本知识和禁毒法律法规教育，牢记</a:t>
            </a: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"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四知道</a:t>
            </a: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"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：知道什么是毒品；知道吸毒极易成瘾，难以戒断；知道毒品的危害；知道毒品违法犯罪要受到法律制裁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矩形 29698"/>
          <p:cNvSpPr/>
          <p:nvPr/>
        </p:nvSpPr>
        <p:spPr>
          <a:xfrm>
            <a:off x="324000" y="6237360"/>
            <a:ext cx="12222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969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5920" y="549000"/>
            <a:ext cx="8683560" cy="5545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结交有吸毒、贩毒行为的人。如发现亲朋好友有吸、贩毒行为的人，一要劝阻，二要远离，三要报告公安机关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5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养成良好的行为，杜绝吸烟饮酒等不良嗜好，不涉足青少年不宜进入的场所，决不吸食摇头丸、</a:t>
            </a: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K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粉等兴奋剂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6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使自己在不知情的情况下，被引诱、欺骗吸毒一次，也要珍惜自己的生命，坚决不再吸第二次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矩形 29698"/>
          <p:cNvSpPr/>
          <p:nvPr/>
        </p:nvSpPr>
        <p:spPr>
          <a:xfrm>
            <a:off x="324000" y="6237360"/>
            <a:ext cx="12222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49" name="图片 3" descr="97491acc3186bceb19e8bba2 (2)"/>
          <p:cNvPicPr/>
          <p:nvPr/>
        </p:nvPicPr>
        <p:blipFill>
          <a:blip r:embed="rId1"/>
          <a:stretch/>
        </p:blipFill>
        <p:spPr>
          <a:xfrm>
            <a:off x="396720" y="155520"/>
            <a:ext cx="823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华文中宋"/>
              </a:rPr>
              <a:t>为爱你和你爱的人！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拒绝毒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CBA6-5903-4735-9000-1577AFAFA5F5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0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5123"/>
          <p:cNvSpPr/>
          <p:nvPr/>
        </p:nvSpPr>
        <p:spPr>
          <a:xfrm>
            <a:off x="539640" y="33336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DD5-C0F8-4D70-BE82-E11169F1DDDA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4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77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B81-4CCA-468E-9216-FD82EE3877FF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0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192"/>
          <p:cNvSpPr/>
          <p:nvPr/>
        </p:nvSpPr>
        <p:spPr>
          <a:xfrm>
            <a:off x="746280" y="189000"/>
            <a:ext cx="7470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100" spc="-1" strike="noStrike">
                <a:solidFill>
                  <a:srgbClr val="a603ab"/>
                </a:solidFill>
                <a:latin typeface="宋体"/>
                <a:ea typeface="宋体"/>
              </a:rPr>
              <a:t>认识毒品及常见的毒品种类</a:t>
            </a:r>
            <a:endParaRPr b="1" lang="en-US" sz="41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2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83" name="矩形 8194"/>
          <p:cNvSpPr/>
          <p:nvPr/>
        </p:nvSpPr>
        <p:spPr>
          <a:xfrm>
            <a:off x="1619280" y="50832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矩形 8195"/>
          <p:cNvSpPr/>
          <p:nvPr/>
        </p:nvSpPr>
        <p:spPr>
          <a:xfrm>
            <a:off x="6657840" y="27068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5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罂粟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二、大麻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三、</a:t>
            </a: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、冰毒（包括麻古）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五、氯胺酮（又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粉）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六、摇头丸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罂粟、大麻、海洛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一般称传统毒品，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冰毒、氯胺酮、摇头丸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等称新型毒品（合成毒品）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6_GG88"/>
          <p:cNvPicPr/>
          <p:nvPr/>
        </p:nvPicPr>
        <p:blipFill>
          <a:blip r:embed="rId1"/>
          <a:stretch/>
        </p:blipFill>
        <p:spPr>
          <a:xfrm>
            <a:off x="324000" y="304920"/>
            <a:ext cx="856908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372360" y="522936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罂粟花</a:t>
            </a:r>
            <a:r>
              <a:rPr b="1" lang="zh-CN" sz="48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/>
  <dc:description/>
  <dc:language>en-US</dc:language>
  <cp:lastModifiedBy>Administrator</cp:lastModifiedBy>
  <dcterms:modified xsi:type="dcterms:W3CDTF">2019-11-21T11:49:2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