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smb" initials="s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15-08-18T16:25:09.149000000" idx="1">
    <p:pos x="10" y="10"/>
    <p:text>运输毒品罪在主观方面表现为故意，且是直接故意，即明知是毒品而运输，过失不构成本罪。如果行为人主观上不明知是毒品，而是被人利用而实施了运输的行为，就不构成犯罪。一般是以营利为目的，但也不能排除其他目的，法律没有要求构成本罪必须以营利为目的。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96E8-EC58-4592-B4A3-6158EA26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791F-AD6D-4231-94D7-17C5FA59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6125-3C64-41BD-8006-02C06528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7775-35DA-4167-8A22-C6C64B01D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8ADC-4CEA-40C9-8352-7EAEB3FF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A81D-8DFA-44F0-8B77-856067A7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3030-A196-43C9-825F-C891C976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A06F-8734-493D-84E6-98BC71DD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6871-B899-4C46-B3CF-BCA49FE8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6D63-AC33-4AD3-BA9E-9E982E30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3723-1117-4E30-8D5B-B687688F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C609-27DD-481F-8CCB-8155979A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B9E8-FC46-4186-AAB1-C5FC5A9802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9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alibri"/>
              </a:rPr>
              <a:t>知晓禁毒法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文本框 2"/>
          <p:cNvSpPr/>
          <p:nvPr/>
        </p:nvSpPr>
        <p:spPr>
          <a:xfrm>
            <a:off x="3805560" y="179856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第三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1044720" y="3863880"/>
            <a:ext cx="6335640" cy="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3780000" y="3933720"/>
            <a:ext cx="3544560" cy="1800"/>
          </a:xfrm>
          <a:prstGeom prst="line">
            <a:avLst/>
          </a:prstGeom>
          <a:ln w="5724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微软 305"/>
          <p:cNvSpPr/>
          <p:nvPr/>
        </p:nvSpPr>
        <p:spPr>
          <a:xfrm>
            <a:off x="1187280" y="3071880"/>
            <a:ext cx="650880" cy="647640"/>
          </a:xfrm>
          <a:prstGeom prst="pie">
            <a:avLst/>
          </a:prstGeom>
          <a:solidFill>
            <a:srgbClr val="66ff99"/>
          </a:solidFill>
          <a:ln w="936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4"/>
          <p:cNvSpPr/>
          <p:nvPr/>
        </p:nvSpPr>
        <p:spPr>
          <a:xfrm>
            <a:off x="2556000" y="3933720"/>
            <a:ext cx="41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b.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非法种植毒品原植物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1143000" y="2143080"/>
            <a:ext cx="66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小米家在城郊买了一栋别墅。为了美化自家的花园，小米种了一片漂亮的罂粟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6"/>
          <p:cNvSpPr/>
          <p:nvPr/>
        </p:nvSpPr>
        <p:spPr>
          <a:xfrm>
            <a:off x="3286080" y="5373720"/>
            <a:ext cx="21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c.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非法持有毒品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7"/>
          <p:cNvSpPr/>
          <p:nvPr/>
        </p:nvSpPr>
        <p:spPr>
          <a:xfrm>
            <a:off x="428760" y="164304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楷体"/>
                <a:ea typeface="楷体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16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岁的小俊在一次打车的时候， 在出租车后排捡到一个纸袋，打开一看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几包“洗衣粉”，小俊心想，这肯定是上一个乘客忘拿走的，反正就是几包洗衣粉，自己拿回去还可以用，一种贪小便宜的思想让小俊下车时带走了“洗衣粉”。可是，到了家一看，知道可能是海洛因，他犹豫了，但最终没有把毒品交给公安部门。没过几天，警察就找上门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4"/>
          <p:cNvSpPr/>
          <p:nvPr/>
        </p:nvSpPr>
        <p:spPr>
          <a:xfrm>
            <a:off x="3214800" y="5715000"/>
            <a:ext cx="32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d.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容留他人吸毒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357120" y="157176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唐某的外甥女李某来到唐某家做客，谈兴正浓的李某突然哈欠连天，眼泪、鼻涕流个不停，还不时说“很不舒服”。在唐某一再追问下，李某说出自己已经吸毒数月，现在正是毒瘾发作，并要求李某提供一个房间，供其吸食随身携带的毒品海洛因。唐某早就听人说过海洛因是毒品，不能吸，但又考虑到李某是亲戚，难得来做一次客，加之又是在家里，只要自己不说，也没人知道，不如睁一只眼，闭一只眼算了。于是唐某在说了一句“少吸点”后，即听之任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4"/>
          <p:cNvSpPr/>
          <p:nvPr/>
        </p:nvSpPr>
        <p:spPr>
          <a:xfrm>
            <a:off x="1763640" y="386064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e.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非法提供麻醉药品、精神药品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1042920" y="18446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E</a:t>
            </a:r>
            <a:r>
              <a:rPr b="1" lang="en-US" sz="2800" spc="-1" strike="noStrike">
                <a:solidFill>
                  <a:srgbClr val="17375e"/>
                </a:solidFill>
                <a:latin typeface="楷体"/>
                <a:ea typeface="楷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赵某在医院负责管理着国家法律进行管制的精神药品，其女友长期吸食毒品，为满足女友的毒瘾，赵某常偷拿一些精神物品给女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468360" y="31474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. 19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的小静是某大学的在校学生，一次在回老家的途中结识了何某。一路上，何某像大哥一样对小静表现出无微不至的关怀，令小静倍生好感，并约定开学时两人一起返校。到了返校的时间，何某在机场告知小静因家中有事不能和小静一起走，要晚走几天。但自己有一箱帮人买的书特别急，希望小静帮忙先带回学校。小静犹豫了，何某见状，主动打开箱子，让小静一本一本地检查。检查中，小静发现书中夹着几包“白色粉末”。一看何某的脸色，小静明白那就是毒品。但在何某的甜言蜜语下，她同意了。小静提着箱子过安检时，被机场民警当场查出箱子里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47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克海洛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"/>
          <p:cNvSpPr/>
          <p:nvPr/>
        </p:nvSpPr>
        <p:spPr>
          <a:xfrm>
            <a:off x="3499560" y="5300640"/>
            <a:ext cx="17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f.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运输毒品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http://img3.redocn.com/20131012/Redocn_2013101213075956.jpg"/>
          <p:cNvPicPr/>
          <p:nvPr/>
        </p:nvPicPr>
        <p:blipFill>
          <a:blip r:embed="rId1"/>
          <a:stretch/>
        </p:blipFill>
        <p:spPr>
          <a:xfrm>
            <a:off x="1643040" y="3071880"/>
            <a:ext cx="4659480" cy="3219480"/>
          </a:xfrm>
          <a:prstGeom prst="rect">
            <a:avLst/>
          </a:prstGeom>
          <a:ln w="0">
            <a:noFill/>
          </a:ln>
        </p:spPr>
      </p:pic>
      <p:sp>
        <p:nvSpPr>
          <p:cNvPr id="94" name="TextBox 9"/>
          <p:cNvSpPr/>
          <p:nvPr/>
        </p:nvSpPr>
        <p:spPr>
          <a:xfrm>
            <a:off x="1285920" y="2857680"/>
            <a:ext cx="17143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428760" y="2143080"/>
            <a:ext cx="76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如果我的朋友染上毒瘾该怎么办？该向谁求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矩形 4" descr=""/>
          <p:cNvPicPr/>
          <p:nvPr/>
        </p:nvPicPr>
        <p:blipFill>
          <a:blip r:embed="rId2"/>
          <a:stretch/>
        </p:blipFill>
        <p:spPr>
          <a:xfrm>
            <a:off x="-12600" y="1279440"/>
            <a:ext cx="2493720" cy="798480"/>
          </a:xfrm>
          <a:prstGeom prst="rect">
            <a:avLst/>
          </a:prstGeom>
          <a:ln w="0">
            <a:noFill/>
          </a:ln>
        </p:spPr>
      </p:pic>
      <p:sp>
        <p:nvSpPr>
          <p:cNvPr id="97" name="TextBox 6"/>
          <p:cNvSpPr/>
          <p:nvPr/>
        </p:nvSpPr>
        <p:spPr>
          <a:xfrm>
            <a:off x="2643120" y="5857920"/>
            <a:ext cx="15001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1428840" y="5929200"/>
            <a:ext cx="507204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"/>
          <p:cNvSpPr/>
          <p:nvPr/>
        </p:nvSpPr>
        <p:spPr>
          <a:xfrm>
            <a:off x="714240" y="2278080"/>
            <a:ext cx="778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戒毒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目前我国法律规定，我国设立了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自愿戒毒、社区戒毒、强制隔离戒毒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社区康复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四种相互衔接、互为补充的戒毒措施，形成完整、符合科学戒毒治疗原则的戒毒治疗康复模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TextBox 3" descr=""/>
          <p:cNvPicPr/>
          <p:nvPr/>
        </p:nvPicPr>
        <p:blipFill>
          <a:blip r:embed="rId1"/>
          <a:stretch/>
        </p:blipFill>
        <p:spPr>
          <a:xfrm>
            <a:off x="493560" y="1500120"/>
            <a:ext cx="22068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1476360" y="177336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辩论：禁毒只是公安机关的事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users\administrator\appdata\roaming\360se6\User Data\temp\t016768826ddad00062.jpg"/>
          <p:cNvPicPr/>
          <p:nvPr/>
        </p:nvPicPr>
        <p:blipFill>
          <a:blip r:embed="rId1"/>
          <a:stretch/>
        </p:blipFill>
        <p:spPr>
          <a:xfrm>
            <a:off x="2071800" y="2286000"/>
            <a:ext cx="43574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矩形 2" descr=""/>
          <p:cNvPicPr/>
          <p:nvPr/>
        </p:nvPicPr>
        <p:blipFill>
          <a:blip r:embed="rId1"/>
          <a:stretch/>
        </p:blipFill>
        <p:spPr>
          <a:xfrm>
            <a:off x="165240" y="1841400"/>
            <a:ext cx="2017440" cy="7984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1357200" y="321480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面对毒品时，我们可以做些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F:\中小学禁毒教学多媒体课件制作\课件素材\禁毒局提供素材\预防教育宣传\DSC_0763.jpg"/>
          <p:cNvPicPr/>
          <p:nvPr/>
        </p:nvPicPr>
        <p:blipFill>
          <a:blip r:embed="rId1"/>
          <a:stretch/>
        </p:blipFill>
        <p:spPr>
          <a:xfrm>
            <a:off x="1979640" y="2492280"/>
            <a:ext cx="5256360" cy="36799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"/>
          <p:cNvSpPr/>
          <p:nvPr/>
        </p:nvSpPr>
        <p:spPr>
          <a:xfrm>
            <a:off x="1000080" y="1714680"/>
            <a:ext cx="60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积极参加禁毒宣传教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六边形 8"/>
          <p:cNvSpPr/>
          <p:nvPr/>
        </p:nvSpPr>
        <p:spPr>
          <a:xfrm>
            <a:off x="546120" y="2532240"/>
            <a:ext cx="2228760" cy="1917360"/>
          </a:xfrm>
          <a:prstGeom prst="hexagon">
            <a:avLst>
              <a:gd name="adj" fmla="val 24992"/>
              <a:gd name="vf" fmla="val 11547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28800" y="2999880"/>
            <a:ext cx="147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Calibri"/>
                <a:ea typeface="楷体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18"/>
          <p:cNvGrpSpPr/>
          <p:nvPr/>
        </p:nvGrpSpPr>
        <p:grpSpPr>
          <a:xfrm>
            <a:off x="2266920" y="2303640"/>
            <a:ext cx="6187320" cy="571320"/>
            <a:chOff x="2266920" y="2303640"/>
            <a:chExt cx="6187320" cy="571320"/>
          </a:xfrm>
        </p:grpSpPr>
        <p:grpSp>
          <p:nvGrpSpPr>
            <p:cNvPr id="49" name="Group 16"/>
            <p:cNvGrpSpPr/>
            <p:nvPr/>
          </p:nvGrpSpPr>
          <p:grpSpPr>
            <a:xfrm>
              <a:off x="2266920" y="2303640"/>
              <a:ext cx="6187320" cy="571320"/>
              <a:chOff x="2266920" y="2303640"/>
              <a:chExt cx="6187320" cy="571320"/>
            </a:xfrm>
          </p:grpSpPr>
          <p:cxnSp>
            <p:nvCxnSpPr>
              <p:cNvPr id="50" name="形状 10"/>
              <p:cNvCxnSpPr/>
              <p:nvPr/>
            </p:nvCxnSpPr>
            <p:spPr>
              <a:xfrm flipH="1" rot="16200000">
                <a:off x="2941920" y="1799280"/>
                <a:ext cx="65520" cy="1415520"/>
              </a:xfrm>
              <a:prstGeom prst="bentConnector4">
                <a:avLst>
                  <a:gd name="adj1" fmla="val 107182"/>
                  <a:gd name="adj2" fmla="val 66929"/>
                </a:avLst>
              </a:prstGeom>
              <a:ln w="9360">
                <a:solidFill>
                  <a:srgbClr val="4f81bd"/>
                </a:solidFill>
                <a:miter/>
              </a:ln>
            </p:spPr>
          </p:cxnSp>
          <p:sp>
            <p:nvSpPr>
              <p:cNvPr id="51" name="流程图: 终止 17"/>
              <p:cNvSpPr/>
              <p:nvPr/>
            </p:nvSpPr>
            <p:spPr>
              <a:xfrm>
                <a:off x="3932280" y="2303640"/>
                <a:ext cx="4521960" cy="571320"/>
              </a:xfrm>
              <a:prstGeom prst="flowChartTerminator">
                <a:avLst/>
              </a:prstGeom>
              <a:solidFill>
                <a:srgbClr val="92d05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椭圆 18"/>
              <p:cNvSpPr/>
              <p:nvPr/>
            </p:nvSpPr>
            <p:spPr>
              <a:xfrm>
                <a:off x="3709800" y="2490840"/>
                <a:ext cx="222120" cy="2142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矩形 35"/>
            <p:cNvSpPr/>
            <p:nvPr/>
          </p:nvSpPr>
          <p:spPr>
            <a:xfrm>
              <a:off x="4822200" y="2303640"/>
              <a:ext cx="19080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9"/>
          <p:cNvGrpSpPr/>
          <p:nvPr/>
        </p:nvGrpSpPr>
        <p:grpSpPr>
          <a:xfrm>
            <a:off x="2268360" y="4164120"/>
            <a:ext cx="6572160" cy="577080"/>
            <a:chOff x="2268360" y="4164120"/>
            <a:chExt cx="6572160" cy="577080"/>
          </a:xfrm>
        </p:grpSpPr>
        <p:sp>
          <p:nvSpPr>
            <p:cNvPr id="55" name="流程图: 终止 19"/>
            <p:cNvSpPr/>
            <p:nvPr/>
          </p:nvSpPr>
          <p:spPr>
            <a:xfrm>
              <a:off x="3733200" y="4164120"/>
              <a:ext cx="4954680" cy="571320"/>
            </a:xfrm>
            <a:prstGeom prst="flowChartTerminator">
              <a:avLst/>
            </a:prstGeom>
            <a:solidFill>
              <a:srgbClr val="92b54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15"/>
            <p:cNvSpPr/>
            <p:nvPr/>
          </p:nvSpPr>
          <p:spPr>
            <a:xfrm>
              <a:off x="2268360" y="4449600"/>
              <a:ext cx="1464840" cy="7092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椭圆 21"/>
            <p:cNvSpPr/>
            <p:nvPr/>
          </p:nvSpPr>
          <p:spPr>
            <a:xfrm>
              <a:off x="3504600" y="4378320"/>
              <a:ext cx="228240" cy="2138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36"/>
            <p:cNvSpPr/>
            <p:nvPr/>
          </p:nvSpPr>
          <p:spPr>
            <a:xfrm>
              <a:off x="4114800" y="4164120"/>
              <a:ext cx="47257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 u="sng">
                  <a:solidFill>
                    <a:srgbClr val="0000ff"/>
                  </a:solidFill>
                  <a:uFillTx/>
                  <a:latin typeface="Calibri"/>
                  <a:ea typeface="楷体"/>
                  <a:hlinkClick r:id="rId2" action="ppaction://hlinksldjump"/>
                </a:rPr>
                <a:t>对禁毒法律法规的运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Box 20"/>
          <p:cNvSpPr/>
          <p:nvPr/>
        </p:nvSpPr>
        <p:spPr>
          <a:xfrm>
            <a:off x="3995640" y="2338560"/>
            <a:ext cx="3857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ff"/>
                </a:solidFill>
                <a:uFillTx/>
                <a:latin typeface="Calibri"/>
                <a:ea typeface="楷体"/>
                <a:hlinkClick r:id="rId3" action="ppaction://hlinksldjump"/>
              </a:rPr>
              <a:t>我国对毒品犯罪的惩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Users\Administrator\Desktop\中职禁毒课件\金木布(1).jpg"/>
          <p:cNvPicPr/>
          <p:nvPr/>
        </p:nvPicPr>
        <p:blipFill>
          <a:blip r:embed="rId1"/>
          <a:stretch/>
        </p:blipFill>
        <p:spPr>
          <a:xfrm>
            <a:off x="428760" y="2000160"/>
            <a:ext cx="3929040" cy="3143520"/>
          </a:xfrm>
          <a:prstGeom prst="rect">
            <a:avLst/>
          </a:prstGeom>
          <a:ln w="0">
            <a:noFill/>
          </a:ln>
        </p:spPr>
      </p:pic>
      <p:sp>
        <p:nvSpPr>
          <p:cNvPr id="108" name="矩形 3"/>
          <p:cNvSpPr/>
          <p:nvPr/>
        </p:nvSpPr>
        <p:spPr>
          <a:xfrm>
            <a:off x="142920" y="52149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景颇族，云南省盈江县勐展村二坤村民小组妇女禁毒联防队队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"/>
          <p:cNvSpPr/>
          <p:nvPr/>
        </p:nvSpPr>
        <p:spPr>
          <a:xfrm>
            <a:off x="4859280" y="2205000"/>
            <a:ext cx="400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7121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1215"/>
                </a:solidFill>
                <a:latin typeface="楷体"/>
                <a:ea typeface="楷体"/>
              </a:rPr>
              <a:t>２０００年，带领村民成立妇女禁毒联防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7121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71215"/>
                </a:solidFill>
                <a:latin typeface="楷体"/>
                <a:ea typeface="楷体"/>
              </a:rPr>
              <a:t>２００６年，由于她的出色工作，创造了二坤山寨的吸毒人员戒断率达９０％的奇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714240" y="135720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民间禁毒代表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金木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1285920" y="1285920"/>
            <a:ext cx="60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积极举报毒品违法犯罪行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4" descr="图片1.jpg"/>
          <p:cNvPicPr/>
          <p:nvPr/>
        </p:nvPicPr>
        <p:blipFill>
          <a:blip r:embed="rId1"/>
          <a:stretch/>
        </p:blipFill>
        <p:spPr>
          <a:xfrm>
            <a:off x="1785960" y="1928880"/>
            <a:ext cx="614376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TextBox 1" descr=""/>
          <p:cNvPicPr/>
          <p:nvPr/>
        </p:nvPicPr>
        <p:blipFill>
          <a:blip r:embed="rId1"/>
          <a:stretch/>
        </p:blipFill>
        <p:spPr>
          <a:xfrm>
            <a:off x="378000" y="1500120"/>
            <a:ext cx="2219040" cy="749520"/>
          </a:xfrm>
          <a:prstGeom prst="rect">
            <a:avLst/>
          </a:prstGeom>
          <a:ln w="0">
            <a:noFill/>
          </a:ln>
        </p:spPr>
      </p:pic>
      <p:sp>
        <p:nvSpPr>
          <p:cNvPr id="114" name="矩形 2"/>
          <p:cNvSpPr/>
          <p:nvPr/>
        </p:nvSpPr>
        <p:spPr>
          <a:xfrm>
            <a:off x="428760" y="235728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禁毒防毒是一项任重道远的工作，从毒品开始泛滥到现在，虽然有了一定成效，但是毒品仍然在蔓延，毒品的危害仍然存在，这对我国的发展、人民的健康是非常不利的，因此将禁毒防毒纳入国家的相关法律政策中，坚决打击毒品犯罪行为。掌握国家对禁毒防毒相关法律法规的基本常识，对规范学生行为、加强法律意识具有非常重要的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1"/>
          <p:cNvSpPr/>
          <p:nvPr/>
        </p:nvSpPr>
        <p:spPr>
          <a:xfrm>
            <a:off x="857160" y="292896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与父母一起讨论，制定一份符合实际的《家庭防毒公约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TextBox 1" descr=""/>
          <p:cNvPicPr/>
          <p:nvPr/>
        </p:nvPicPr>
        <p:blipFill>
          <a:blip r:embed="rId1"/>
          <a:stretch/>
        </p:blipFill>
        <p:spPr>
          <a:xfrm>
            <a:off x="665280" y="1500120"/>
            <a:ext cx="221760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3"/>
          <p:cNvSpPr txBox="1"/>
          <p:nvPr/>
        </p:nvSpPr>
        <p:spPr>
          <a:xfrm>
            <a:off x="1357200" y="2786040"/>
            <a:ext cx="6380280" cy="19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珍爱生命，远离毒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extBox 3" descr=""/>
          <p:cNvPicPr/>
          <p:nvPr/>
        </p:nvPicPr>
        <p:blipFill>
          <a:blip r:embed="rId1"/>
          <a:stretch/>
        </p:blipFill>
        <p:spPr>
          <a:xfrm>
            <a:off x="523800" y="2286000"/>
            <a:ext cx="1560600" cy="78588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2697480" y="328608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青少年吸毒的原因有哪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071720" y="2357280"/>
            <a:ext cx="77864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盲目好奇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寻求刺激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交友不慎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偏听偏信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偶遇挫变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急于减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哥们义气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交叉感染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盲目逆反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深陷毒潭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家庭社区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不良生态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7.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无知法盲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蓄意谋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1143000" y="135720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青少年吸毒的原因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3"/>
          <p:cNvSpPr/>
          <p:nvPr/>
        </p:nvSpPr>
        <p:spPr>
          <a:xfrm>
            <a:off x="2741040" y="299736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"/>
              </a:rPr>
              <a:t>你知道我国有关禁毒的法律法规有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4296240" y="13651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一、我国对毒品犯罪的惩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1357200" y="3786120"/>
            <a:ext cx="7143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"/>
              </a:rPr>
              <a:t>中华人民共和国禁毒法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"/>
              </a:rPr>
              <a:t>戒毒条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"/>
              </a:rPr>
              <a:t>中华人民共和国治安管理处罚法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"/>
              </a:rPr>
              <a:t>都规定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楷体"/>
              </a:rPr>
              <a:t>吸毒是违法行为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TextBox 7" descr=""/>
          <p:cNvPicPr/>
          <p:nvPr/>
        </p:nvPicPr>
        <p:blipFill>
          <a:blip r:embed="rId1"/>
          <a:stretch/>
        </p:blipFill>
        <p:spPr>
          <a:xfrm>
            <a:off x="122400" y="2152800"/>
            <a:ext cx="220644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1"/>
          <p:cNvSpPr/>
          <p:nvPr/>
        </p:nvSpPr>
        <p:spPr>
          <a:xfrm>
            <a:off x="714240" y="1357200"/>
            <a:ext cx="8001000" cy="47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中华人民共和国刑法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刑法中关于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毒品犯罪的罪名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 走私、贩卖、运输、制造毒品罪（第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47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）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 非法持有毒品罪（第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48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）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 包庇毒品犯罪分子罪（第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49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）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 窝藏、转移、隐瞒毒品、毒赃罪（第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49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 走私制毒物品罪（第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 非法买卖制毒物品罪（第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1"/>
          <p:cNvSpPr/>
          <p:nvPr/>
        </p:nvSpPr>
        <p:spPr>
          <a:xfrm>
            <a:off x="500040" y="1714680"/>
            <a:ext cx="864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 非法种植毒品原植物罪（第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5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非法买卖、运输、携带、持有毒品原植物种子、幼苗罪（第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5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 引诱、教唆、欺骗他人吸毒罪（第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5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 强迫他人吸毒罪（第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5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 容留他人吸毒罪（第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54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 非法提供麻醉药品、精神药品罪（第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55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extBox 1" descr=""/>
          <p:cNvPicPr/>
          <p:nvPr/>
        </p:nvPicPr>
        <p:blipFill>
          <a:blip r:embed="rId1"/>
          <a:stretch/>
        </p:blipFill>
        <p:spPr>
          <a:xfrm>
            <a:off x="560520" y="1139760"/>
            <a:ext cx="4657680" cy="73836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5021640" y="20001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"/>
              </a:rPr>
              <a:t>请同学们分享课前搜集到的毒品犯罪的案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://pic65.nipic.com/file/20150429/20296376_103648045894_2.jpg"/>
          <p:cNvPicPr/>
          <p:nvPr/>
        </p:nvPicPr>
        <p:blipFill>
          <a:blip r:embed="rId2"/>
          <a:stretch/>
        </p:blipFill>
        <p:spPr>
          <a:xfrm>
            <a:off x="1143000" y="2643120"/>
            <a:ext cx="5715000" cy="332892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5" descr=""/>
          <p:cNvPicPr/>
          <p:nvPr/>
        </p:nvPicPr>
        <p:blipFill>
          <a:blip r:embed="rId3"/>
          <a:stretch/>
        </p:blipFill>
        <p:spPr>
          <a:xfrm>
            <a:off x="4230720" y="2919240"/>
            <a:ext cx="3773520" cy="1744920"/>
          </a:xfrm>
          <a:prstGeom prst="rect">
            <a:avLst/>
          </a:prstGeom>
          <a:ln w="0">
            <a:noFill/>
          </a:ln>
        </p:spPr>
      </p:pic>
      <p:sp>
        <p:nvSpPr>
          <p:cNvPr id="77" name="TextBox 6"/>
          <p:cNvSpPr/>
          <p:nvPr/>
        </p:nvSpPr>
        <p:spPr>
          <a:xfrm>
            <a:off x="1214280" y="5786280"/>
            <a:ext cx="578664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7">
            <a:hlinkClick r:id="rId4" action="ppaction://hlinksldjump"/>
          </p:cNvPr>
          <p:cNvSpPr/>
          <p:nvPr/>
        </p:nvSpPr>
        <p:spPr>
          <a:xfrm>
            <a:off x="428760" y="6215040"/>
            <a:ext cx="1071360" cy="42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14200" y="2928960"/>
            <a:ext cx="84297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819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张某为筹集毒资，经常在学校附近以解乏、提神、增强智力等名义诱骗中小学生服用安定、三唑仑等精神药物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819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1730520" y="1125360"/>
            <a:ext cx="6199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二、对禁毒法律法规的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1928880" y="4643280"/>
            <a:ext cx="57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a.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引诱、教唆、欺骗他人吸毒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extBox 11" descr=""/>
          <p:cNvPicPr/>
          <p:nvPr/>
        </p:nvPicPr>
        <p:blipFill>
          <a:blip r:embed="rId1"/>
          <a:stretch/>
        </p:blipFill>
        <p:spPr>
          <a:xfrm>
            <a:off x="450720" y="1951200"/>
            <a:ext cx="22068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2T08:58:07Z</dcterms:created>
  <dc:creator>lxjh</dc:creator>
  <dc:description/>
  <dc:language>en-US</dc:language>
  <cp:lastModifiedBy>smb</cp:lastModifiedBy>
  <dcterms:modified xsi:type="dcterms:W3CDTF">2015-10-12T02:15:58Z</dcterms:modified>
  <cp:revision>74</cp:revision>
  <dc:subject/>
  <dc:title>知晓禁毒法律</dc:title>
</cp:coreProperties>
</file>